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1D0-3758-4AA4-9F84-66E1E7823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43B9-8013-4E52-9C52-90011DC5C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49A4-190A-4893-B83D-6DD40D21D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9661-C420-476D-A843-8A11DEC91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FD423-7531-4B97-93B8-D3CADA0DD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94968-0BB4-4C2B-947D-D52EDCEB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0FD27-FB75-4458-BBD8-57ACBE61C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1431-326B-47A8-ABD5-5C68D9DD4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904DA-D068-4BE1-BC91-0755C4FC9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58187-2FCF-4691-B51D-52A2C2CFA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47DF-C64B-4459-9952-C42040E54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29ACA-EA74-4232-BA32-A3CF59C3F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F75FD-53A9-44D4-A1E4-303F9757B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6D633-F5C4-4B30-8AFA-37A01E44B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97F23-B598-4C08-8C40-BB432AFF2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68E77-790A-4EBD-9D12-2D4BD916F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093AE-FA84-42A2-953A-513693F13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A6D3-B17A-439F-8099-5B9C167E2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7666-A0D0-4BDB-8F6D-04A610A98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3B57-448B-43CD-83FD-AF2F1636A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4EE3-A398-47FF-B375-9536622FD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6F7E-9B6F-41DA-97D5-C19229212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3CC2-6EB5-4D8B-A990-065F7C184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4315-F968-44A7-BFFF-AAEB9FAFB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C6FFC-0515-4D11-9B98-53A6FD9FBC7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-898920"/>
            <a:ext cx="7772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7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ADDA9-C556-4CAB-840F-A711AE04E10C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bm%200%20bati%20fixe_Diapo2.avi" TargetMode="External"/><Relationship Id="rId3" Type="http://schemas.openxmlformats.org/officeDocument/2006/relationships/hyperlink" Target="file:///bm%200%20bati%20fixe.avi" TargetMode="External"/><Relationship Id="rId4" Type="http://schemas.openxmlformats.org/officeDocument/2006/relationships/hyperlink" Target="file:///bm%200%20bati%20fixe.avi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4160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45880" y="2376360"/>
            <a:ext cx="319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 - 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962440" y="3595680"/>
            <a:ext cx="411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D - Loi de composition des vit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967480" y="4229280"/>
            <a:ext cx="34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E - La cinématique graph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963160" y="177156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 - 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55600" y="2971800"/>
            <a:ext cx="43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c0c0c0"/>
                </a:solidFill>
                <a:latin typeface="Arial Narrow"/>
              </a:rPr>
              <a:t>C - Positions, Vitesses, Accélé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004400" y="-181440"/>
            <a:ext cx="4084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53352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391520" y="76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40080" y="4952880"/>
            <a:ext cx="190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2° les mouv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9360" y="5313240"/>
            <a:ext cx="174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3° les trajectoi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937920" y="5673600"/>
            <a:ext cx="156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4°  les vit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990720" y="838080"/>
            <a:ext cx="769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 résumé : L’objectif est de déterminer la </a:t>
            </a: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vitess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’un poin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990720" y="16002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our cela, il est nécessaire de connaître la </a:t>
            </a: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trajectoire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u point afin de déterminer la direction du vecteur vites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90720" y="26668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Or, la trajectoire d’un point dépend directement du </a:t>
            </a: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mouvement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du solide auquel il est attaché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6576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e mouvement dépend de ses </a:t>
            </a: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liaisons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 avec les autres pièce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523880" y="4648320"/>
            <a:ext cx="3581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n problème de cinématique commencera donc par l’observation des liaisons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938640" y="4572000"/>
            <a:ext cx="145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1°  les liais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0092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2640" y="-228600"/>
            <a:ext cx="42670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28600" y="53352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7391520" y="7632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90720" y="711360"/>
            <a:ext cx="5105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 retient trois types de mouvements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655640" y="1739880"/>
            <a:ext cx="748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mouvement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cc"/>
                </a:solidFill>
                <a:latin typeface="Arial"/>
              </a:rPr>
              <a:t>rotation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autour d’un ax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les deux pièces sont en liaison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pivo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676520" y="2759040"/>
            <a:ext cx="73911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Le mouvement d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99cc"/>
                </a:solidFill>
                <a:latin typeface="Arial"/>
              </a:rPr>
              <a:t>translation rectilig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i les deux pièces sont en liaison </a:t>
            </a:r>
            <a:r>
              <a:rPr b="1" lang="en-US" sz="1800" spc="-1" strike="noStrike">
                <a:solidFill>
                  <a:srgbClr val="0099cc"/>
                </a:solidFill>
                <a:latin typeface="Arial"/>
              </a:rPr>
              <a:t>glissière ou pivot glissan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d’axe contenu dans le plan.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Les mouvements de translation circulaire ou autre feront l’objet d’études particuliè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76520" y="4483080"/>
            <a:ext cx="7467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Le </a:t>
            </a:r>
            <a:r>
              <a:rPr b="1" i="1" lang="en-US" sz="2000" spc="-1" strike="noStrike">
                <a:solidFill>
                  <a:srgbClr val="0099cc"/>
                </a:solidFill>
                <a:latin typeface="Arial"/>
              </a:rPr>
              <a:t>mouvement pla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 les deux pièces ne sont pas directement reliées par une liaison pivot ou une liaison glissiè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00092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40845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753160" y="1015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380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1°/ Mouvement de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translatio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1212840"/>
            <a:ext cx="7162920" cy="11912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Tous les points d’un solide en mouvement de translation  ont le même vecteur vitess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(même direction, même sens et même intensité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62120" y="3886200"/>
            <a:ext cx="77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on dit que le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champ des vitesses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d’un mouvement de translation est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unifor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066680" y="5105520"/>
            <a:ext cx="725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Les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trajectoires 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sont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strictement</a:t>
            </a:r>
            <a:r>
              <a:rPr b="0" i="1" lang="fr-F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r-FR" sz="2400" spc="-1" strike="noStrike">
                <a:solidFill>
                  <a:srgbClr val="0099cc"/>
                </a:solidFill>
                <a:latin typeface="Times New Roman"/>
              </a:rPr>
              <a:t>iden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3505320" y="3048120"/>
            <a:ext cx="2458800" cy="581400"/>
            <a:chOff x="3505320" y="3048120"/>
            <a:chExt cx="2458800" cy="581400"/>
          </a:xfrm>
        </p:grpSpPr>
        <p:sp>
          <p:nvSpPr>
            <p:cNvPr id="283" name=""/>
            <p:cNvSpPr/>
            <p:nvPr/>
          </p:nvSpPr>
          <p:spPr>
            <a:xfrm>
              <a:off x="3505320" y="3048120"/>
              <a:ext cx="2458800" cy="5814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200" spc="-1" strike="noStrike">
                  <a:solidFill>
                    <a:srgbClr val="ff0066"/>
                  </a:solidFill>
                  <a:latin typeface="Arial Narrow"/>
                </a:rPr>
                <a:t>V</a:t>
              </a:r>
              <a:r>
                <a:rPr b="0" lang="fr-FR" sz="2000" spc="-1" strike="noStrike">
                  <a:solidFill>
                    <a:srgbClr val="ff0066"/>
                  </a:solidFill>
                  <a:latin typeface="Arial Narrow"/>
                </a:rPr>
                <a:t>A</a:t>
              </a:r>
              <a:r>
                <a:rPr b="0" lang="fr-FR" sz="3200" spc="-1" strike="noStrike">
                  <a:solidFill>
                    <a:srgbClr val="ff0066"/>
                  </a:solidFill>
                  <a:latin typeface="Arial Narrow"/>
                </a:rPr>
                <a:t>=V</a:t>
              </a:r>
              <a:r>
                <a:rPr b="0" lang="fr-FR" sz="2000" spc="-1" strike="noStrike">
                  <a:solidFill>
                    <a:srgbClr val="ff0066"/>
                  </a:solidFill>
                  <a:latin typeface="Arial Narrow"/>
                </a:rPr>
                <a:t>B</a:t>
              </a:r>
              <a:r>
                <a:rPr b="0" lang="fr-FR" sz="3200" spc="-1" strike="noStrike">
                  <a:solidFill>
                    <a:srgbClr val="ff0066"/>
                  </a:solidFill>
                  <a:latin typeface="Arial Narrow"/>
                </a:rPr>
                <a:t>=V</a:t>
              </a:r>
              <a:r>
                <a:rPr b="0" lang="fr-FR" sz="2000" spc="-1" strike="noStrike">
                  <a:solidFill>
                    <a:srgbClr val="ff0066"/>
                  </a:solidFill>
                  <a:latin typeface="Arial Narrow"/>
                </a:rPr>
                <a:t>C</a:t>
              </a:r>
              <a:r>
                <a:rPr b="0" lang="fr-FR" sz="3200" spc="-1" strike="noStrike">
                  <a:solidFill>
                    <a:srgbClr val="ff0066"/>
                  </a:solidFill>
                  <a:latin typeface="Arial Narrow"/>
                </a:rPr>
                <a:t>=…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567240" y="3127320"/>
              <a:ext cx="31572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681440" y="3106800"/>
              <a:ext cx="31608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140360" y="3117960"/>
              <a:ext cx="315720" cy="0"/>
            </a:xfrm>
            <a:prstGeom prst="line">
              <a:avLst/>
            </a:prstGeom>
            <a:ln w="9360">
              <a:solidFill>
                <a:srgbClr val="ff505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2133720" y="1752480"/>
            <a:ext cx="5305320" cy="3351240"/>
          </a:xfrm>
          <a:prstGeom prst="rect">
            <a:avLst/>
          </a:prstGeom>
          <a:ln w="0">
            <a:noFill/>
          </a:ln>
        </p:spPr>
      </p:pic>
      <p:grpSp>
        <p:nvGrpSpPr>
          <p:cNvPr id="288" name=""/>
          <p:cNvGrpSpPr/>
          <p:nvPr/>
        </p:nvGrpSpPr>
        <p:grpSpPr>
          <a:xfrm>
            <a:off x="4572000" y="5638680"/>
            <a:ext cx="838080" cy="457200"/>
            <a:chOff x="4572000" y="5638680"/>
            <a:chExt cx="838080" cy="457200"/>
          </a:xfrm>
        </p:grpSpPr>
        <p:sp>
          <p:nvSpPr>
            <p:cNvPr id="289" name=""/>
            <p:cNvSpPr/>
            <p:nvPr/>
          </p:nvSpPr>
          <p:spPr>
            <a:xfrm>
              <a:off x="4572000" y="5638680"/>
              <a:ext cx="838080" cy="457200"/>
            </a:xfrm>
            <a:prstGeom prst="rightArrow">
              <a:avLst>
                <a:gd name="adj1" fmla="val 50000"/>
                <a:gd name="adj2" fmla="val 458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610160" y="572760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Vid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408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155600" y="-254160"/>
            <a:ext cx="41608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          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08280" y="1438200"/>
            <a:ext cx="6172200" cy="4572000"/>
            <a:chOff x="1808280" y="1438200"/>
            <a:chExt cx="6172200" cy="4572000"/>
          </a:xfrm>
        </p:grpSpPr>
        <p:grpSp>
          <p:nvGrpSpPr>
            <p:cNvPr id="297" name=""/>
            <p:cNvGrpSpPr/>
            <p:nvPr/>
          </p:nvGrpSpPr>
          <p:grpSpPr>
            <a:xfrm>
              <a:off x="1808280" y="1438200"/>
              <a:ext cx="6172200" cy="4572000"/>
              <a:chOff x="1808280" y="1438200"/>
              <a:chExt cx="6172200" cy="4572000"/>
            </a:xfrm>
          </p:grpSpPr>
          <p:grpSp>
            <p:nvGrpSpPr>
              <p:cNvPr id="298" name=""/>
              <p:cNvGrpSpPr/>
              <p:nvPr/>
            </p:nvGrpSpPr>
            <p:grpSpPr>
              <a:xfrm>
                <a:off x="1808280" y="1438200"/>
                <a:ext cx="6172200" cy="4572000"/>
                <a:chOff x="1808280" y="1438200"/>
                <a:chExt cx="6172200" cy="457200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1808280" y="1438200"/>
                  <a:ext cx="6172200" cy="457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438720" y="1666800"/>
                  <a:ext cx="3359160" cy="3163680"/>
                </a:xfrm>
                <a:prstGeom prst="ellipse">
                  <a:avLst/>
                </a:prstGeom>
                <a:noFill/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4896000" y="3066840"/>
                  <a:ext cx="450720" cy="4237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116680" y="3495600"/>
                  <a:ext cx="1440" cy="179388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flipV="1">
                  <a:off x="5237280" y="1958400"/>
                  <a:ext cx="825480" cy="1135080"/>
                </a:xfrm>
                <a:prstGeom prst="line">
                  <a:avLst/>
                </a:prstGeom>
                <a:ln w="5724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5929560" y="1869840"/>
                  <a:ext cx="142920" cy="23652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759" y="7724"/>
                      </a:moveTo>
                      <a:lnTo>
                        <a:pt x="5060" y="19862"/>
                      </a:lnTo>
                      <a:lnTo>
                        <a:pt x="0" y="0"/>
                      </a:lnTo>
                      <a:lnTo>
                        <a:pt x="19759" y="7724"/>
                      </a:lnTo>
                      <a:close/>
                    </a:path>
                  </a:pathLst>
                </a:custGeom>
                <a:solidFill>
                  <a:srgbClr val="0000ff"/>
                </a:solidFill>
                <a:ln w="126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5" name=""/>
                <p:cNvGrpSpPr/>
                <p:nvPr/>
              </p:nvGrpSpPr>
              <p:grpSpPr>
                <a:xfrm>
                  <a:off x="5041800" y="3208320"/>
                  <a:ext cx="150840" cy="141120"/>
                  <a:chOff x="5041800" y="3208320"/>
                  <a:chExt cx="150840" cy="141120"/>
                </a:xfrm>
              </p:grpSpPr>
              <p:sp>
                <p:nvSpPr>
                  <p:cNvPr id="306" name=""/>
                  <p:cNvSpPr/>
                  <p:nvPr/>
                </p:nvSpPr>
                <p:spPr>
                  <a:xfrm>
                    <a:off x="5115960" y="3208320"/>
                    <a:ext cx="1440" cy="14112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07" name=""/>
                  <p:cNvSpPr/>
                  <p:nvPr/>
                </p:nvSpPr>
                <p:spPr>
                  <a:xfrm flipH="1">
                    <a:off x="5041800" y="3276360"/>
                    <a:ext cx="150840" cy="144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360" bIns="-45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308" name=""/>
                <p:cNvGrpSpPr/>
                <p:nvPr/>
              </p:nvGrpSpPr>
              <p:grpSpPr>
                <a:xfrm>
                  <a:off x="3659400" y="1857240"/>
                  <a:ext cx="893520" cy="1509480"/>
                  <a:chOff x="3659400" y="1857240"/>
                  <a:chExt cx="893520" cy="1509480"/>
                </a:xfrm>
              </p:grpSpPr>
              <p:sp>
                <p:nvSpPr>
                  <p:cNvPr id="309" name=""/>
                  <p:cNvSpPr/>
                  <p:nvPr/>
                </p:nvSpPr>
                <p:spPr>
                  <a:xfrm>
                    <a:off x="4088880" y="2102760"/>
                    <a:ext cx="1440" cy="533520"/>
                  </a:xfrm>
                  <a:prstGeom prst="line">
                    <a:avLst/>
                  </a:prstGeom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0" name=""/>
                  <p:cNvSpPr/>
                  <p:nvPr/>
                </p:nvSpPr>
                <p:spPr>
                  <a:xfrm>
                    <a:off x="3659400" y="2626560"/>
                    <a:ext cx="893520" cy="740160"/>
                  </a:xfrm>
                  <a:prstGeom prst="rect">
                    <a:avLst/>
                  </a:prstGeom>
                  <a:noFill/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1" name=""/>
                  <p:cNvSpPr/>
                  <p:nvPr/>
                </p:nvSpPr>
                <p:spPr>
                  <a:xfrm>
                    <a:off x="3958200" y="1857240"/>
                    <a:ext cx="252000" cy="24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2" name=""/>
                  <p:cNvGrpSpPr/>
                  <p:nvPr/>
                </p:nvGrpSpPr>
                <p:grpSpPr>
                  <a:xfrm>
                    <a:off x="4010040" y="1910880"/>
                    <a:ext cx="149400" cy="141480"/>
                    <a:chOff x="4010040" y="1910880"/>
                    <a:chExt cx="149400" cy="141480"/>
                  </a:xfrm>
                </p:grpSpPr>
                <p:sp>
                  <p:nvSpPr>
                    <p:cNvPr id="313" name=""/>
                    <p:cNvSpPr/>
                    <p:nvPr/>
                  </p:nvSpPr>
                  <p:spPr>
                    <a:xfrm>
                      <a:off x="4083480" y="1910880"/>
                      <a:ext cx="1440" cy="141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14" name=""/>
                    <p:cNvSpPr/>
                    <p:nvPr/>
                  </p:nvSpPr>
                  <p:spPr>
                    <a:xfrm flipH="1">
                      <a:off x="4010040" y="1976040"/>
                      <a:ext cx="149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315" name=""/>
                <p:cNvGrpSpPr/>
                <p:nvPr/>
              </p:nvGrpSpPr>
              <p:grpSpPr>
                <a:xfrm>
                  <a:off x="6239160" y="2501640"/>
                  <a:ext cx="895320" cy="1506600"/>
                  <a:chOff x="6239160" y="2501640"/>
                  <a:chExt cx="895320" cy="1506600"/>
                </a:xfrm>
              </p:grpSpPr>
              <p:sp>
                <p:nvSpPr>
                  <p:cNvPr id="316" name=""/>
                  <p:cNvSpPr/>
                  <p:nvPr/>
                </p:nvSpPr>
                <p:spPr>
                  <a:xfrm>
                    <a:off x="6669360" y="2745720"/>
                    <a:ext cx="1440" cy="533520"/>
                  </a:xfrm>
                  <a:prstGeom prst="line">
                    <a:avLst/>
                  </a:prstGeom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6239160" y="3268080"/>
                    <a:ext cx="895320" cy="740160"/>
                  </a:xfrm>
                  <a:prstGeom prst="rect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8" name=""/>
                  <p:cNvSpPr/>
                  <p:nvPr/>
                </p:nvSpPr>
                <p:spPr>
                  <a:xfrm>
                    <a:off x="6536880" y="2501640"/>
                    <a:ext cx="252360" cy="24552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5560">
                    <a:solidFill>
                      <a:srgbClr val="008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319" name=""/>
                  <p:cNvGrpSpPr/>
                  <p:nvPr/>
                </p:nvGrpSpPr>
                <p:grpSpPr>
                  <a:xfrm>
                    <a:off x="6589080" y="2553480"/>
                    <a:ext cx="149760" cy="141480"/>
                    <a:chOff x="6589080" y="2553480"/>
                    <a:chExt cx="149760" cy="141480"/>
                  </a:xfrm>
                </p:grpSpPr>
                <p:sp>
                  <p:nvSpPr>
                    <p:cNvPr id="320" name=""/>
                    <p:cNvSpPr/>
                    <p:nvPr/>
                  </p:nvSpPr>
                  <p:spPr>
                    <a:xfrm>
                      <a:off x="6662160" y="2553480"/>
                      <a:ext cx="1440" cy="141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1" name=""/>
                    <p:cNvSpPr/>
                    <p:nvPr/>
                  </p:nvSpPr>
                  <p:spPr>
                    <a:xfrm flipH="1">
                      <a:off x="6589080" y="2621880"/>
                      <a:ext cx="1497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sp>
              <p:nvSpPr>
                <p:cNvPr id="322" name=""/>
                <p:cNvSpPr/>
                <p:nvPr/>
              </p:nvSpPr>
              <p:spPr>
                <a:xfrm>
                  <a:off x="4518000" y="5321160"/>
                  <a:ext cx="1301760" cy="31896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0" y="0"/>
                      </a:moveTo>
                      <a:lnTo>
                        <a:pt x="0" y="1429"/>
                      </a:lnTo>
                      <a:lnTo>
                        <a:pt x="134" y="5714"/>
                      </a:lnTo>
                      <a:lnTo>
                        <a:pt x="321" y="8878"/>
                      </a:lnTo>
                      <a:lnTo>
                        <a:pt x="321" y="9388"/>
                      </a:lnTo>
                      <a:lnTo>
                        <a:pt x="562" y="11531"/>
                      </a:lnTo>
                      <a:lnTo>
                        <a:pt x="830" y="14796"/>
                      </a:lnTo>
                      <a:lnTo>
                        <a:pt x="1071" y="15714"/>
                      </a:lnTo>
                      <a:lnTo>
                        <a:pt x="1071" y="16735"/>
                      </a:lnTo>
                      <a:lnTo>
                        <a:pt x="1392" y="16735"/>
                      </a:lnTo>
                      <a:lnTo>
                        <a:pt x="1633" y="17245"/>
                      </a:lnTo>
                      <a:lnTo>
                        <a:pt x="2517" y="17857"/>
                      </a:lnTo>
                      <a:lnTo>
                        <a:pt x="2731" y="17857"/>
                      </a:lnTo>
                      <a:lnTo>
                        <a:pt x="3052" y="18571"/>
                      </a:lnTo>
                      <a:lnTo>
                        <a:pt x="4391" y="18571"/>
                      </a:lnTo>
                      <a:lnTo>
                        <a:pt x="4685" y="17857"/>
                      </a:lnTo>
                      <a:lnTo>
                        <a:pt x="5542" y="17857"/>
                      </a:lnTo>
                      <a:lnTo>
                        <a:pt x="5810" y="17245"/>
                      </a:lnTo>
                      <a:lnTo>
                        <a:pt x="5890" y="17245"/>
                      </a:lnTo>
                      <a:lnTo>
                        <a:pt x="6212" y="16735"/>
                      </a:lnTo>
                      <a:lnTo>
                        <a:pt x="6319" y="16224"/>
                      </a:lnTo>
                      <a:lnTo>
                        <a:pt x="8969" y="16224"/>
                      </a:lnTo>
                      <a:lnTo>
                        <a:pt x="9237" y="16735"/>
                      </a:lnTo>
                      <a:lnTo>
                        <a:pt x="10040" y="17245"/>
                      </a:lnTo>
                      <a:lnTo>
                        <a:pt x="12236" y="18571"/>
                      </a:lnTo>
                      <a:lnTo>
                        <a:pt x="13092" y="18571"/>
                      </a:lnTo>
                      <a:lnTo>
                        <a:pt x="14190" y="18878"/>
                      </a:lnTo>
                      <a:lnTo>
                        <a:pt x="14458" y="19286"/>
                      </a:lnTo>
                      <a:lnTo>
                        <a:pt x="14645" y="19286"/>
                      </a:lnTo>
                      <a:lnTo>
                        <a:pt x="15422" y="19898"/>
                      </a:lnTo>
                      <a:lnTo>
                        <a:pt x="17242" y="19898"/>
                      </a:lnTo>
                      <a:lnTo>
                        <a:pt x="18019" y="19286"/>
                      </a:lnTo>
                      <a:lnTo>
                        <a:pt x="18367" y="18878"/>
                      </a:lnTo>
                      <a:lnTo>
                        <a:pt x="18447" y="18571"/>
                      </a:lnTo>
                      <a:lnTo>
                        <a:pt x="18581" y="18571"/>
                      </a:lnTo>
                      <a:lnTo>
                        <a:pt x="18876" y="16224"/>
                      </a:lnTo>
                      <a:lnTo>
                        <a:pt x="19009" y="15714"/>
                      </a:lnTo>
                      <a:lnTo>
                        <a:pt x="19009" y="12551"/>
                      </a:lnTo>
                      <a:lnTo>
                        <a:pt x="19170" y="11837"/>
                      </a:lnTo>
                      <a:lnTo>
                        <a:pt x="19170" y="10510"/>
                      </a:lnTo>
                      <a:lnTo>
                        <a:pt x="19304" y="9796"/>
                      </a:lnTo>
                      <a:lnTo>
                        <a:pt x="19304" y="8469"/>
                      </a:lnTo>
                      <a:lnTo>
                        <a:pt x="19411" y="8061"/>
                      </a:lnTo>
                      <a:lnTo>
                        <a:pt x="19411" y="7347"/>
                      </a:lnTo>
                      <a:lnTo>
                        <a:pt x="19679" y="6327"/>
                      </a:lnTo>
                      <a:lnTo>
                        <a:pt x="19679" y="5204"/>
                      </a:lnTo>
                      <a:lnTo>
                        <a:pt x="19839" y="5204"/>
                      </a:lnTo>
                      <a:lnTo>
                        <a:pt x="19839" y="4184"/>
                      </a:lnTo>
                      <a:lnTo>
                        <a:pt x="19973" y="4184"/>
                      </a:lnTo>
                      <a:lnTo>
                        <a:pt x="19973" y="408"/>
                      </a:lnTo>
                    </a:path>
                  </a:pathLst>
                </a:custGeom>
                <a:blipFill rotWithShape="0">
                  <a:blip r:embed="rId1"/>
                  <a:srcRect/>
                  <a:tile tx="0" ty="0" sx="100000" sy="100000" algn="ctr"/>
                </a:blipFill>
                <a:ln w="32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3" name=""/>
              <p:cNvSpPr/>
              <p:nvPr/>
            </p:nvSpPr>
            <p:spPr>
              <a:xfrm>
                <a:off x="5372280" y="2939760"/>
                <a:ext cx="438120" cy="43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5490a8"/>
                    </a:solidFill>
                    <a:latin typeface="Arial"/>
                  </a:rPr>
                  <a:t>O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746520" y="2759040"/>
                <a:ext cx="3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5490a8"/>
                    </a:solidFill>
                    <a:latin typeface="Arial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5" name=""/>
              <p:cNvGrpSpPr/>
              <p:nvPr/>
            </p:nvGrpSpPr>
            <p:grpSpPr>
              <a:xfrm>
                <a:off x="3433680" y="2450880"/>
                <a:ext cx="439560" cy="365040"/>
                <a:chOff x="3433680" y="2450880"/>
                <a:chExt cx="439560" cy="36504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3655440" y="2450880"/>
                  <a:ext cx="1440" cy="3650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 flipH="1">
                  <a:off x="3433680" y="2628720"/>
                  <a:ext cx="43956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8" name=""/>
              <p:cNvSpPr/>
              <p:nvPr/>
            </p:nvSpPr>
            <p:spPr>
              <a:xfrm>
                <a:off x="4218120" y="2765160"/>
                <a:ext cx="38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12600" bIns="126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2000" spc="-1" strike="noStrike">
                    <a:solidFill>
                      <a:srgbClr val="5490a8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9" name=""/>
              <p:cNvGrpSpPr/>
              <p:nvPr/>
            </p:nvGrpSpPr>
            <p:grpSpPr>
              <a:xfrm>
                <a:off x="4380120" y="2944440"/>
                <a:ext cx="372960" cy="328680"/>
                <a:chOff x="4380120" y="2944440"/>
                <a:chExt cx="372960" cy="328680"/>
              </a:xfrm>
            </p:grpSpPr>
            <p:sp>
              <p:nvSpPr>
                <p:cNvPr id="330" name=""/>
                <p:cNvSpPr/>
                <p:nvPr/>
              </p:nvSpPr>
              <p:spPr>
                <a:xfrm>
                  <a:off x="4563000" y="2944440"/>
                  <a:ext cx="1440" cy="32868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1" name=""/>
                <p:cNvSpPr/>
                <p:nvPr/>
              </p:nvSpPr>
              <p:spPr>
                <a:xfrm flipH="1">
                  <a:off x="4380120" y="3100680"/>
                  <a:ext cx="372960" cy="144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32" name=""/>
            <p:cNvSpPr/>
            <p:nvPr/>
          </p:nvSpPr>
          <p:spPr>
            <a:xfrm flipH="1">
              <a:off x="4546440" y="5321160"/>
              <a:ext cx="1283040" cy="111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137200" y="3492360"/>
              <a:ext cx="160200" cy="155880"/>
            </a:xfrm>
            <a:custGeom>
              <a:avLst/>
              <a:gdLst/>
              <a:ahLst/>
              <a:rect l="l" t="t" r="r" b="b"/>
              <a:pathLst>
                <a:path w="20000" h="20000">
                  <a:moveTo>
                    <a:pt x="0" y="1474"/>
                  </a:moveTo>
                  <a:lnTo>
                    <a:pt x="0" y="19789"/>
                  </a:lnTo>
                  <a:lnTo>
                    <a:pt x="19780" y="0"/>
                  </a:lnTo>
                  <a:lnTo>
                    <a:pt x="0" y="1474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773520" y="1668600"/>
              <a:ext cx="43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M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6783480" y="2332080"/>
              <a:ext cx="438120" cy="43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M’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36" name=""/>
          <p:cNvSpPr/>
          <p:nvPr/>
        </p:nvSpPr>
        <p:spPr>
          <a:xfrm>
            <a:off x="203040" y="5968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095880" y="76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4040" y="51768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1°/ Mouvement de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translatio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15280" y="1030320"/>
            <a:ext cx="410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Cas de la Translation circulaire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38080" y="60357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champ des vitesses reste uniforme (dans chaque solid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s trajectoires sont des cercles de même ray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3916440" y="2754360"/>
            <a:ext cx="4010040" cy="3162240"/>
            <a:chOff x="3916440" y="2754360"/>
            <a:chExt cx="4010040" cy="3162240"/>
          </a:xfrm>
        </p:grpSpPr>
        <p:sp>
          <p:nvSpPr>
            <p:cNvPr id="342" name=""/>
            <p:cNvSpPr/>
            <p:nvPr/>
          </p:nvSpPr>
          <p:spPr>
            <a:xfrm>
              <a:off x="6721560" y="3638520"/>
              <a:ext cx="395280" cy="52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A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916440" y="2754360"/>
              <a:ext cx="3359160" cy="316224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4" name=""/>
            <p:cNvGrpSpPr/>
            <p:nvPr/>
          </p:nvGrpSpPr>
          <p:grpSpPr>
            <a:xfrm>
              <a:off x="7050240" y="3641760"/>
              <a:ext cx="149040" cy="141120"/>
              <a:chOff x="7050240" y="3641760"/>
              <a:chExt cx="149040" cy="141120"/>
            </a:xfrm>
          </p:grpSpPr>
          <p:sp>
            <p:nvSpPr>
              <p:cNvPr id="345" name=""/>
              <p:cNvSpPr/>
              <p:nvPr/>
            </p:nvSpPr>
            <p:spPr>
              <a:xfrm>
                <a:off x="7124760" y="3641760"/>
                <a:ext cx="1440" cy="141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>
                <a:off x="7050240" y="3709800"/>
                <a:ext cx="14904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7" name=""/>
            <p:cNvSpPr/>
            <p:nvPr/>
          </p:nvSpPr>
          <p:spPr>
            <a:xfrm>
              <a:off x="6996240" y="5148360"/>
              <a:ext cx="9302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r>
                <a:rPr b="1" lang="fr-FR" sz="2000" spc="-1" strike="noStrike" baseline="-25000">
                  <a:solidFill>
                    <a:srgbClr val="ff00ff"/>
                  </a:solidFill>
                  <a:latin typeface="Arial"/>
                </a:rPr>
                <a:t>A,2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48" name=""/>
            <p:cNvGrpSpPr/>
            <p:nvPr/>
          </p:nvGrpSpPr>
          <p:grpSpPr>
            <a:xfrm>
              <a:off x="5562720" y="4270320"/>
              <a:ext cx="272880" cy="252360"/>
              <a:chOff x="5562720" y="4270320"/>
              <a:chExt cx="272880" cy="252360"/>
            </a:xfrm>
          </p:grpSpPr>
          <p:sp>
            <p:nvSpPr>
              <p:cNvPr id="349" name=""/>
              <p:cNvSpPr/>
              <p:nvPr/>
            </p:nvSpPr>
            <p:spPr>
              <a:xfrm>
                <a:off x="5699880" y="4270320"/>
                <a:ext cx="1440" cy="252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 flipH="1">
                <a:off x="5562720" y="4393440"/>
                <a:ext cx="272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51" name=""/>
            <p:cNvSpPr/>
            <p:nvPr/>
          </p:nvSpPr>
          <p:spPr>
            <a:xfrm>
              <a:off x="5710320" y="4098960"/>
              <a:ext cx="48420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O</a:t>
              </a:r>
              <a:r>
                <a:rPr b="0" lang="fr-FR" sz="900" spc="-1" strike="noStrike">
                  <a:solidFill>
                    <a:srgbClr val="5490a8"/>
                  </a:solidFill>
                  <a:latin typeface="Arial"/>
                </a:rPr>
                <a:t>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2289240" y="2273400"/>
            <a:ext cx="4155480" cy="3165480"/>
            <a:chOff x="2289240" y="2273400"/>
            <a:chExt cx="4155480" cy="3165480"/>
          </a:xfrm>
        </p:grpSpPr>
        <p:sp>
          <p:nvSpPr>
            <p:cNvPr id="353" name=""/>
            <p:cNvSpPr/>
            <p:nvPr/>
          </p:nvSpPr>
          <p:spPr>
            <a:xfrm>
              <a:off x="2289240" y="4048200"/>
              <a:ext cx="930240" cy="55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00ff"/>
                  </a:solidFill>
                  <a:latin typeface="Arial"/>
                </a:rPr>
                <a:t>T</a:t>
              </a:r>
              <a:r>
                <a:rPr b="1" lang="fr-FR" sz="2000" spc="-1" strike="noStrike" baseline="-25000">
                  <a:solidFill>
                    <a:srgbClr val="ff00ff"/>
                  </a:solidFill>
                  <a:latin typeface="Arial"/>
                </a:rPr>
                <a:t>B,2/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749920" y="3190680"/>
              <a:ext cx="577800" cy="57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B'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027240" y="2273400"/>
              <a:ext cx="3359160" cy="3165480"/>
            </a:xfrm>
            <a:prstGeom prst="ellipse">
              <a:avLst/>
            </a:prstGeom>
            <a:noFill/>
            <a:ln w="381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56" name=""/>
            <p:cNvGrpSpPr/>
            <p:nvPr/>
          </p:nvGrpSpPr>
          <p:grpSpPr>
            <a:xfrm>
              <a:off x="6005160" y="3089160"/>
              <a:ext cx="439560" cy="366840"/>
              <a:chOff x="6005160" y="3089160"/>
              <a:chExt cx="439560" cy="366840"/>
            </a:xfrm>
          </p:grpSpPr>
          <p:sp>
            <p:nvSpPr>
              <p:cNvPr id="357" name=""/>
              <p:cNvSpPr/>
              <p:nvPr/>
            </p:nvSpPr>
            <p:spPr>
              <a:xfrm>
                <a:off x="6226920" y="3089160"/>
                <a:ext cx="1440" cy="3668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 flipH="1">
                <a:off x="6005160" y="3267720"/>
                <a:ext cx="43956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9" name=""/>
            <p:cNvGrpSpPr/>
            <p:nvPr/>
          </p:nvGrpSpPr>
          <p:grpSpPr>
            <a:xfrm>
              <a:off x="4687920" y="3787920"/>
              <a:ext cx="272880" cy="255240"/>
              <a:chOff x="4687920" y="3787920"/>
              <a:chExt cx="272880" cy="255240"/>
            </a:xfrm>
          </p:grpSpPr>
          <p:sp>
            <p:nvSpPr>
              <p:cNvPr id="360" name=""/>
              <p:cNvSpPr/>
              <p:nvPr/>
            </p:nvSpPr>
            <p:spPr>
              <a:xfrm>
                <a:off x="4825080" y="3787920"/>
                <a:ext cx="1440" cy="2552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 flipH="1">
                <a:off x="4687920" y="3912120"/>
                <a:ext cx="272880" cy="144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2" name=""/>
            <p:cNvSpPr/>
            <p:nvPr/>
          </p:nvSpPr>
          <p:spPr>
            <a:xfrm>
              <a:off x="4508280" y="3510000"/>
              <a:ext cx="482760" cy="44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2600" rIns="126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5490a8"/>
                  </a:solidFill>
                  <a:latin typeface="Arial"/>
                </a:rPr>
                <a:t>O</a:t>
              </a:r>
              <a:r>
                <a:rPr b="0" lang="fr-FR" sz="1000" spc="-1" strike="noStrike">
                  <a:solidFill>
                    <a:srgbClr val="5490a8"/>
                  </a:solidFill>
                  <a:latin typeface="Arial"/>
                </a:rPr>
                <a:t>B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3" name=""/>
          <p:cNvSpPr/>
          <p:nvPr/>
        </p:nvSpPr>
        <p:spPr>
          <a:xfrm>
            <a:off x="575316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206360" y="-38160"/>
            <a:ext cx="4191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216000" y="58428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095880" y="76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80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1°/ Mouvement de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translatio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035720" y="1125360"/>
            <a:ext cx="417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99cc"/>
                </a:solidFill>
                <a:latin typeface="Arial Narrow"/>
              </a:rPr>
              <a:t>Cas de la Translation curviligne 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838080" y="603576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champ des vitesses reste uniform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s trajectoires sont strictement ident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0" name=""/>
          <p:cNvGrpSpPr/>
          <p:nvPr/>
        </p:nvGrpSpPr>
        <p:grpSpPr>
          <a:xfrm>
            <a:off x="1371600" y="1539720"/>
            <a:ext cx="7521480" cy="4751640"/>
            <a:chOff x="1371600" y="1539720"/>
            <a:chExt cx="7521480" cy="4751640"/>
          </a:xfrm>
        </p:grpSpPr>
        <p:sp>
          <p:nvSpPr>
            <p:cNvPr id="371" name=""/>
            <p:cNvSpPr/>
            <p:nvPr/>
          </p:nvSpPr>
          <p:spPr>
            <a:xfrm>
              <a:off x="3794040" y="2602080"/>
              <a:ext cx="1273320" cy="243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1371600" y="3314880"/>
              <a:ext cx="1273320" cy="243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371600" y="1539720"/>
              <a:ext cx="6237360" cy="2297160"/>
            </a:xfrm>
            <a:custGeom>
              <a:avLst/>
              <a:gdLst/>
              <a:ahLst/>
              <a:rect l="l" t="t" r="r" b="b"/>
              <a:pathLst>
                <a:path w="4371" h="1447">
                  <a:moveTo>
                    <a:pt x="0" y="1108"/>
                  </a:moveTo>
                  <a:cubicBezTo>
                    <a:pt x="211" y="947"/>
                    <a:pt x="422" y="787"/>
                    <a:pt x="679" y="717"/>
                  </a:cubicBezTo>
                  <a:cubicBezTo>
                    <a:pt x="936" y="647"/>
                    <a:pt x="1235" y="737"/>
                    <a:pt x="1543" y="686"/>
                  </a:cubicBezTo>
                  <a:cubicBezTo>
                    <a:pt x="1851" y="635"/>
                    <a:pt x="2283" y="514"/>
                    <a:pt x="2530" y="408"/>
                  </a:cubicBezTo>
                  <a:cubicBezTo>
                    <a:pt x="2777" y="302"/>
                    <a:pt x="2767" y="96"/>
                    <a:pt x="3024" y="48"/>
                  </a:cubicBezTo>
                  <a:cubicBezTo>
                    <a:pt x="3281" y="0"/>
                    <a:pt x="3864" y="19"/>
                    <a:pt x="4073" y="120"/>
                  </a:cubicBezTo>
                  <a:cubicBezTo>
                    <a:pt x="4282" y="221"/>
                    <a:pt x="4371" y="537"/>
                    <a:pt x="4279" y="655"/>
                  </a:cubicBezTo>
                  <a:cubicBezTo>
                    <a:pt x="4187" y="773"/>
                    <a:pt x="3674" y="727"/>
                    <a:pt x="3518" y="830"/>
                  </a:cubicBezTo>
                  <a:cubicBezTo>
                    <a:pt x="3362" y="933"/>
                    <a:pt x="3357" y="1169"/>
                    <a:pt x="3343" y="1272"/>
                  </a:cubicBezTo>
                  <a:cubicBezTo>
                    <a:pt x="3329" y="1375"/>
                    <a:pt x="3348" y="1373"/>
                    <a:pt x="3435" y="1447"/>
                  </a:cubicBezTo>
                </a:path>
              </a:pathLst>
            </a:custGeom>
            <a:noFill/>
            <a:ln w="255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6291360" y="3857760"/>
              <a:ext cx="1272960" cy="243360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378080" y="3994200"/>
              <a:ext cx="6237000" cy="2297160"/>
            </a:xfrm>
            <a:custGeom>
              <a:avLst/>
              <a:gdLst/>
              <a:ahLst/>
              <a:rect l="l" t="t" r="r" b="b"/>
              <a:pathLst>
                <a:path w="4371" h="1447">
                  <a:moveTo>
                    <a:pt x="0" y="1108"/>
                  </a:moveTo>
                  <a:cubicBezTo>
                    <a:pt x="211" y="947"/>
                    <a:pt x="422" y="787"/>
                    <a:pt x="679" y="717"/>
                  </a:cubicBezTo>
                  <a:cubicBezTo>
                    <a:pt x="936" y="647"/>
                    <a:pt x="1235" y="737"/>
                    <a:pt x="1543" y="686"/>
                  </a:cubicBezTo>
                  <a:cubicBezTo>
                    <a:pt x="1851" y="635"/>
                    <a:pt x="2283" y="514"/>
                    <a:pt x="2530" y="408"/>
                  </a:cubicBezTo>
                  <a:cubicBezTo>
                    <a:pt x="2777" y="302"/>
                    <a:pt x="2767" y="96"/>
                    <a:pt x="3024" y="48"/>
                  </a:cubicBezTo>
                  <a:cubicBezTo>
                    <a:pt x="3281" y="0"/>
                    <a:pt x="3864" y="19"/>
                    <a:pt x="4073" y="120"/>
                  </a:cubicBezTo>
                  <a:cubicBezTo>
                    <a:pt x="4282" y="221"/>
                    <a:pt x="4371" y="537"/>
                    <a:pt x="4279" y="655"/>
                  </a:cubicBezTo>
                  <a:cubicBezTo>
                    <a:pt x="4187" y="773"/>
                    <a:pt x="3674" y="727"/>
                    <a:pt x="3518" y="830"/>
                  </a:cubicBezTo>
                  <a:cubicBezTo>
                    <a:pt x="3362" y="933"/>
                    <a:pt x="3357" y="1169"/>
                    <a:pt x="3343" y="1272"/>
                  </a:cubicBezTo>
                  <a:cubicBezTo>
                    <a:pt x="3329" y="1375"/>
                    <a:pt x="3348" y="1373"/>
                    <a:pt x="3435" y="1447"/>
                  </a:cubicBezTo>
                </a:path>
              </a:pathLst>
            </a:custGeom>
            <a:noFill/>
            <a:ln w="255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655720" y="3984480"/>
              <a:ext cx="6237360" cy="2297160"/>
            </a:xfrm>
            <a:custGeom>
              <a:avLst/>
              <a:gdLst/>
              <a:ahLst/>
              <a:rect l="l" t="t" r="r" b="b"/>
              <a:pathLst>
                <a:path w="4371" h="1447">
                  <a:moveTo>
                    <a:pt x="0" y="1108"/>
                  </a:moveTo>
                  <a:cubicBezTo>
                    <a:pt x="211" y="947"/>
                    <a:pt x="422" y="787"/>
                    <a:pt x="679" y="717"/>
                  </a:cubicBezTo>
                  <a:cubicBezTo>
                    <a:pt x="936" y="647"/>
                    <a:pt x="1235" y="737"/>
                    <a:pt x="1543" y="686"/>
                  </a:cubicBezTo>
                  <a:cubicBezTo>
                    <a:pt x="1851" y="635"/>
                    <a:pt x="2283" y="514"/>
                    <a:pt x="2530" y="408"/>
                  </a:cubicBezTo>
                  <a:cubicBezTo>
                    <a:pt x="2777" y="302"/>
                    <a:pt x="2767" y="96"/>
                    <a:pt x="3024" y="48"/>
                  </a:cubicBezTo>
                  <a:cubicBezTo>
                    <a:pt x="3281" y="0"/>
                    <a:pt x="3864" y="19"/>
                    <a:pt x="4073" y="120"/>
                  </a:cubicBezTo>
                  <a:cubicBezTo>
                    <a:pt x="4282" y="221"/>
                    <a:pt x="4371" y="537"/>
                    <a:pt x="4279" y="655"/>
                  </a:cubicBezTo>
                  <a:cubicBezTo>
                    <a:pt x="4187" y="773"/>
                    <a:pt x="3674" y="727"/>
                    <a:pt x="3518" y="830"/>
                  </a:cubicBezTo>
                  <a:cubicBezTo>
                    <a:pt x="3362" y="933"/>
                    <a:pt x="3357" y="1169"/>
                    <a:pt x="3343" y="1272"/>
                  </a:cubicBezTo>
                  <a:cubicBezTo>
                    <a:pt x="3329" y="1375"/>
                    <a:pt x="3348" y="1373"/>
                    <a:pt x="3435" y="1447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7" name=""/>
          <p:cNvSpPr/>
          <p:nvPr/>
        </p:nvSpPr>
        <p:spPr>
          <a:xfrm>
            <a:off x="575316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042920" y="-176040"/>
            <a:ext cx="4176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2286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095880" y="15228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2°/ Mouvement de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rotatio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75316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6915240" cy="4530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181160" y="1219320"/>
            <a:ext cx="375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utour d’un point fix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6400800" y="990720"/>
            <a:ext cx="838080" cy="457200"/>
            <a:chOff x="6400800" y="990720"/>
            <a:chExt cx="838080" cy="457200"/>
          </a:xfrm>
        </p:grpSpPr>
        <p:sp>
          <p:nvSpPr>
            <p:cNvPr id="386" name=""/>
            <p:cNvSpPr/>
            <p:nvPr/>
          </p:nvSpPr>
          <p:spPr>
            <a:xfrm>
              <a:off x="6400800" y="990720"/>
              <a:ext cx="838080" cy="457200"/>
            </a:xfrm>
            <a:prstGeom prst="rightArrow">
              <a:avLst>
                <a:gd name="adj1" fmla="val 50000"/>
                <a:gd name="adj2" fmla="val 458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438960" y="107964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Vid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091880" y="-25560"/>
            <a:ext cx="4267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228600" y="53352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095880" y="76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38080" y="53352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2°/ Mouvement de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rotatio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720" y="1066680"/>
            <a:ext cx="8606160" cy="78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s trajectoires de chacun des points sont des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arcs de cercles concentriques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762120" y="472428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On dit que le champ des vitesses d’un mouvement de rotation est </a:t>
            </a:r>
            <a:r>
              <a:rPr b="1" i="1" lang="fr-FR" sz="2400" spc="-1" strike="noStrike">
                <a:solidFill>
                  <a:srgbClr val="0099cc"/>
                </a:solidFill>
                <a:latin typeface="Times New Roman"/>
              </a:rPr>
              <a:t>triangulaire</a:t>
            </a:r>
            <a:r>
              <a:rPr b="1" i="1" lang="fr-FR" sz="2400" spc="-1" strike="noStrike">
                <a:solidFill>
                  <a:srgbClr val="000000"/>
                </a:solidFill>
                <a:latin typeface="Times New Roman"/>
              </a:rPr>
              <a:t> par rapport à l’axe de ro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91960" y="2206800"/>
            <a:ext cx="8170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Son intensité est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proportionnelle au ray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séparant le point et le centre de rotation 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68280" y="1757520"/>
            <a:ext cx="8636040" cy="37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Le vecteur vitesse est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perpendiculaire au rayon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u cer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1981080" y="3200400"/>
            <a:ext cx="2090880" cy="58140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 Narrow"/>
              </a:rPr>
              <a:t>V=R. </a:t>
            </a:r>
            <a:r>
              <a:rPr b="0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7007400" y="3125880"/>
            <a:ext cx="624960" cy="3500280"/>
            <a:chOff x="7007400" y="3125880"/>
            <a:chExt cx="624960" cy="3500280"/>
          </a:xfrm>
        </p:grpSpPr>
        <p:sp>
          <p:nvSpPr>
            <p:cNvPr id="398" name=""/>
            <p:cNvSpPr/>
            <p:nvPr/>
          </p:nvSpPr>
          <p:spPr>
            <a:xfrm>
              <a:off x="7007400" y="3125880"/>
              <a:ext cx="624960" cy="35002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7241400" y="6326280"/>
              <a:ext cx="176760" cy="173160"/>
            </a:xfrm>
            <a:prstGeom prst="ellipse">
              <a:avLst/>
            </a:prstGeom>
            <a:solidFill>
              <a:srgbClr val="5490a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0" name=""/>
          <p:cNvGrpSpPr/>
          <p:nvPr/>
        </p:nvGrpSpPr>
        <p:grpSpPr>
          <a:xfrm>
            <a:off x="5537160" y="3098880"/>
            <a:ext cx="1719360" cy="3311280"/>
            <a:chOff x="5537160" y="3098880"/>
            <a:chExt cx="1719360" cy="3311280"/>
          </a:xfrm>
        </p:grpSpPr>
        <p:sp>
          <p:nvSpPr>
            <p:cNvPr id="401" name=""/>
            <p:cNvSpPr/>
            <p:nvPr/>
          </p:nvSpPr>
          <p:spPr>
            <a:xfrm flipH="1" flipV="1">
              <a:off x="5537160" y="3098880"/>
              <a:ext cx="1719360" cy="3311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5553000" y="3130560"/>
              <a:ext cx="167148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5846760" y="3678120"/>
              <a:ext cx="135576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6111720" y="4206960"/>
              <a:ext cx="111924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6405480" y="4786200"/>
              <a:ext cx="81900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6" name=""/>
          <p:cNvSpPr/>
          <p:nvPr/>
        </p:nvSpPr>
        <p:spPr>
          <a:xfrm>
            <a:off x="575316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6819840" y="5587920"/>
            <a:ext cx="1346040" cy="1301040"/>
            <a:chOff x="6819840" y="5587920"/>
            <a:chExt cx="1346040" cy="1301040"/>
          </a:xfrm>
        </p:grpSpPr>
        <p:sp>
          <p:nvSpPr>
            <p:cNvPr id="408" name=""/>
            <p:cNvSpPr/>
            <p:nvPr/>
          </p:nvSpPr>
          <p:spPr>
            <a:xfrm>
              <a:off x="6869160" y="5972040"/>
              <a:ext cx="915840" cy="9169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127" y="5997"/>
                  </a:moveTo>
                  <a:arcTo wR="10800" hR="10800" stAng="-9215544" swAng="7626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127" y="5997"/>
                  </a:moveTo>
                  <a:arcTo wR="10800" hR="10800" stAng="-9215544" swAng="7626497"/>
                </a:path>
              </a:pathLst>
            </a:cu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819840" y="6222960"/>
              <a:ext cx="101520" cy="203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7632360" y="5587920"/>
              <a:ext cx="533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000000"/>
                  </a:solidFill>
                  <a:latin typeface="GreekC"/>
                </a:rPr>
                <a:t>w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1" name=""/>
          <p:cNvGrpSpPr/>
          <p:nvPr/>
        </p:nvGrpSpPr>
        <p:grpSpPr>
          <a:xfrm>
            <a:off x="8153280" y="3124080"/>
            <a:ext cx="546120" cy="3289320"/>
            <a:chOff x="8153280" y="3124080"/>
            <a:chExt cx="546120" cy="3289320"/>
          </a:xfrm>
        </p:grpSpPr>
        <p:sp>
          <p:nvSpPr>
            <p:cNvPr id="412" name=""/>
            <p:cNvSpPr/>
            <p:nvPr/>
          </p:nvSpPr>
          <p:spPr>
            <a:xfrm>
              <a:off x="8242200" y="4444920"/>
              <a:ext cx="457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8153280" y="3124080"/>
              <a:ext cx="0" cy="328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6261120" y="26161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66cc"/>
                </a:solidFill>
                <a:latin typeface="Times New Roman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327800" y="3124080"/>
            <a:ext cx="914400" cy="3289320"/>
            <a:chOff x="7327800" y="3124080"/>
            <a:chExt cx="914400" cy="3289320"/>
          </a:xfrm>
        </p:grpSpPr>
        <p:sp>
          <p:nvSpPr>
            <p:cNvPr id="416" name=""/>
            <p:cNvSpPr/>
            <p:nvPr/>
          </p:nvSpPr>
          <p:spPr>
            <a:xfrm>
              <a:off x="7632360" y="3124080"/>
              <a:ext cx="609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327800" y="6413400"/>
              <a:ext cx="876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850200" y="3124080"/>
            <a:ext cx="6787440" cy="7061400"/>
            <a:chOff x="3850200" y="3124080"/>
            <a:chExt cx="6787440" cy="7061400"/>
          </a:xfrm>
        </p:grpSpPr>
        <p:sp>
          <p:nvSpPr>
            <p:cNvPr id="419" name=""/>
            <p:cNvSpPr/>
            <p:nvPr/>
          </p:nvSpPr>
          <p:spPr>
            <a:xfrm flipH="1">
              <a:off x="3850200" y="3124080"/>
              <a:ext cx="6787440" cy="70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03518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03518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>
              <a:off x="4433760" y="3657600"/>
              <a:ext cx="5639040" cy="5333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09528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095289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>
              <a:off x="4949640" y="4191120"/>
              <a:ext cx="4573800" cy="4266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328621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328621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5421960" y="4762440"/>
              <a:ext cx="3657960" cy="3352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254833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2548333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0" y="4114800"/>
            <a:ext cx="5410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GreekC"/>
              </a:rPr>
              <a:t>w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est la </a:t>
            </a:r>
            <a:r>
              <a:rPr b="0" lang="fr-FR" sz="2000" spc="-1" strike="noStrike">
                <a:solidFill>
                  <a:srgbClr val="0099cc"/>
                </a:solidFill>
                <a:latin typeface="Arial"/>
              </a:rPr>
              <a:t>vitesse angulair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 de ro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5600" y="-38160"/>
            <a:ext cx="41148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            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16000" y="62244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095880" y="76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Étude des mouv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990720" y="533520"/>
            <a:ext cx="556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3°/ Mouvement </a:t>
            </a:r>
            <a:r>
              <a:rPr b="0" lang="fr-FR" sz="2800" spc="-1" strike="noStrike" u="sng">
                <a:solidFill>
                  <a:srgbClr val="0099cc"/>
                </a:solidFill>
                <a:uFillTx/>
                <a:latin typeface="Arial Narrow"/>
              </a:rPr>
              <a:t>plan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 Narrow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14480" y="1523880"/>
            <a:ext cx="7966080" cy="6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n mouvement plan est la combina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1041480" y="3222360"/>
            <a:ext cx="2127240" cy="1840320"/>
            <a:chOff x="1041480" y="3222360"/>
            <a:chExt cx="2127240" cy="1840320"/>
          </a:xfrm>
        </p:grpSpPr>
        <p:sp>
          <p:nvSpPr>
            <p:cNvPr id="430" name=""/>
            <p:cNvSpPr/>
            <p:nvPr/>
          </p:nvSpPr>
          <p:spPr>
            <a:xfrm>
              <a:off x="2727360" y="3736800"/>
              <a:ext cx="441360" cy="132588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8283200">
              <a:off x="1491480" y="3118320"/>
              <a:ext cx="441360" cy="1325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128680" y="4336920"/>
              <a:ext cx="598680" cy="709560"/>
            </a:xfrm>
            <a:custGeom>
              <a:avLst/>
              <a:gdLst/>
              <a:ahLst/>
              <a:rect l="l" t="t" r="r" b="b"/>
              <a:pathLst>
                <a:path w="377" h="447">
                  <a:moveTo>
                    <a:pt x="377" y="447"/>
                  </a:moveTo>
                  <a:cubicBezTo>
                    <a:pt x="359" y="417"/>
                    <a:pt x="298" y="313"/>
                    <a:pt x="268" y="268"/>
                  </a:cubicBezTo>
                  <a:cubicBezTo>
                    <a:pt x="238" y="223"/>
                    <a:pt x="243" y="224"/>
                    <a:pt x="198" y="179"/>
                  </a:cubicBezTo>
                  <a:cubicBezTo>
                    <a:pt x="153" y="134"/>
                    <a:pt x="80" y="64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041480" y="3579840"/>
              <a:ext cx="1685880" cy="156960"/>
            </a:xfrm>
            <a:custGeom>
              <a:avLst/>
              <a:gdLst/>
              <a:ahLst/>
              <a:rect l="l" t="t" r="r" b="b"/>
              <a:pathLst>
                <a:path w="1062" h="99">
                  <a:moveTo>
                    <a:pt x="1062" y="99"/>
                  </a:moveTo>
                  <a:cubicBezTo>
                    <a:pt x="1031" y="82"/>
                    <a:pt x="1001" y="66"/>
                    <a:pt x="824" y="50"/>
                  </a:cubicBezTo>
                  <a:cubicBezTo>
                    <a:pt x="647" y="34"/>
                    <a:pt x="323" y="17"/>
                    <a:pt x="0" y="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4" name=""/>
          <p:cNvSpPr/>
          <p:nvPr/>
        </p:nvSpPr>
        <p:spPr>
          <a:xfrm>
            <a:off x="3532320" y="3581280"/>
            <a:ext cx="81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 Narrow"/>
              </a:rPr>
              <a:t>=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938920" y="3576600"/>
            <a:ext cx="1071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0" spc="-1" strike="noStrike">
                <a:solidFill>
                  <a:srgbClr val="000000"/>
                </a:solidFill>
                <a:latin typeface="Arial Narrow"/>
              </a:rPr>
              <a:t>+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557040" y="3510000"/>
            <a:ext cx="2781720" cy="2719440"/>
            <a:chOff x="6557040" y="3510000"/>
            <a:chExt cx="2781720" cy="2719440"/>
          </a:xfrm>
        </p:grpSpPr>
        <p:sp>
          <p:nvSpPr>
            <p:cNvPr id="437" name=""/>
            <p:cNvSpPr/>
            <p:nvPr/>
          </p:nvSpPr>
          <p:spPr>
            <a:xfrm>
              <a:off x="7908840" y="3510000"/>
              <a:ext cx="441360" cy="1325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 rot="18283200">
              <a:off x="7273080" y="3616920"/>
              <a:ext cx="441360" cy="132552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>
              <a:off x="6556680" y="3514680"/>
              <a:ext cx="2781720" cy="2714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333536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3335362"/>
                </a:path>
              </a:pathLst>
            </a:custGeom>
            <a:noFill/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 flipV="1">
              <a:off x="7931160" y="4665600"/>
              <a:ext cx="0" cy="3794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>
              <a:off x="7773840" y="4840560"/>
              <a:ext cx="300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"/>
          <p:cNvGrpSpPr/>
          <p:nvPr/>
        </p:nvGrpSpPr>
        <p:grpSpPr>
          <a:xfrm>
            <a:off x="4743360" y="3211200"/>
            <a:ext cx="1054080" cy="2069640"/>
            <a:chOff x="4743360" y="3211200"/>
            <a:chExt cx="1054080" cy="2069640"/>
          </a:xfrm>
        </p:grpSpPr>
        <p:sp>
          <p:nvSpPr>
            <p:cNvPr id="443" name=""/>
            <p:cNvSpPr/>
            <p:nvPr/>
          </p:nvSpPr>
          <p:spPr>
            <a:xfrm>
              <a:off x="5356080" y="3951000"/>
              <a:ext cx="441360" cy="13251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751280" y="3236760"/>
              <a:ext cx="441360" cy="1325160"/>
            </a:xfrm>
            <a:prstGeom prst="rect">
              <a:avLst/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 flipH="1" flipV="1">
              <a:off x="4747680" y="4539600"/>
              <a:ext cx="598680" cy="74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H="1" flipV="1">
              <a:off x="4743360" y="3211200"/>
              <a:ext cx="598320" cy="74124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7" name=""/>
          <p:cNvSpPr/>
          <p:nvPr/>
        </p:nvSpPr>
        <p:spPr>
          <a:xfrm>
            <a:off x="2412000" y="2330280"/>
            <a:ext cx="356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’une transl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66840" y="2330280"/>
            <a:ext cx="320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et d’une rot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149480" y="5468760"/>
            <a:ext cx="7646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Un problème se pose : Quelle est l’allure du champ de vitesses ? Et comment déterminer un vecteur vitesse inconnu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1087560" y="6291360"/>
            <a:ext cx="778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Ces questions sont résolues par la cinématique graphiqu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753160" y="7632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2640" y="-360"/>
            <a:ext cx="4389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101916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La cinématique est la science qui étudie l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uvemen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es so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187632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S’il est exprimé par rapport à un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père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galiléen, alors il est di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solu.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dans le cas contraire, il est dit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atif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8400" y="185724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e mou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005480" y="147636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es grandeurs étudiées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133720" y="2514600"/>
            <a:ext cx="640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Il est noté  : M</a:t>
            </a: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S1/R0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(Mouvement du solide S1 par rapport au repère R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905120" y="4267080"/>
            <a:ext cx="572436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3366"/>
                </a:solidFill>
                <a:latin typeface="Arial"/>
              </a:rPr>
              <a:t>Exemple avec un système  bielle-manivell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1600200" y="2209680"/>
            <a:ext cx="6858000" cy="3311640"/>
          </a:xfrm>
          <a:prstGeom prst="rect">
            <a:avLst/>
          </a:prstGeom>
          <a:ln w="0">
            <a:noFill/>
          </a:ln>
        </p:spPr>
      </p:pic>
      <p:grpSp>
        <p:nvGrpSpPr>
          <p:cNvPr id="144" name=""/>
          <p:cNvGrpSpPr/>
          <p:nvPr/>
        </p:nvGrpSpPr>
        <p:grpSpPr>
          <a:xfrm>
            <a:off x="4495680" y="5638680"/>
            <a:ext cx="939960" cy="457200"/>
            <a:chOff x="4495680" y="5638680"/>
            <a:chExt cx="939960" cy="457200"/>
          </a:xfrm>
        </p:grpSpPr>
        <p:sp>
          <p:nvSpPr>
            <p:cNvPr id="145" name="">
              <a:hlinkClick r:id="rId2"/>
            </p:cNvPr>
            <p:cNvSpPr/>
            <p:nvPr/>
          </p:nvSpPr>
          <p:spPr>
            <a:xfrm>
              <a:off x="4495680" y="563868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521240" y="5715000"/>
              <a:ext cx="91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 u="sng">
                  <a:solidFill>
                    <a:srgbClr val="99ccff"/>
                  </a:solidFill>
                  <a:uFillTx/>
                  <a:latin typeface="Times New Roman"/>
                  <a:hlinkClick r:id="rId3"/>
                </a:rPr>
                <a:t>Vid</a:t>
              </a:r>
              <a:r>
                <a:rPr b="0" lang="fr-FR" sz="1400" spc="-1" strike="noStrike" u="sng">
                  <a:solidFill>
                    <a:srgbClr val="99ccff"/>
                  </a:solidFill>
                  <a:uFillTx/>
                  <a:latin typeface="Arial"/>
                  <a:hlinkClick r:id="rId4"/>
                </a:rPr>
                <a:t>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3352680" y="1143000"/>
            <a:ext cx="3200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ouvement </a:t>
            </a:r>
            <a:r>
              <a:rPr b="1" lang="fr-FR" sz="2000" spc="-1" strike="noStrike">
                <a:solidFill>
                  <a:srgbClr val="0099cc"/>
                </a:solidFill>
                <a:latin typeface="Arial Narrow"/>
              </a:rPr>
              <a:t>absol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(par rapport au bât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4313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3657600" y="1066680"/>
            <a:ext cx="25146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ouvement </a:t>
            </a:r>
            <a:r>
              <a:rPr b="1" lang="fr-FR" sz="2000" spc="-1" strike="noStrike">
                <a:solidFill>
                  <a:srgbClr val="0099cc"/>
                </a:solidFill>
                <a:latin typeface="Arial Narrow"/>
              </a:rPr>
              <a:t>rel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par rapport à la bie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057400" y="2133720"/>
            <a:ext cx="5915160" cy="3735360"/>
          </a:xfrm>
          <a:prstGeom prst="rect">
            <a:avLst/>
          </a:prstGeom>
          <a:ln w="0">
            <a:noFill/>
          </a:ln>
        </p:spPr>
      </p:pic>
      <p:grpSp>
        <p:nvGrpSpPr>
          <p:cNvPr id="154" name=""/>
          <p:cNvGrpSpPr/>
          <p:nvPr/>
        </p:nvGrpSpPr>
        <p:grpSpPr>
          <a:xfrm>
            <a:off x="4572000" y="6019920"/>
            <a:ext cx="914400" cy="457200"/>
            <a:chOff x="4572000" y="6019920"/>
            <a:chExt cx="914400" cy="457200"/>
          </a:xfrm>
        </p:grpSpPr>
        <p:grpSp>
          <p:nvGrpSpPr>
            <p:cNvPr id="155" name=""/>
            <p:cNvGrpSpPr/>
            <p:nvPr/>
          </p:nvGrpSpPr>
          <p:grpSpPr>
            <a:xfrm>
              <a:off x="4572000" y="6019920"/>
              <a:ext cx="914400" cy="457200"/>
              <a:chOff x="4572000" y="6019920"/>
              <a:chExt cx="914400" cy="457200"/>
            </a:xfrm>
          </p:grpSpPr>
          <p:sp>
            <p:nvSpPr>
              <p:cNvPr id="156" name=""/>
              <p:cNvSpPr/>
              <p:nvPr/>
            </p:nvSpPr>
            <p:spPr>
              <a:xfrm>
                <a:off x="4572000" y="6019920"/>
                <a:ext cx="914400" cy="457200"/>
              </a:xfrm>
              <a:prstGeom prst="rightArrow">
                <a:avLst>
                  <a:gd name="adj1" fmla="val 50000"/>
                  <a:gd name="adj2" fmla="val 50000"/>
                </a:avLst>
              </a:prstGeom>
              <a:solidFill>
                <a:srgbClr val="0099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622760" y="6095880"/>
                <a:ext cx="6858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4647960" y="60958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Vid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360" y="-360"/>
            <a:ext cx="43894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743200" y="1981080"/>
            <a:ext cx="3984480" cy="41734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429000" y="914400"/>
            <a:ext cx="2789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    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Mouvement </a:t>
            </a:r>
            <a:r>
              <a:rPr b="1" lang="fr-FR" sz="2000" spc="-1" strike="noStrike">
                <a:solidFill>
                  <a:srgbClr val="0099cc"/>
                </a:solidFill>
                <a:latin typeface="Arial Narrow"/>
              </a:rPr>
              <a:t>relat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(par rapport à la manivell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7467480" y="5791320"/>
            <a:ext cx="838440" cy="457200"/>
            <a:chOff x="7467480" y="5791320"/>
            <a:chExt cx="838440" cy="457200"/>
          </a:xfrm>
        </p:grpSpPr>
        <p:sp>
          <p:nvSpPr>
            <p:cNvPr id="166" name=""/>
            <p:cNvSpPr/>
            <p:nvPr/>
          </p:nvSpPr>
          <p:spPr>
            <a:xfrm>
              <a:off x="7467480" y="5791320"/>
              <a:ext cx="838440" cy="457200"/>
            </a:xfrm>
            <a:prstGeom prst="rightArrow">
              <a:avLst>
                <a:gd name="adj1" fmla="val 50000"/>
                <a:gd name="adj2" fmla="val 45846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7505640" y="586728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Vid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4419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040" y="0"/>
            <a:ext cx="4343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28600" y="9460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391520" y="4888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914400" y="11746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La cinématique est la science qui étudie l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uvemen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es so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590920" y="204480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solu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atif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 Noté  M</a:t>
            </a: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S1/R0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072440" y="2013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e mou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071360" y="24084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a trajec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929160" y="16318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es grandeurs étudiées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24382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Une trajectoire est l’ensemble des positions occupées par un point au cours du mou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000920" y="4888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7139160" cy="3252960"/>
          </a:xfrm>
          <a:prstGeom prst="rect">
            <a:avLst/>
          </a:prstGeom>
          <a:ln w="0">
            <a:noFill/>
          </a:ln>
        </p:spPr>
      </p:pic>
      <p:grpSp>
        <p:nvGrpSpPr>
          <p:cNvPr id="183" name=""/>
          <p:cNvGrpSpPr/>
          <p:nvPr/>
        </p:nvGrpSpPr>
        <p:grpSpPr>
          <a:xfrm>
            <a:off x="4648320" y="5486400"/>
            <a:ext cx="838080" cy="457200"/>
            <a:chOff x="4648320" y="5486400"/>
            <a:chExt cx="838080" cy="457200"/>
          </a:xfrm>
        </p:grpSpPr>
        <p:sp>
          <p:nvSpPr>
            <p:cNvPr id="184" name=""/>
            <p:cNvSpPr/>
            <p:nvPr/>
          </p:nvSpPr>
          <p:spPr>
            <a:xfrm>
              <a:off x="4648320" y="5486400"/>
              <a:ext cx="838080" cy="457200"/>
            </a:xfrm>
            <a:prstGeom prst="rightArrow">
              <a:avLst>
                <a:gd name="adj1" fmla="val 50000"/>
                <a:gd name="adj2" fmla="val 45827"/>
              </a:avLst>
            </a:prstGeom>
            <a:solidFill>
              <a:srgbClr val="0099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686480" y="5575320"/>
              <a:ext cx="685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eb1f03"/>
                  </a:solidFill>
                  <a:latin typeface="Arial"/>
                </a:rPr>
                <a:t>Vidé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304920" y="790560"/>
            <a:ext cx="85341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33336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077240" y="333360"/>
            <a:ext cx="47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90720" y="-360"/>
            <a:ext cx="40845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43000" y="0"/>
            <a:ext cx="41450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348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67480" y="152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020600" y="838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La cinématique est la science qui étudie l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uvemen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es so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178640" y="16765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e mou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76120" y="2722680"/>
            <a:ext cx="10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a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35720" y="12952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es grandeurs étudiées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481120" y="272268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a vitesse d’un point est TOUJOURS tangente à sa trajectoi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697120" y="167004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solu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atif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 Noté  M</a:t>
            </a: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S1/R0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177920" y="2071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a trajec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97120" y="210168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Une trajectoire est l’ensemble des positions occupées par un point au cours du mou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10712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2362320" y="3200400"/>
            <a:ext cx="6248160" cy="2037240"/>
            <a:chOff x="2362320" y="3200400"/>
            <a:chExt cx="6248160" cy="2037240"/>
          </a:xfrm>
        </p:grpSpPr>
        <p:sp>
          <p:nvSpPr>
            <p:cNvPr id="203" name=""/>
            <p:cNvSpPr/>
            <p:nvPr/>
          </p:nvSpPr>
          <p:spPr>
            <a:xfrm>
              <a:off x="2362320" y="3200400"/>
              <a:ext cx="6248160" cy="20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Elle est représentée sous forme de </a:t>
              </a:r>
              <a:r>
                <a:rPr b="1" lang="fr-FR" sz="1800" spc="-1" strike="noStrike">
                  <a:solidFill>
                    <a:srgbClr val="000000"/>
                  </a:solidFill>
                  <a:latin typeface="Arial Narrow"/>
                </a:rPr>
                <a:t>vecteur. 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Elle a donc 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une origine : le point étudié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Une direction : tangente à la trajectoi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buClr>
                  <a:srgbClr val="000000"/>
                </a:buClr>
                <a:buFont typeface="Arial Narrow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un sens : montré par la flèche du v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-Une intensité : notée ||V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 Narrow"/>
                </a:rPr>
                <a:t>S/R0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||, et montré par la longueur du vecteu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362320" y="3784680"/>
              <a:ext cx="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419720" y="486396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2209680" y="5257800"/>
            <a:ext cx="6028560" cy="928800"/>
            <a:chOff x="2209680" y="5257800"/>
            <a:chExt cx="6028560" cy="928800"/>
          </a:xfrm>
        </p:grpSpPr>
        <p:grpSp>
          <p:nvGrpSpPr>
            <p:cNvPr id="207" name=""/>
            <p:cNvGrpSpPr/>
            <p:nvPr/>
          </p:nvGrpSpPr>
          <p:grpSpPr>
            <a:xfrm>
              <a:off x="2209680" y="5257800"/>
              <a:ext cx="6028560" cy="928800"/>
              <a:chOff x="2209680" y="5257800"/>
              <a:chExt cx="6028560" cy="928800"/>
            </a:xfrm>
          </p:grpSpPr>
          <p:sp>
            <p:nvSpPr>
              <p:cNvPr id="208" name=""/>
              <p:cNvSpPr/>
              <p:nvPr/>
            </p:nvSpPr>
            <p:spPr>
              <a:xfrm>
                <a:off x="2209680" y="5558040"/>
                <a:ext cx="5360760" cy="628560"/>
              </a:xfrm>
              <a:custGeom>
                <a:avLst/>
                <a:gdLst/>
                <a:ahLst/>
                <a:rect l="l" t="t" r="r" b="b"/>
                <a:pathLst>
                  <a:path w="3377" h="396">
                    <a:moveTo>
                      <a:pt x="0" y="396"/>
                    </a:moveTo>
                    <a:cubicBezTo>
                      <a:pt x="394" y="246"/>
                      <a:pt x="788" y="96"/>
                      <a:pt x="1351" y="48"/>
                    </a:cubicBezTo>
                    <a:cubicBezTo>
                      <a:pt x="1914" y="0"/>
                      <a:pt x="2645" y="54"/>
                      <a:pt x="3377" y="108"/>
                    </a:cubicBezTo>
                  </a:path>
                </a:pathLst>
              </a:custGeom>
              <a:noFill/>
              <a:ln w="255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3423960" y="5335560"/>
                <a:ext cx="1749240" cy="457200"/>
              </a:xfrm>
              <a:prstGeom prst="line">
                <a:avLst/>
              </a:prstGeom>
              <a:ln w="25560">
                <a:solidFill>
                  <a:srgbClr val="ff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3319200" y="5788080"/>
                <a:ext cx="513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0000"/>
                    </a:solidFill>
                    <a:latin typeface="Arial Narrow"/>
                  </a:rPr>
                  <a:t>M(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rot="181800">
                <a:off x="5893920" y="5352840"/>
                <a:ext cx="233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ffff"/>
                    </a:solidFill>
                    <a:latin typeface="Arial Narrow"/>
                  </a:rPr>
                  <a:t>Trajectoire de 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536640" y="5257800"/>
                <a:ext cx="1214280" cy="368280"/>
                <a:chOff x="3536640" y="5257800"/>
                <a:chExt cx="1214280" cy="3682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3536640" y="5257800"/>
                  <a:ext cx="12142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00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800" spc="-1" strike="noStrike">
                      <a:solidFill>
                        <a:srgbClr val="ff5050"/>
                      </a:solidFill>
                      <a:latin typeface="Arial Narrow"/>
                    </a:rPr>
                    <a:t>V</a:t>
                  </a:r>
                  <a:r>
                    <a:rPr b="0" lang="fr-FR" sz="1200" spc="-1" strike="noStrike">
                      <a:solidFill>
                        <a:srgbClr val="ff5050"/>
                      </a:solidFill>
                      <a:latin typeface="Arial Narrow"/>
                    </a:rPr>
                    <a:t>M</a:t>
                  </a:r>
                  <a:r>
                    <a:rPr b="0" lang="fr-FR" sz="1600" spc="-1" strike="noStrike">
                      <a:solidFill>
                        <a:srgbClr val="ff5050"/>
                      </a:solidFill>
                      <a:latin typeface="Arial Narrow"/>
                    </a:rPr>
                    <a:t>S/R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3600000" y="5286600"/>
                  <a:ext cx="600120" cy="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5" name=""/>
            <p:cNvSpPr/>
            <p:nvPr/>
          </p:nvSpPr>
          <p:spPr>
            <a:xfrm>
              <a:off x="4650480" y="5715000"/>
              <a:ext cx="777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M(t+d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352680" y="575316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3352680" y="575316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724280" y="558792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4724280" y="5587920"/>
              <a:ext cx="7632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34800" y="609480"/>
            <a:ext cx="853452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467480" y="15228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Généralit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1020600" y="838080"/>
            <a:ext cx="800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La cinématique est la science qui étudie les </a:t>
            </a:r>
            <a:r>
              <a:rPr b="1" lang="fr-FR" sz="2000" spc="-1" strike="noStrike">
                <a:solidFill>
                  <a:srgbClr val="000000"/>
                </a:solidFill>
                <a:latin typeface="Arial Narrow"/>
              </a:rPr>
              <a:t>mouvements</a:t>
            </a:r>
            <a:r>
              <a:rPr b="0" lang="fr-FR" sz="2000" spc="-1" strike="noStrike">
                <a:solidFill>
                  <a:srgbClr val="000000"/>
                </a:solidFill>
                <a:latin typeface="Arial Narrow"/>
              </a:rPr>
              <a:t> des soli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178640" y="16765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e mouv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214280" y="2722680"/>
            <a:ext cx="10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a vites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35720" y="129528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Les grandeurs étudiées sont 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97120" y="1670040"/>
            <a:ext cx="5943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Absolu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ou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relatif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. Noté  M</a:t>
            </a: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vt</a:t>
            </a:r>
            <a:r>
              <a:rPr b="0" lang="fr-FR" sz="1400" spc="-1" strike="noStrike">
                <a:solidFill>
                  <a:srgbClr val="000000"/>
                </a:solidFill>
                <a:latin typeface="Arial Narrow"/>
              </a:rPr>
              <a:t>S1/R0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77920" y="20718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 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la trajectoi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616120" y="2070000"/>
            <a:ext cx="6248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Une trajectoire est l’ensemble des positions occupées par un point au cours du mouvem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07120" y="152280"/>
            <a:ext cx="47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477520" y="2730600"/>
            <a:ext cx="44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Elle est représentée sous forme de </a:t>
            </a:r>
            <a:r>
              <a:rPr b="1" lang="fr-FR" sz="1800" spc="-1" strike="noStrike">
                <a:solidFill>
                  <a:srgbClr val="000000"/>
                </a:solidFill>
                <a:latin typeface="Arial Narrow"/>
              </a:rPr>
              <a:t>vecteur 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V</a:t>
            </a:r>
            <a:r>
              <a:rPr b="0" lang="fr-FR" sz="12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lang="fr-FR" sz="1600" spc="-1" strike="noStrike">
                <a:solidFill>
                  <a:srgbClr val="000000"/>
                </a:solidFill>
                <a:latin typeface="Arial Narrow"/>
              </a:rPr>
              <a:t>S/R0</a:t>
            </a:r>
            <a:r>
              <a:rPr b="0" lang="fr-FR" sz="1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324480" y="27432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236600" y="341640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 Narrow"/>
              </a:rPr>
              <a:t>- l’accélératio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2641680" y="3390840"/>
            <a:ext cx="6324480" cy="398880"/>
            <a:chOff x="2641680" y="3390840"/>
            <a:chExt cx="6324480" cy="398880"/>
          </a:xfrm>
        </p:grpSpPr>
        <p:sp>
          <p:nvSpPr>
            <p:cNvPr id="234" name=""/>
            <p:cNvSpPr/>
            <p:nvPr/>
          </p:nvSpPr>
          <p:spPr>
            <a:xfrm>
              <a:off x="2641680" y="3390840"/>
              <a:ext cx="6324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C’est aussi un vecteur qui indique la </a:t>
              </a:r>
              <a:r>
                <a:rPr b="1" lang="fr-FR" sz="2000" spc="-1" strike="noStrike">
                  <a:solidFill>
                    <a:srgbClr val="000000"/>
                  </a:solidFill>
                  <a:latin typeface="Arial Narrow"/>
                </a:rPr>
                <a:t>variation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 de vitesse A</a:t>
              </a:r>
              <a:r>
                <a:rPr b="0" lang="fr-FR" sz="1200" spc="-1" strike="noStrike">
                  <a:solidFill>
                    <a:srgbClr val="000000"/>
                  </a:solidFill>
                  <a:latin typeface="Arial Narrow"/>
                </a:rPr>
                <a:t>M</a:t>
              </a:r>
              <a:r>
                <a:rPr b="0" lang="fr-FR" sz="1600" spc="-1" strike="noStrike">
                  <a:solidFill>
                    <a:srgbClr val="000000"/>
                  </a:solidFill>
                  <a:latin typeface="Arial Narrow"/>
                </a:rPr>
                <a:t>S/R0</a:t>
              </a: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620120" y="3429000"/>
              <a:ext cx="533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41120" y="-317880"/>
            <a:ext cx="431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3366"/>
                </a:solidFill>
                <a:latin typeface="Times New Roman"/>
              </a:rPr>
              <a:t>La cinématique 1</a:t>
            </a:r>
            <a:endParaRPr b="0" lang="en-US" sz="4400" spc="-1" strike="noStrike">
              <a:solidFill>
                <a:srgbClr val="003366"/>
              </a:solidFill>
              <a:latin typeface="Times New Roman"/>
            </a:endParaRPr>
          </a:p>
        </p:txBody>
      </p:sp>
      <p:grpSp>
        <p:nvGrpSpPr>
          <p:cNvPr id="237" name=""/>
          <p:cNvGrpSpPr/>
          <p:nvPr/>
        </p:nvGrpSpPr>
        <p:grpSpPr>
          <a:xfrm>
            <a:off x="2590920" y="4495680"/>
            <a:ext cx="5487120" cy="1968480"/>
            <a:chOff x="2590920" y="4495680"/>
            <a:chExt cx="5487120" cy="1968480"/>
          </a:xfrm>
        </p:grpSpPr>
        <p:sp>
          <p:nvSpPr>
            <p:cNvPr id="238" name=""/>
            <p:cNvSpPr/>
            <p:nvPr/>
          </p:nvSpPr>
          <p:spPr>
            <a:xfrm>
              <a:off x="3124080" y="4495680"/>
              <a:ext cx="3124440" cy="1625760"/>
            </a:xfrm>
            <a:custGeom>
              <a:avLst/>
              <a:gdLst/>
              <a:ahLst/>
              <a:rect l="l" t="t" r="r" b="b"/>
              <a:pathLst>
                <a:path w="1968" h="1024">
                  <a:moveTo>
                    <a:pt x="0" y="0"/>
                  </a:moveTo>
                  <a:cubicBezTo>
                    <a:pt x="384" y="68"/>
                    <a:pt x="768" y="136"/>
                    <a:pt x="960" y="288"/>
                  </a:cubicBezTo>
                  <a:cubicBezTo>
                    <a:pt x="1152" y="440"/>
                    <a:pt x="984" y="800"/>
                    <a:pt x="1152" y="912"/>
                  </a:cubicBezTo>
                  <a:cubicBezTo>
                    <a:pt x="1320" y="1024"/>
                    <a:pt x="1832" y="952"/>
                    <a:pt x="1968" y="960"/>
                  </a:cubicBezTo>
                </a:path>
              </a:pathLst>
            </a:custGeom>
            <a:noFill/>
            <a:ln w="3816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254480" y="4749840"/>
              <a:ext cx="1828800" cy="60948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21360000">
              <a:off x="5257800" y="5562720"/>
              <a:ext cx="280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ffff"/>
                  </a:solidFill>
                  <a:latin typeface="Arial Narrow"/>
                </a:rPr>
                <a:t>Hodographe de V</a:t>
              </a:r>
              <a:r>
                <a:rPr b="1" lang="fr-FR" sz="1400" spc="-1" strike="noStrike">
                  <a:solidFill>
                    <a:srgbClr val="00ffff"/>
                  </a:solidFill>
                  <a:latin typeface="Arial Narrow"/>
                </a:rPr>
                <a:t>M</a:t>
              </a:r>
              <a:r>
                <a:rPr b="1" lang="fr-FR" sz="2000" spc="-1" strike="noStrike">
                  <a:solidFill>
                    <a:srgbClr val="00ffff"/>
                  </a:solidFill>
                  <a:latin typeface="Arial Narrow"/>
                </a:rPr>
                <a:t>S/R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1" name=""/>
            <p:cNvGrpSpPr/>
            <p:nvPr/>
          </p:nvGrpSpPr>
          <p:grpSpPr>
            <a:xfrm>
              <a:off x="5029200" y="4572000"/>
              <a:ext cx="1214280" cy="368280"/>
              <a:chOff x="5029200" y="4572000"/>
              <a:chExt cx="1214280" cy="368280"/>
            </a:xfrm>
          </p:grpSpPr>
          <p:sp>
            <p:nvSpPr>
              <p:cNvPr id="242" name=""/>
              <p:cNvSpPr/>
              <p:nvPr/>
            </p:nvSpPr>
            <p:spPr>
              <a:xfrm>
                <a:off x="5029200" y="4572000"/>
                <a:ext cx="12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5050"/>
                    </a:solidFill>
                    <a:latin typeface="Arial Narrow"/>
                  </a:rPr>
                  <a:t>A</a:t>
                </a:r>
                <a:r>
                  <a:rPr b="0" lang="fr-FR" sz="1200" spc="-1" strike="noStrike">
                    <a:solidFill>
                      <a:srgbClr val="ff5050"/>
                    </a:solidFill>
                    <a:latin typeface="Arial Narrow"/>
                  </a:rPr>
                  <a:t>M</a:t>
                </a:r>
                <a:r>
                  <a:rPr b="0" lang="fr-FR" sz="1600" spc="-1" strike="noStrike">
                    <a:solidFill>
                      <a:srgbClr val="ff5050"/>
                    </a:solidFill>
                    <a:latin typeface="Arial Narrow"/>
                  </a:rPr>
                  <a:t>S/R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5092560" y="4600800"/>
                <a:ext cx="600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44" name=""/>
            <p:cNvSpPr/>
            <p:nvPr/>
          </p:nvSpPr>
          <p:spPr>
            <a:xfrm>
              <a:off x="3048120" y="6172200"/>
              <a:ext cx="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71800" y="624852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3048120" y="4724280"/>
              <a:ext cx="121896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V="1">
              <a:off x="3048120" y="5334120"/>
              <a:ext cx="175248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2590920" y="5105520"/>
              <a:ext cx="1214280" cy="368280"/>
              <a:chOff x="2590920" y="5105520"/>
              <a:chExt cx="1214280" cy="368280"/>
            </a:xfrm>
          </p:grpSpPr>
          <p:sp>
            <p:nvSpPr>
              <p:cNvPr id="249" name=""/>
              <p:cNvSpPr/>
              <p:nvPr/>
            </p:nvSpPr>
            <p:spPr>
              <a:xfrm>
                <a:off x="2590920" y="5105520"/>
                <a:ext cx="12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ff5050"/>
                    </a:solidFill>
                    <a:latin typeface="Arial Narrow"/>
                  </a:rPr>
                  <a:t>V</a:t>
                </a:r>
                <a:r>
                  <a:rPr b="0" lang="fr-FR" sz="1200" spc="-1" strike="noStrike">
                    <a:solidFill>
                      <a:srgbClr val="ff5050"/>
                    </a:solidFill>
                    <a:latin typeface="Arial Narrow"/>
                  </a:rPr>
                  <a:t>M</a:t>
                </a:r>
                <a:r>
                  <a:rPr b="0" lang="fr-FR" sz="1600" spc="-1" strike="noStrike">
                    <a:solidFill>
                      <a:srgbClr val="ff5050"/>
                    </a:solidFill>
                    <a:latin typeface="Arial Narrow"/>
                  </a:rPr>
                  <a:t>S/R0(t)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654280" y="5133960"/>
                <a:ext cx="600120" cy="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2592720" y="609588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Arial Narrow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6800" y="5791320"/>
              <a:ext cx="122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5050"/>
                  </a:solidFill>
                  <a:latin typeface="Arial Narrow"/>
                </a:rPr>
                <a:t>V</a:t>
              </a:r>
              <a:r>
                <a:rPr b="0" lang="fr-FR" sz="1200" spc="-1" strike="noStrike">
                  <a:solidFill>
                    <a:srgbClr val="ff5050"/>
                  </a:solidFill>
                  <a:latin typeface="Arial Narrow"/>
                </a:rPr>
                <a:t>M</a:t>
              </a:r>
              <a:r>
                <a:rPr b="0" lang="fr-FR" sz="1600" spc="-1" strike="noStrike">
                  <a:solidFill>
                    <a:srgbClr val="ff5050"/>
                  </a:solidFill>
                  <a:latin typeface="Arial Narrow"/>
                </a:rPr>
                <a:t>S/R0(t+dt)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flipV="1">
              <a:off x="7010280" y="5410080"/>
              <a:ext cx="685800" cy="76320"/>
            </a:xfrm>
            <a:prstGeom prst="line">
              <a:avLst/>
            </a:prstGeom>
            <a:ln w="93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8T06:18:03Z</dcterms:created>
  <dc:creator>Antonin ARTAUD</dc:creator>
  <dc:description/>
  <dc:language>en-US</dc:language>
  <cp:lastModifiedBy>Antonin ARTAUD</cp:lastModifiedBy>
  <dcterms:modified xsi:type="dcterms:W3CDTF">2015-02-19T19:23:14Z</dcterms:modified>
  <cp:revision>88</cp:revision>
  <dc:subject/>
  <dc:title>La cinématique</dc:title>
</cp:coreProperties>
</file>