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gif" ContentType="image/gif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FB8-4148-4053-B441-5C1A4F05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C31-CEBB-43B5-82F5-397B5F7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3F1-EDB3-4707-9222-E5F6EA73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B4E-5BF8-4ABB-84F6-7550700F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642E-AE1C-433E-95BB-2DC284D1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0E2F-02C9-489B-ABE7-B8CC8FC2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8A8C-4183-4690-80C4-3A3A4F77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935B-DFDC-4CFE-9287-31C2267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2B69-8729-4850-88FA-E2414D01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B83D-54B8-4E3E-85B9-9BDF8E53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F223-4E0E-4E5A-A306-E4952BE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BCB-B881-41BB-976F-C1061E55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9FFE-9054-463E-881C-77108DDE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58D8-2465-4677-B6EB-DB183D65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3E1F-7D7B-494A-98B8-33DA3432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1E3C-A632-44D7-8017-82B0C8C7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E706-73C4-4DA8-A17C-7753253D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D39-C039-4A59-8743-1CED70D5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E47-E643-4061-BC9E-C1580069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9D1-2A6D-42CF-8E82-FD1D1E6C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87F-795E-4CA7-98AE-9A4B2035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E74-CAA7-4EEC-B2BE-B18418AF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D53B-A0C0-4328-A557-E29FCC5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91A-091A-4D94-A238-A66AA0BB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6FA9-C2B4-4C4D-8E4B-F7744C1FB22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8C4F-9711-40EF-B38C-443AA4E6D82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cligne.net/mecanique/2_cinematique/3_rotation/1_rotation_cours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5.jpeg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ligne.net/mecanique/2_cinematique/2_translation/1_translation_base_cours.html" TargetMode="Externa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hyperlink" Target="file:///ChapI.pdf" TargetMode="External"/><Relationship Id="rId5" Type="http://schemas.openxmlformats.org/officeDocument/2006/relationships/image" Target="../media/image5.jpeg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17.xml"/><Relationship Id="rId9" Type="http://schemas.openxmlformats.org/officeDocument/2006/relationships/slide" Target="slide20.xml"/><Relationship Id="rId10" Type="http://schemas.openxmlformats.org/officeDocument/2006/relationships/slide" Target="slide17.xml"/><Relationship Id="rId11" Type="http://schemas.openxmlformats.org/officeDocument/2006/relationships/slide" Target="slide21.xml"/><Relationship Id="rId12" Type="http://schemas.openxmlformats.org/officeDocument/2006/relationships/slide" Target="slide17.xm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hap2_Cinematique_du_point.pdf" TargetMode="External"/><Relationship Id="rId2" Type="http://schemas.openxmlformats.org/officeDocument/2006/relationships/hyperlink" Target="file:///../Cin&#233;matique%201/Chap2_Cinematique_du_point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4160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45880" y="23763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B - Étud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62440" y="35956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D - 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67480" y="422928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E - 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3160" y="177156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A -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5600" y="29718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 - Positions, Vitesses, Accélé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07560" y="-63720"/>
            <a:ext cx="4133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11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2880" y="114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320120" y="914400"/>
            <a:ext cx="4394880" cy="1075320"/>
            <a:chOff x="1320120" y="914400"/>
            <a:chExt cx="4394880" cy="1075320"/>
          </a:xfrm>
        </p:grpSpPr>
        <p:sp>
          <p:nvSpPr>
            <p:cNvPr id="585" name=""/>
            <p:cNvSpPr/>
            <p:nvPr/>
          </p:nvSpPr>
          <p:spPr>
            <a:xfrm>
              <a:off x="1320120" y="914400"/>
              <a:ext cx="213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vecteur vitesse de M est donc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52480" y="1523880"/>
              <a:ext cx="396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R.        = R .         .        = R .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.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19520" y="1676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43200" y="13716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68760" y="168264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81280" y="1676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05320" y="13716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05320" y="16765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14800" y="1676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38480" y="13716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64040" y="168264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16600" y="1378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3740040" y="1333080"/>
              <a:ext cx="74520" cy="74520"/>
              <a:chOff x="3740040" y="1333080"/>
              <a:chExt cx="74520" cy="74520"/>
            </a:xfrm>
          </p:grpSpPr>
          <p:sp>
            <p:nvSpPr>
              <p:cNvPr id="598" name=""/>
              <p:cNvSpPr/>
              <p:nvPr/>
            </p:nvSpPr>
            <p:spPr>
              <a:xfrm flipH="1" flipV="1">
                <a:off x="3745440" y="1333080"/>
                <a:ext cx="6912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740040" y="1374840"/>
                <a:ext cx="6120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3657600" y="1371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2901600" y="1333080"/>
              <a:ext cx="74160" cy="74520"/>
              <a:chOff x="2901600" y="1333080"/>
              <a:chExt cx="74160" cy="74520"/>
            </a:xfrm>
          </p:grpSpPr>
          <p:sp>
            <p:nvSpPr>
              <p:cNvPr id="602" name=""/>
              <p:cNvSpPr/>
              <p:nvPr/>
            </p:nvSpPr>
            <p:spPr>
              <a:xfrm flipH="1" flipV="1">
                <a:off x="2907000" y="1333080"/>
                <a:ext cx="6876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2901600" y="1374840"/>
                <a:ext cx="6084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819520" y="1371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273040" y="1456920"/>
              <a:ext cx="74160" cy="74520"/>
              <a:chOff x="2273040" y="1456920"/>
              <a:chExt cx="74160" cy="74520"/>
            </a:xfrm>
          </p:grpSpPr>
          <p:sp>
            <p:nvSpPr>
              <p:cNvPr id="606" name=""/>
              <p:cNvSpPr/>
              <p:nvPr/>
            </p:nvSpPr>
            <p:spPr>
              <a:xfrm flipH="1" flipV="1">
                <a:off x="2278440" y="1456920"/>
                <a:ext cx="6876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273040" y="1498680"/>
                <a:ext cx="6084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857240" y="14954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095880" y="3886200"/>
            <a:ext cx="1905120" cy="748800"/>
            <a:chOff x="6095880" y="3886200"/>
            <a:chExt cx="1905120" cy="748800"/>
          </a:xfrm>
        </p:grpSpPr>
        <p:sp>
          <p:nvSpPr>
            <p:cNvPr id="610" name=""/>
            <p:cNvSpPr/>
            <p:nvPr/>
          </p:nvSpPr>
          <p:spPr>
            <a:xfrm>
              <a:off x="6095880" y="3886200"/>
              <a:ext cx="19051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48520" y="4114800"/>
              <a:ext cx="167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 R .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.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46880" y="3956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768720" y="4047840"/>
              <a:ext cx="74160" cy="74520"/>
              <a:chOff x="6768720" y="4047840"/>
              <a:chExt cx="74160" cy="74520"/>
            </a:xfrm>
          </p:grpSpPr>
          <p:sp>
            <p:nvSpPr>
              <p:cNvPr id="614" name=""/>
              <p:cNvSpPr/>
              <p:nvPr/>
            </p:nvSpPr>
            <p:spPr>
              <a:xfrm flipH="1" flipV="1">
                <a:off x="6774120" y="4047840"/>
                <a:ext cx="6876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6768720" y="4089600"/>
                <a:ext cx="6084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353280" y="40863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2514600" y="3429000"/>
            <a:ext cx="2833200" cy="1852200"/>
            <a:chOff x="2514600" y="3429000"/>
            <a:chExt cx="2833200" cy="1852200"/>
          </a:xfrm>
        </p:grpSpPr>
        <p:sp>
          <p:nvSpPr>
            <p:cNvPr id="618" name=""/>
            <p:cNvSpPr/>
            <p:nvPr/>
          </p:nvSpPr>
          <p:spPr>
            <a:xfrm>
              <a:off x="5130360" y="4560840"/>
              <a:ext cx="21744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2523960" y="3434760"/>
              <a:ext cx="2534760" cy="1846440"/>
              <a:chOff x="2523960" y="3434760"/>
              <a:chExt cx="2534760" cy="1846440"/>
            </a:xfrm>
          </p:grpSpPr>
          <p:sp>
            <p:nvSpPr>
              <p:cNvPr id="620" name=""/>
              <p:cNvSpPr/>
              <p:nvPr/>
            </p:nvSpPr>
            <p:spPr>
              <a:xfrm>
                <a:off x="2741040" y="3941280"/>
                <a:ext cx="1448640" cy="1339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65000" y="4629240"/>
                <a:ext cx="1593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465000" y="3506760"/>
                <a:ext cx="360" cy="11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4225680" y="3941280"/>
                <a:ext cx="29016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2740680" y="3760200"/>
                <a:ext cx="724680" cy="86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356640" y="4701960"/>
                <a:ext cx="1814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51480" y="3868920"/>
                <a:ext cx="21780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537360" y="3434760"/>
                <a:ext cx="21780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523960" y="3796560"/>
                <a:ext cx="25380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899520" y="3832920"/>
                <a:ext cx="25380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899520" y="4339080"/>
                <a:ext cx="32616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971880" y="4231080"/>
                <a:ext cx="73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080600" y="4158720"/>
                <a:ext cx="73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3971880" y="4158720"/>
                <a:ext cx="109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4044600" y="4231080"/>
                <a:ext cx="109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465000" y="4267080"/>
                <a:ext cx="543600" cy="36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4116960" y="4122360"/>
                <a:ext cx="109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008240" y="4194720"/>
                <a:ext cx="10908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3520440" y="3429000"/>
              <a:ext cx="183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26280" y="3878640"/>
              <a:ext cx="183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14600" y="3786840"/>
              <a:ext cx="183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75280" y="4503600"/>
              <a:ext cx="183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 flipH="1" flipV="1">
            <a:off x="3632040" y="3793680"/>
            <a:ext cx="432000" cy="438120"/>
          </a:xfrm>
          <a:prstGeom prst="line">
            <a:avLst/>
          </a:prstGeom>
          <a:ln w="28440">
            <a:solidFill>
              <a:srgbClr val="eb1f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657600" y="3428640"/>
            <a:ext cx="990720" cy="374040"/>
            <a:chOff x="3657600" y="3428640"/>
            <a:chExt cx="990720" cy="374040"/>
          </a:xfrm>
        </p:grpSpPr>
        <p:sp>
          <p:nvSpPr>
            <p:cNvPr id="644" name=""/>
            <p:cNvSpPr/>
            <p:nvPr/>
          </p:nvSpPr>
          <p:spPr>
            <a:xfrm>
              <a:off x="3657600" y="349560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eb1f03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) 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4140000" y="3428640"/>
              <a:ext cx="74160" cy="74520"/>
              <a:chOff x="4140000" y="3428640"/>
              <a:chExt cx="74160" cy="74520"/>
            </a:xfrm>
          </p:grpSpPr>
          <p:sp>
            <p:nvSpPr>
              <p:cNvPr id="646" name=""/>
              <p:cNvSpPr/>
              <p:nvPr/>
            </p:nvSpPr>
            <p:spPr>
              <a:xfrm flipH="1" flipV="1">
                <a:off x="4145400" y="3428640"/>
                <a:ext cx="68760" cy="4140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4140000" y="3470400"/>
                <a:ext cx="60840" cy="3276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3753000" y="3467160"/>
              <a:ext cx="457200" cy="0"/>
            </a:xfrm>
            <a:prstGeom prst="line">
              <a:avLst/>
            </a:prstGeom>
            <a:ln w="936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45480" y="1397160"/>
            <a:ext cx="397080" cy="457200"/>
            <a:chOff x="6045480" y="1397160"/>
            <a:chExt cx="397080" cy="457200"/>
          </a:xfrm>
        </p:grpSpPr>
        <p:sp>
          <p:nvSpPr>
            <p:cNvPr id="650" name=""/>
            <p:cNvSpPr/>
            <p:nvPr/>
          </p:nvSpPr>
          <p:spPr>
            <a:xfrm>
              <a:off x="6058080" y="139716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45480" y="1473120"/>
              <a:ext cx="3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Vecteur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28600" y="68580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4120" y="11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52880" y="114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60720" y="990720"/>
            <a:ext cx="461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De la même façon, on calcule le vecteur accélération en dérivant la vites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743120" y="1400040"/>
            <a:ext cx="2752560" cy="631080"/>
            <a:chOff x="1743120" y="1400040"/>
            <a:chExt cx="2752560" cy="631080"/>
          </a:xfrm>
        </p:grpSpPr>
        <p:sp>
          <p:nvSpPr>
            <p:cNvPr id="657" name=""/>
            <p:cNvSpPr/>
            <p:nvPr/>
          </p:nvSpPr>
          <p:spPr>
            <a:xfrm>
              <a:off x="1743120" y="1552680"/>
              <a:ext cx="275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A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                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80840" y="140004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81200" y="170496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09800" y="172404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282400" y="1437840"/>
              <a:ext cx="74160" cy="74520"/>
              <a:chOff x="2282400" y="1437840"/>
              <a:chExt cx="74160" cy="74520"/>
            </a:xfrm>
          </p:grpSpPr>
          <p:sp>
            <p:nvSpPr>
              <p:cNvPr id="662" name=""/>
              <p:cNvSpPr/>
              <p:nvPr/>
            </p:nvSpPr>
            <p:spPr>
              <a:xfrm flipH="1" flipV="1">
                <a:off x="2287800" y="1437840"/>
                <a:ext cx="6876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2282400" y="1479600"/>
                <a:ext cx="6084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895400" y="1476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2809440" y="1400040"/>
              <a:ext cx="74160" cy="74520"/>
              <a:chOff x="2809440" y="1400040"/>
              <a:chExt cx="74160" cy="74520"/>
            </a:xfrm>
          </p:grpSpPr>
          <p:sp>
            <p:nvSpPr>
              <p:cNvPr id="666" name=""/>
              <p:cNvSpPr/>
              <p:nvPr/>
            </p:nvSpPr>
            <p:spPr>
              <a:xfrm flipH="1" flipV="1">
                <a:off x="2814840" y="1400040"/>
                <a:ext cx="6876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2809440" y="1441800"/>
                <a:ext cx="6084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2730600" y="143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733920" y="1295280"/>
            <a:ext cx="869400" cy="745200"/>
            <a:chOff x="3733920" y="1295280"/>
            <a:chExt cx="869400" cy="745200"/>
          </a:xfrm>
        </p:grpSpPr>
        <p:sp>
          <p:nvSpPr>
            <p:cNvPr id="670" name=""/>
            <p:cNvSpPr/>
            <p:nvPr/>
          </p:nvSpPr>
          <p:spPr>
            <a:xfrm>
              <a:off x="3749040" y="138420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(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.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733920" y="171432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17334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088880" y="1295280"/>
              <a:ext cx="2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363760" y="2006640"/>
            <a:ext cx="2262240" cy="765720"/>
            <a:chOff x="2363760" y="2006640"/>
            <a:chExt cx="2262240" cy="765720"/>
          </a:xfrm>
        </p:grpSpPr>
        <p:sp>
          <p:nvSpPr>
            <p:cNvPr id="675" name=""/>
            <p:cNvSpPr/>
            <p:nvPr/>
          </p:nvSpPr>
          <p:spPr>
            <a:xfrm>
              <a:off x="2920320" y="2006640"/>
              <a:ext cx="2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20080" y="2133720"/>
              <a:ext cx="55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 d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19360" y="24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14760" y="2465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28840" y="2249640"/>
              <a:ext cx="96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. v –- R.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01320" y="2141640"/>
              <a:ext cx="2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32880" y="21477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19560" y="2452680"/>
              <a:ext cx="3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45120" y="2440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3760" y="230652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363760" y="2806560"/>
            <a:ext cx="2381040" cy="472320"/>
            <a:chOff x="2363760" y="2806560"/>
            <a:chExt cx="2381040" cy="472320"/>
          </a:xfrm>
        </p:grpSpPr>
        <p:sp>
          <p:nvSpPr>
            <p:cNvPr id="686" name=""/>
            <p:cNvSpPr/>
            <p:nvPr/>
          </p:nvSpPr>
          <p:spPr>
            <a:xfrm>
              <a:off x="2363760" y="29718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22960" y="29336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 .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19520" y="281952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98520" y="2921040"/>
              <a:ext cx="5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.v  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00080" y="2921040"/>
              <a:ext cx="104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R.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 . 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67920" y="2813040"/>
              <a:ext cx="2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23600" y="2806560"/>
              <a:ext cx="25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2590920" y="3543480"/>
            <a:ext cx="1143000" cy="421200"/>
            <a:chOff x="2590920" y="3543480"/>
            <a:chExt cx="1143000" cy="421200"/>
          </a:xfrm>
        </p:grpSpPr>
        <p:sp>
          <p:nvSpPr>
            <p:cNvPr id="694" name=""/>
            <p:cNvSpPr/>
            <p:nvPr/>
          </p:nvSpPr>
          <p:spPr>
            <a:xfrm>
              <a:off x="2590920" y="36576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-R.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²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u 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47960" y="3543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681720" y="3524400"/>
            <a:ext cx="749160" cy="446760"/>
            <a:chOff x="3681720" y="3524400"/>
            <a:chExt cx="749160" cy="446760"/>
          </a:xfrm>
        </p:grpSpPr>
        <p:sp>
          <p:nvSpPr>
            <p:cNvPr id="697" name=""/>
            <p:cNvSpPr/>
            <p:nvPr/>
          </p:nvSpPr>
          <p:spPr>
            <a:xfrm>
              <a:off x="3681720" y="366408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 .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.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76840" y="352440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800600" y="5105520"/>
            <a:ext cx="3086280" cy="672120"/>
            <a:chOff x="4800600" y="5105520"/>
            <a:chExt cx="3086280" cy="672120"/>
          </a:xfrm>
        </p:grpSpPr>
        <p:sp>
          <p:nvSpPr>
            <p:cNvPr id="700" name=""/>
            <p:cNvSpPr/>
            <p:nvPr/>
          </p:nvSpPr>
          <p:spPr>
            <a:xfrm>
              <a:off x="4800600" y="5105520"/>
              <a:ext cx="29718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76920" y="52574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A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5416560" y="5219280"/>
              <a:ext cx="74520" cy="74160"/>
              <a:chOff x="5416560" y="5219280"/>
              <a:chExt cx="74520" cy="74160"/>
            </a:xfrm>
          </p:grpSpPr>
          <p:sp>
            <p:nvSpPr>
              <p:cNvPr id="703" name=""/>
              <p:cNvSpPr/>
              <p:nvPr/>
            </p:nvSpPr>
            <p:spPr>
              <a:xfrm flipH="1" flipV="1">
                <a:off x="5421960" y="5219280"/>
                <a:ext cx="6912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5416560" y="5261040"/>
                <a:ext cx="6120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5029200" y="525744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67640" y="5257440"/>
              <a:ext cx="201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-R.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²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u 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24680" y="5143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58440" y="526392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 .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.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53560" y="512424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219320" y="4343400"/>
            <a:ext cx="2833200" cy="1852200"/>
            <a:chOff x="1219320" y="4343400"/>
            <a:chExt cx="2833200" cy="1852200"/>
          </a:xfrm>
        </p:grpSpPr>
        <p:sp>
          <p:nvSpPr>
            <p:cNvPr id="711" name=""/>
            <p:cNvSpPr/>
            <p:nvPr/>
          </p:nvSpPr>
          <p:spPr>
            <a:xfrm>
              <a:off x="3835080" y="5475240"/>
              <a:ext cx="21744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1228680" y="4349160"/>
              <a:ext cx="2534760" cy="1846440"/>
              <a:chOff x="1228680" y="4349160"/>
              <a:chExt cx="2534760" cy="1846440"/>
            </a:xfrm>
          </p:grpSpPr>
          <p:sp>
            <p:nvSpPr>
              <p:cNvPr id="713" name=""/>
              <p:cNvSpPr/>
              <p:nvPr/>
            </p:nvSpPr>
            <p:spPr>
              <a:xfrm>
                <a:off x="1445760" y="4855680"/>
                <a:ext cx="1448640" cy="1339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169720" y="5543640"/>
                <a:ext cx="1593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2169720" y="4421160"/>
                <a:ext cx="360" cy="11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2930400" y="4855680"/>
                <a:ext cx="290160" cy="1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 flipV="1">
                <a:off x="1445400" y="4674600"/>
                <a:ext cx="724680" cy="86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061360" y="5616360"/>
                <a:ext cx="1814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256200" y="4783320"/>
                <a:ext cx="21780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42080" y="4349160"/>
                <a:ext cx="21780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228680" y="4710960"/>
                <a:ext cx="25380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04240" y="4747320"/>
                <a:ext cx="25380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604240" y="5253480"/>
                <a:ext cx="32616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76600" y="5145480"/>
                <a:ext cx="73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785320" y="5073120"/>
                <a:ext cx="73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676600" y="5073120"/>
                <a:ext cx="109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2749320" y="5145480"/>
                <a:ext cx="109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2169720" y="5181480"/>
                <a:ext cx="543600" cy="362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2821680" y="5036760"/>
                <a:ext cx="109080" cy="7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12960" y="5109120"/>
                <a:ext cx="10908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2225160" y="4343400"/>
              <a:ext cx="183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31000" y="4793040"/>
              <a:ext cx="183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19320" y="4701240"/>
              <a:ext cx="183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80000" y="5418000"/>
              <a:ext cx="183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523880" y="4343040"/>
            <a:ext cx="2210040" cy="1386720"/>
            <a:chOff x="1523880" y="4343040"/>
            <a:chExt cx="2210040" cy="1386720"/>
          </a:xfrm>
        </p:grpSpPr>
        <p:sp>
          <p:nvSpPr>
            <p:cNvPr id="736" name=""/>
            <p:cNvSpPr/>
            <p:nvPr/>
          </p:nvSpPr>
          <p:spPr>
            <a:xfrm flipH="1" flipV="1">
              <a:off x="2361960" y="4682880"/>
              <a:ext cx="431640" cy="4377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2362320" y="5159160"/>
              <a:ext cx="374400" cy="23472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514600" y="4343040"/>
              <a:ext cx="990720" cy="403200"/>
              <a:chOff x="2514600" y="4343040"/>
              <a:chExt cx="990720" cy="403200"/>
            </a:xfrm>
          </p:grpSpPr>
          <p:sp>
            <p:nvSpPr>
              <p:cNvPr id="739" name=""/>
              <p:cNvSpPr/>
              <p:nvPr/>
            </p:nvSpPr>
            <p:spPr>
              <a:xfrm>
                <a:off x="2514600" y="4410000"/>
                <a:ext cx="990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9900"/>
                    </a:solidFill>
                    <a:latin typeface="Vecteur"/>
                  </a:rPr>
                  <a:t>A</a:t>
                </a:r>
                <a:r>
                  <a:rPr b="0" lang="fr-FR" sz="1400" spc="-1" strike="noStrike" baseline="-25000">
                    <a:solidFill>
                      <a:srgbClr val="009900"/>
                    </a:solidFill>
                    <a:latin typeface="Arial"/>
                  </a:rPr>
                  <a:t>t</a:t>
                </a:r>
                <a:r>
                  <a:rPr b="0" lang="fr-FR" sz="1400" spc="-1" strike="noStrike">
                    <a:solidFill>
                      <a:srgbClr val="009900"/>
                    </a:solidFill>
                    <a:latin typeface="Vecteur"/>
                  </a:rPr>
                  <a:t>(M/</a:t>
                </a:r>
                <a:r>
                  <a:rPr b="0" lang="fr-FR" sz="1400" spc="-1" strike="noStrike">
                    <a:solidFill>
                      <a:srgbClr val="009900"/>
                    </a:solidFill>
                    <a:latin typeface="CommercialScript BT"/>
                  </a:rPr>
                  <a:t>R</a:t>
                </a:r>
                <a:r>
                  <a:rPr b="0" lang="fr-FR" sz="1400" spc="-1" strike="noStrike">
                    <a:solidFill>
                      <a:srgbClr val="009900"/>
                    </a:solidFill>
                    <a:latin typeface="Arial"/>
                  </a:rPr>
                  <a:t>)</a:t>
                </a:r>
                <a:r>
                  <a:rPr b="0" lang="fr-FR" sz="1400" spc="-1" strike="noStrike">
                    <a:solidFill>
                      <a:srgbClr val="eb1f03"/>
                    </a:solidFill>
                    <a:latin typeface="Arial"/>
                  </a:rPr>
                  <a:t> </a:t>
                </a:r>
                <a:r>
                  <a:rPr b="0" lang="el-GR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Vecteur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2997000" y="4343040"/>
                <a:ext cx="74160" cy="74520"/>
                <a:chOff x="2997000" y="4343040"/>
                <a:chExt cx="74160" cy="74520"/>
              </a:xfrm>
            </p:grpSpPr>
            <p:sp>
              <p:nvSpPr>
                <p:cNvPr id="741" name=""/>
                <p:cNvSpPr/>
                <p:nvPr/>
              </p:nvSpPr>
              <p:spPr>
                <a:xfrm flipH="1" flipV="1">
                  <a:off x="3002400" y="4343040"/>
                  <a:ext cx="68760" cy="4140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>
                  <a:off x="2997000" y="4384800"/>
                  <a:ext cx="60840" cy="3276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>
                <a:off x="2610000" y="4381200"/>
                <a:ext cx="45720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2895480" y="5171400"/>
              <a:ext cx="838440" cy="558360"/>
              <a:chOff x="2895480" y="5171400"/>
              <a:chExt cx="838440" cy="558360"/>
            </a:xfrm>
          </p:grpSpPr>
          <p:sp>
            <p:nvSpPr>
              <p:cNvPr id="745" name=""/>
              <p:cNvSpPr/>
              <p:nvPr/>
            </p:nvSpPr>
            <p:spPr>
              <a:xfrm>
                <a:off x="2895480" y="5209560"/>
                <a:ext cx="838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3366cc"/>
                    </a:solidFill>
                    <a:latin typeface="Vecteur"/>
                  </a:rPr>
                  <a:t>A</a:t>
                </a:r>
                <a:r>
                  <a:rPr b="0" lang="fr-FR" sz="1400" spc="-1" strike="noStrike">
                    <a:solidFill>
                      <a:srgbClr val="3366cc"/>
                    </a:solidFill>
                    <a:latin typeface="Arial"/>
                  </a:rPr>
                  <a:t>r</a:t>
                </a:r>
                <a:r>
                  <a:rPr b="0" lang="fr-FR" sz="1400" spc="-1" strike="noStrike">
                    <a:solidFill>
                      <a:srgbClr val="3366cc"/>
                    </a:solidFill>
                    <a:latin typeface="Vecteur"/>
                  </a:rPr>
                  <a:t>(M/</a:t>
                </a:r>
                <a:r>
                  <a:rPr b="0" lang="fr-FR" sz="1400" spc="-1" strike="noStrike">
                    <a:solidFill>
                      <a:srgbClr val="3366cc"/>
                    </a:solidFill>
                    <a:latin typeface="CommercialScript BT"/>
                  </a:rPr>
                  <a:t>R</a:t>
                </a:r>
                <a:r>
                  <a:rPr b="0" lang="fr-FR" sz="1400" spc="-1" strike="noStrike">
                    <a:solidFill>
                      <a:srgbClr val="3366cc"/>
                    </a:solidFill>
                    <a:latin typeface="Arial"/>
                  </a:rPr>
                  <a:t>)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3396960" y="5171400"/>
                <a:ext cx="74160" cy="74520"/>
                <a:chOff x="3396960" y="5171400"/>
                <a:chExt cx="74160" cy="74520"/>
              </a:xfrm>
            </p:grpSpPr>
            <p:sp>
              <p:nvSpPr>
                <p:cNvPr id="747" name=""/>
                <p:cNvSpPr/>
                <p:nvPr/>
              </p:nvSpPr>
              <p:spPr>
                <a:xfrm flipH="1" flipV="1">
                  <a:off x="3402360" y="5171400"/>
                  <a:ext cx="68760" cy="41400"/>
                </a:xfrm>
                <a:prstGeom prst="line">
                  <a:avLst/>
                </a:prstGeom>
                <a:ln w="9360">
                  <a:solidFill>
                    <a:srgbClr val="33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>
                  <a:off x="3396960" y="5213160"/>
                  <a:ext cx="60840" cy="32760"/>
                </a:xfrm>
                <a:prstGeom prst="line">
                  <a:avLst/>
                </a:prstGeom>
                <a:ln w="9360">
                  <a:solidFill>
                    <a:srgbClr val="33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" name=""/>
              <p:cNvSpPr/>
              <p:nvPr/>
            </p:nvSpPr>
            <p:spPr>
              <a:xfrm>
                <a:off x="3009960" y="5209560"/>
                <a:ext cx="457200" cy="180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 flipH="1" flipV="1">
              <a:off x="2019240" y="4962240"/>
              <a:ext cx="743040" cy="164880"/>
            </a:xfrm>
            <a:prstGeom prst="line">
              <a:avLst/>
            </a:prstGeom>
            <a:ln w="28440">
              <a:solidFill>
                <a:srgbClr val="eb1f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2006280" y="4701960"/>
              <a:ext cx="36180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2025720" y="4974840"/>
              <a:ext cx="349200" cy="41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523880" y="4561920"/>
              <a:ext cx="838080" cy="345600"/>
              <a:chOff x="1523880" y="4561920"/>
              <a:chExt cx="838080" cy="345600"/>
            </a:xfrm>
          </p:grpSpPr>
          <p:sp>
            <p:nvSpPr>
              <p:cNvPr id="754" name=""/>
              <p:cNvSpPr/>
              <p:nvPr/>
            </p:nvSpPr>
            <p:spPr>
              <a:xfrm>
                <a:off x="1523880" y="460044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eb1f03"/>
                    </a:solidFill>
                    <a:latin typeface="Vecteur"/>
                  </a:rPr>
                  <a:t>A(M/</a:t>
                </a:r>
                <a:r>
                  <a:rPr b="0" lang="fr-FR" sz="1400" spc="-1" strike="noStrike">
                    <a:solidFill>
                      <a:srgbClr val="eb1f03"/>
                    </a:solidFill>
                    <a:latin typeface="CommercialScript BT"/>
                  </a:rPr>
                  <a:t>R</a:t>
                </a:r>
                <a:r>
                  <a:rPr b="0" lang="fr-FR" sz="1400" spc="-1" strike="noStrike">
                    <a:solidFill>
                      <a:srgbClr val="eb1f03"/>
                    </a:solidFill>
                    <a:latin typeface="Arial"/>
                  </a:rPr>
                  <a:t>)</a:t>
                </a:r>
                <a:r>
                  <a:rPr b="0" lang="fr-FR" sz="1400" spc="-1" strike="noStrike">
                    <a:solidFill>
                      <a:srgbClr val="3366cc"/>
                    </a:solidFill>
                    <a:latin typeface="Arial"/>
                  </a:rPr>
                  <a:t> 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2063520" y="4561920"/>
                <a:ext cx="74520" cy="74520"/>
                <a:chOff x="2063520" y="4561920"/>
                <a:chExt cx="74520" cy="7452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flipV="1">
                  <a:off x="2068920" y="4561920"/>
                  <a:ext cx="69120" cy="41400"/>
                </a:xfrm>
                <a:prstGeom prst="line">
                  <a:avLst/>
                </a:prstGeom>
                <a:ln w="9360">
                  <a:solidFill>
                    <a:srgbClr val="eb1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2063520" y="4603680"/>
                  <a:ext cx="61200" cy="32760"/>
                </a:xfrm>
                <a:prstGeom prst="line">
                  <a:avLst/>
                </a:prstGeom>
                <a:ln w="9360">
                  <a:solidFill>
                    <a:srgbClr val="eb1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1676160" y="4600440"/>
                <a:ext cx="457200" cy="144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1375560" y="3276720"/>
            <a:ext cx="21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Le vecteur accélération est donc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689120" y="3543120"/>
            <a:ext cx="933480" cy="434160"/>
            <a:chOff x="1689120" y="3543120"/>
            <a:chExt cx="933480" cy="434160"/>
          </a:xfrm>
        </p:grpSpPr>
        <p:sp>
          <p:nvSpPr>
            <p:cNvPr id="761" name=""/>
            <p:cNvSpPr/>
            <p:nvPr/>
          </p:nvSpPr>
          <p:spPr>
            <a:xfrm>
              <a:off x="2338200" y="36702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2215800" y="3543120"/>
              <a:ext cx="74160" cy="74520"/>
              <a:chOff x="2215800" y="3543120"/>
              <a:chExt cx="74160" cy="74520"/>
            </a:xfrm>
          </p:grpSpPr>
          <p:sp>
            <p:nvSpPr>
              <p:cNvPr id="763" name=""/>
              <p:cNvSpPr/>
              <p:nvPr/>
            </p:nvSpPr>
            <p:spPr>
              <a:xfrm flipH="1" flipV="1">
                <a:off x="2221200" y="3543120"/>
                <a:ext cx="6876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215800" y="3584880"/>
                <a:ext cx="6084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182880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689120" y="364500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A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17560" y="-24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8153280" y="5105520"/>
            <a:ext cx="401040" cy="457200"/>
            <a:chOff x="8153280" y="5105520"/>
            <a:chExt cx="401040" cy="457200"/>
          </a:xfrm>
        </p:grpSpPr>
        <p:sp>
          <p:nvSpPr>
            <p:cNvPr id="769" name=""/>
            <p:cNvSpPr/>
            <p:nvPr/>
          </p:nvSpPr>
          <p:spPr>
            <a:xfrm>
              <a:off x="8153280" y="5105520"/>
              <a:ext cx="38124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157240" y="5181480"/>
              <a:ext cx="3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Vecteur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34120" y="11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52880" y="114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47920" y="2209680"/>
            <a:ext cx="66294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On remarque que la vitesse est bien tangente au cercle, qui est la trajectoire de la masse 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Cette vitesse est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proportionnelle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au rayon « 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» et à la vitesse de rotation « </a:t>
            </a:r>
            <a:r>
              <a:rPr b="1" lang="el-GR" sz="10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Le vecteur accélération est orienté vers le centre du cercle. C’est « </a:t>
            </a:r>
            <a:r>
              <a:rPr b="1" lang="fr-FR" sz="1000" spc="-1" strike="noStrike">
                <a:solidFill>
                  <a:srgbClr val="000000"/>
                </a:solidFill>
                <a:latin typeface="Comic Sans MS"/>
              </a:rPr>
              <a:t>l’accélération centripète 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067280" y="1695240"/>
            <a:ext cx="2286000" cy="345240"/>
            <a:chOff x="4067280" y="1695240"/>
            <a:chExt cx="2286000" cy="345240"/>
          </a:xfrm>
        </p:grpSpPr>
        <p:sp>
          <p:nvSpPr>
            <p:cNvPr id="776" name=""/>
            <p:cNvSpPr/>
            <p:nvPr/>
          </p:nvSpPr>
          <p:spPr>
            <a:xfrm>
              <a:off x="4067280" y="173340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3366cc"/>
                  </a:solidFill>
                  <a:latin typeface="Vecteur"/>
                </a:rPr>
                <a:t>A(M/</a:t>
              </a:r>
              <a:r>
                <a:rPr b="0" lang="fr-FR" sz="1400" spc="-1" strike="noStrike">
                  <a:solidFill>
                    <a:srgbClr val="3366cc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3366cc"/>
                  </a:solidFill>
                  <a:latin typeface="Arial"/>
                </a:rPr>
                <a:t>) =</a:t>
              </a:r>
              <a:r>
                <a:rPr b="0" lang="el-GR" sz="1400" spc="-1" strike="noStrike">
                  <a:solidFill>
                    <a:srgbClr val="3366cc"/>
                  </a:solidFill>
                  <a:latin typeface="Arial"/>
                </a:rPr>
                <a:t> -</a:t>
              </a:r>
              <a:r>
                <a:rPr b="0" lang="fr-FR" sz="1400" spc="-1" strike="noStrike">
                  <a:solidFill>
                    <a:srgbClr val="3366cc"/>
                  </a:solidFill>
                  <a:latin typeface="Arial"/>
                </a:rPr>
                <a:t> R . </a:t>
              </a:r>
              <a:r>
                <a:rPr b="0" lang="el-GR" sz="1400" spc="-1" strike="noStrike">
                  <a:solidFill>
                    <a:srgbClr val="3366cc"/>
                  </a:solidFill>
                  <a:latin typeface="Arial"/>
                </a:rPr>
                <a:t>ω</a:t>
              </a:r>
              <a:r>
                <a:rPr b="0" lang="el-GR" sz="1400" spc="-1" strike="noStrike" baseline="30000">
                  <a:solidFill>
                    <a:srgbClr val="3366cc"/>
                  </a:solidFill>
                  <a:latin typeface="Arial"/>
                </a:rPr>
                <a:t>2 </a:t>
              </a:r>
              <a:r>
                <a:rPr b="0" lang="fr-FR" sz="1400" spc="-1" strike="noStrike">
                  <a:solidFill>
                    <a:srgbClr val="3366cc"/>
                  </a:solidFill>
                  <a:latin typeface="Arial"/>
                </a:rPr>
                <a:t>. </a:t>
              </a:r>
              <a:r>
                <a:rPr b="0" lang="fr-FR" sz="1400" spc="-1" strike="noStrike">
                  <a:solidFill>
                    <a:srgbClr val="3366cc"/>
                  </a:solidFill>
                  <a:latin typeface="Vecteur"/>
                </a:rPr>
                <a:t>u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4568400" y="1695240"/>
              <a:ext cx="74160" cy="74520"/>
              <a:chOff x="4568400" y="1695240"/>
              <a:chExt cx="74160" cy="74520"/>
            </a:xfrm>
          </p:grpSpPr>
          <p:sp>
            <p:nvSpPr>
              <p:cNvPr id="778" name=""/>
              <p:cNvSpPr/>
              <p:nvPr/>
            </p:nvSpPr>
            <p:spPr>
              <a:xfrm flipH="1" flipV="1">
                <a:off x="4573800" y="1695240"/>
                <a:ext cx="68760" cy="4140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4568400" y="1737000"/>
                <a:ext cx="60840" cy="3276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4181400" y="1733400"/>
              <a:ext cx="457200" cy="180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793960" y="1650960"/>
            <a:ext cx="964440" cy="408600"/>
            <a:chOff x="2793960" y="1650960"/>
            <a:chExt cx="964440" cy="408600"/>
          </a:xfrm>
        </p:grpSpPr>
        <p:sp>
          <p:nvSpPr>
            <p:cNvPr id="782" name=""/>
            <p:cNvSpPr/>
            <p:nvPr/>
          </p:nvSpPr>
          <p:spPr>
            <a:xfrm>
              <a:off x="2817360" y="1752480"/>
              <a:ext cx="94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= 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93960" y="165096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1066680" y="838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9900"/>
                </a:solidFill>
                <a:latin typeface="Arial"/>
              </a:rPr>
              <a:t>Mouvement de rotation unifo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88840" y="-6372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095720" y="1257120"/>
            <a:ext cx="2362320" cy="374040"/>
            <a:chOff x="4095720" y="1257120"/>
            <a:chExt cx="2362320" cy="374040"/>
          </a:xfrm>
        </p:grpSpPr>
        <p:sp>
          <p:nvSpPr>
            <p:cNvPr id="787" name=""/>
            <p:cNvSpPr/>
            <p:nvPr/>
          </p:nvSpPr>
          <p:spPr>
            <a:xfrm>
              <a:off x="4095720" y="132408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eb1f03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) = R . </a:t>
              </a:r>
              <a:r>
                <a:rPr b="0" lang="el-GR" sz="1400" spc="-1" strike="noStrike">
                  <a:solidFill>
                    <a:srgbClr val="eb1f03"/>
                  </a:solidFill>
                  <a:latin typeface="Arial"/>
                </a:rPr>
                <a:t>ω 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. </a:t>
              </a:r>
              <a:r>
                <a:rPr b="0" lang="fr-FR" sz="1400" spc="-1" strike="noStrike">
                  <a:solidFill>
                    <a:srgbClr val="eb1f03"/>
                  </a:solidFill>
                  <a:latin typeface="Vecteur"/>
                </a:rPr>
                <a:t>v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4578120" y="1257120"/>
              <a:ext cx="74160" cy="74520"/>
              <a:chOff x="4578120" y="1257120"/>
              <a:chExt cx="74160" cy="74520"/>
            </a:xfrm>
          </p:grpSpPr>
          <p:sp>
            <p:nvSpPr>
              <p:cNvPr id="789" name=""/>
              <p:cNvSpPr/>
              <p:nvPr/>
            </p:nvSpPr>
            <p:spPr>
              <a:xfrm flipH="1" flipV="1">
                <a:off x="4583520" y="1257120"/>
                <a:ext cx="68760" cy="4140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4578120" y="1298880"/>
                <a:ext cx="60840" cy="3276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4191120" y="1295280"/>
              <a:ext cx="457200" cy="0"/>
            </a:xfrm>
            <a:prstGeom prst="line">
              <a:avLst/>
            </a:prstGeom>
            <a:ln w="936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946800" y="1219320"/>
            <a:ext cx="2886120" cy="421200"/>
            <a:chOff x="946800" y="1219320"/>
            <a:chExt cx="2886120" cy="421200"/>
          </a:xfrm>
        </p:grpSpPr>
        <p:sp>
          <p:nvSpPr>
            <p:cNvPr id="793" name=""/>
            <p:cNvSpPr/>
            <p:nvPr/>
          </p:nvSpPr>
          <p:spPr>
            <a:xfrm>
              <a:off x="946800" y="1343160"/>
              <a:ext cx="172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i la vitesse est constante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971800" y="12952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30600" y="121932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28800" y="1333440"/>
              <a:ext cx="110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= Cte =</a:t>
              </a: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 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429000" y="3581280"/>
            <a:ext cx="2833200" cy="1852200"/>
            <a:chOff x="3429000" y="3581280"/>
            <a:chExt cx="2833200" cy="1852200"/>
          </a:xfrm>
        </p:grpSpPr>
        <p:grpSp>
          <p:nvGrpSpPr>
            <p:cNvPr id="798" name=""/>
            <p:cNvGrpSpPr/>
            <p:nvPr/>
          </p:nvGrpSpPr>
          <p:grpSpPr>
            <a:xfrm>
              <a:off x="3429000" y="3581280"/>
              <a:ext cx="2833200" cy="1852200"/>
              <a:chOff x="3429000" y="3581280"/>
              <a:chExt cx="2833200" cy="1852200"/>
            </a:xfrm>
          </p:grpSpPr>
          <p:sp>
            <p:nvSpPr>
              <p:cNvPr id="799" name=""/>
              <p:cNvSpPr/>
              <p:nvPr/>
            </p:nvSpPr>
            <p:spPr>
              <a:xfrm>
                <a:off x="6044760" y="4713120"/>
                <a:ext cx="2174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"/>
              <p:cNvGrpSpPr/>
              <p:nvPr/>
            </p:nvGrpSpPr>
            <p:grpSpPr>
              <a:xfrm>
                <a:off x="3438360" y="3587040"/>
                <a:ext cx="2534760" cy="1846440"/>
                <a:chOff x="3438360" y="3587040"/>
                <a:chExt cx="2534760" cy="18464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655440" y="4093560"/>
                  <a:ext cx="1448640" cy="1339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379400" y="4781520"/>
                  <a:ext cx="159372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V="1">
                  <a:off x="4379400" y="3659040"/>
                  <a:ext cx="360" cy="112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>
                  <a:off x="5140080" y="4093560"/>
                  <a:ext cx="290160" cy="18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 flipV="1">
                  <a:off x="3655080" y="3912480"/>
                  <a:ext cx="724680" cy="86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271040" y="4854240"/>
                  <a:ext cx="181440" cy="18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465880" y="4021200"/>
                  <a:ext cx="217800" cy="18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451760" y="3587040"/>
                  <a:ext cx="2178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438360" y="3948840"/>
                  <a:ext cx="2538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813920" y="3985200"/>
                  <a:ext cx="2538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813920" y="4491360"/>
                  <a:ext cx="3261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886280" y="4383360"/>
                  <a:ext cx="73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995000" y="4311000"/>
                  <a:ext cx="73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V="1">
                  <a:off x="4886280" y="4311000"/>
                  <a:ext cx="109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V="1">
                  <a:off x="4959000" y="4383360"/>
                  <a:ext cx="109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V="1">
                  <a:off x="4379400" y="4419360"/>
                  <a:ext cx="543600" cy="362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V="1">
                  <a:off x="5031360" y="4274640"/>
                  <a:ext cx="109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922640" y="4347000"/>
                  <a:ext cx="109080" cy="72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9" name=""/>
              <p:cNvSpPr/>
              <p:nvPr/>
            </p:nvSpPr>
            <p:spPr>
              <a:xfrm>
                <a:off x="4434840" y="3581280"/>
                <a:ext cx="183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40680" y="4030920"/>
                <a:ext cx="183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429000" y="3939120"/>
                <a:ext cx="183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989680" y="4655880"/>
                <a:ext cx="183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 flipV="1">
              <a:off x="4495320" y="3885840"/>
              <a:ext cx="507960" cy="482760"/>
            </a:xfrm>
            <a:prstGeom prst="line">
              <a:avLst/>
            </a:prstGeom>
            <a:ln w="28440">
              <a:solidFill>
                <a:srgbClr val="eb1f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4572000" y="4410000"/>
              <a:ext cx="380880" cy="22860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24280" y="3657600"/>
              <a:ext cx="76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eb1f03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) 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5206680" y="3590640"/>
              <a:ext cx="74160" cy="74520"/>
              <a:chOff x="5206680" y="3590640"/>
              <a:chExt cx="74160" cy="74520"/>
            </a:xfrm>
          </p:grpSpPr>
          <p:sp>
            <p:nvSpPr>
              <p:cNvPr id="827" name=""/>
              <p:cNvSpPr/>
              <p:nvPr/>
            </p:nvSpPr>
            <p:spPr>
              <a:xfrm flipH="1" flipV="1">
                <a:off x="5212080" y="3590640"/>
                <a:ext cx="68760" cy="4140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5206680" y="3632400"/>
                <a:ext cx="60840" cy="3276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4819680" y="3629160"/>
              <a:ext cx="457200" cy="0"/>
            </a:xfrm>
            <a:prstGeom prst="line">
              <a:avLst/>
            </a:prstGeom>
            <a:ln w="936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19720" y="48769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3366cc"/>
                  </a:solidFill>
                  <a:latin typeface="Vecteur"/>
                </a:rPr>
                <a:t>A(M/</a:t>
              </a:r>
              <a:r>
                <a:rPr b="0" lang="fr-FR" sz="1400" spc="-1" strike="noStrike">
                  <a:solidFill>
                    <a:srgbClr val="3366cc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3366cc"/>
                  </a:solidFill>
                  <a:latin typeface="Arial"/>
                </a:rPr>
                <a:t>)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4920840" y="4838400"/>
              <a:ext cx="74160" cy="74520"/>
              <a:chOff x="4920840" y="4838400"/>
              <a:chExt cx="74160" cy="74520"/>
            </a:xfrm>
          </p:grpSpPr>
          <p:sp>
            <p:nvSpPr>
              <p:cNvPr id="832" name=""/>
              <p:cNvSpPr/>
              <p:nvPr/>
            </p:nvSpPr>
            <p:spPr>
              <a:xfrm flipH="1" flipV="1">
                <a:off x="4926240" y="4838400"/>
                <a:ext cx="68760" cy="4140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920840" y="4880160"/>
                <a:ext cx="60840" cy="3276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4533840" y="4876920"/>
              <a:ext cx="457200" cy="1440"/>
            </a:xfrm>
            <a:prstGeom prst="line">
              <a:avLst/>
            </a:prstGeom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>
            <a:hlinkClick r:id="rId1"/>
          </p:cNvPr>
          <p:cNvSpPr/>
          <p:nvPr/>
        </p:nvSpPr>
        <p:spPr>
          <a:xfrm>
            <a:off x="1575720" y="5943600"/>
            <a:ext cx="61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Times New Roman"/>
              </a:rPr>
              <a:t>http://www.ecligne.net/mecanique/2_cinematique/3_rotation/1_rotation_cour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Exemple%201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685960" cy="2523960"/>
          </a:xfrm>
          <a:prstGeom prst="rect">
            <a:avLst/>
          </a:prstGeom>
          <a:ln w="0">
            <a:noFill/>
          </a:ln>
        </p:spPr>
      </p:pic>
      <p:pic>
        <p:nvPicPr>
          <p:cNvPr id="837" name="Exemple%202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2514600" cy="255276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4191120" y="914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66cc"/>
                </a:solidFill>
                <a:latin typeface="Arial"/>
              </a:rPr>
              <a:t>Exe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Exemple%203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3143160" cy="647640"/>
          </a:xfrm>
          <a:prstGeom prst="rect">
            <a:avLst/>
          </a:prstGeom>
          <a:ln w="0">
            <a:noFill/>
          </a:ln>
        </p:spPr>
      </p:pic>
      <p:pic>
        <p:nvPicPr>
          <p:cNvPr id="840" name="Exemple%204" descr=""/>
          <p:cNvPicPr/>
          <p:nvPr/>
        </p:nvPicPr>
        <p:blipFill>
          <a:blip r:embed="rId4"/>
          <a:stretch/>
        </p:blipFill>
        <p:spPr>
          <a:xfrm>
            <a:off x="5867280" y="4495680"/>
            <a:ext cx="1676520" cy="409680"/>
          </a:xfrm>
          <a:prstGeom prst="rect">
            <a:avLst/>
          </a:prstGeom>
          <a:ln w="0">
            <a:noFill/>
          </a:ln>
        </p:spPr>
      </p:pic>
      <p:pic>
        <p:nvPicPr>
          <p:cNvPr id="841" name="Exemple%205" descr=""/>
          <p:cNvPicPr/>
          <p:nvPr/>
        </p:nvPicPr>
        <p:blipFill>
          <a:blip r:embed="rId5"/>
          <a:stretch/>
        </p:blipFill>
        <p:spPr>
          <a:xfrm>
            <a:off x="5562720" y="5257800"/>
            <a:ext cx="1942920" cy="409680"/>
          </a:xfrm>
          <a:prstGeom prst="rect">
            <a:avLst/>
          </a:prstGeom>
          <a:ln w="0">
            <a:noFill/>
          </a:ln>
        </p:spPr>
      </p:pic>
      <p:pic>
        <p:nvPicPr>
          <p:cNvPr id="842" name="Exemple%206" descr=""/>
          <p:cNvPicPr/>
          <p:nvPr/>
        </p:nvPicPr>
        <p:blipFill>
          <a:blip r:embed="rId6"/>
          <a:stretch/>
        </p:blipFill>
        <p:spPr>
          <a:xfrm>
            <a:off x="5181480" y="5638680"/>
            <a:ext cx="2943360" cy="64800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4952880" y="5257800"/>
            <a:ext cx="3429000" cy="1066680"/>
          </a:xfrm>
          <a:prstGeom prst="rect">
            <a:avLst/>
          </a:prstGeom>
          <a:noFill/>
          <a:ln w="28440">
            <a:solidFill>
              <a:srgbClr val="eb1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28600" y="64764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334120" y="152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952880" y="152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27000" y="-1296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Exemple%207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8077320" cy="459900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228600" y="64764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34120" y="152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952880" y="152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64800" y="3816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17319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5430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601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64764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4120" y="152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52880" y="152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1523880" y="2057400"/>
            <a:ext cx="4572000" cy="2722680"/>
            <a:chOff x="1523880" y="2057400"/>
            <a:chExt cx="4572000" cy="2722680"/>
          </a:xfrm>
        </p:grpSpPr>
        <p:grpSp>
          <p:nvGrpSpPr>
            <p:cNvPr id="860" name=""/>
            <p:cNvGrpSpPr/>
            <p:nvPr/>
          </p:nvGrpSpPr>
          <p:grpSpPr>
            <a:xfrm>
              <a:off x="1981080" y="3048120"/>
              <a:ext cx="2814480" cy="1731960"/>
              <a:chOff x="1981080" y="3048120"/>
              <a:chExt cx="2814480" cy="1731960"/>
            </a:xfrm>
          </p:grpSpPr>
          <p:grpSp>
            <p:nvGrpSpPr>
              <p:cNvPr id="861" name=""/>
              <p:cNvGrpSpPr/>
              <p:nvPr/>
            </p:nvGrpSpPr>
            <p:grpSpPr>
              <a:xfrm>
                <a:off x="1981080" y="3048120"/>
                <a:ext cx="2534760" cy="1593720"/>
                <a:chOff x="1981080" y="3048120"/>
                <a:chExt cx="2534760" cy="159372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2922480" y="4242960"/>
                  <a:ext cx="159336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2922480" y="3120480"/>
                  <a:ext cx="360" cy="11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3682440" y="3555000"/>
                  <a:ext cx="290160" cy="18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2197800" y="3373920"/>
                  <a:ext cx="724680" cy="86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668680" y="4242240"/>
                  <a:ext cx="181440" cy="18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008600" y="3482640"/>
                  <a:ext cx="217800" cy="18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994840" y="3048120"/>
                  <a:ext cx="2178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981080" y="3409920"/>
                  <a:ext cx="2538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356640" y="3446280"/>
                  <a:ext cx="2538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356640" y="3952800"/>
                  <a:ext cx="32652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429360" y="3844800"/>
                  <a:ext cx="7272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537720" y="3772080"/>
                  <a:ext cx="7272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V="1">
                  <a:off x="3429360" y="3772080"/>
                  <a:ext cx="109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3501720" y="3844800"/>
                  <a:ext cx="109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2922480" y="3880440"/>
                  <a:ext cx="543600" cy="362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3574080" y="3736080"/>
                  <a:ext cx="109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465360" y="3808440"/>
                  <a:ext cx="109080" cy="72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922480" y="4242240"/>
                  <a:ext cx="360" cy="217800"/>
                </a:xfrm>
                <a:prstGeom prst="line">
                  <a:avLst/>
                </a:prstGeom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32680" y="4460400"/>
                  <a:ext cx="579600" cy="18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68680" y="4460400"/>
                  <a:ext cx="507240" cy="360"/>
                </a:xfrm>
                <a:prstGeom prst="line">
                  <a:avLst/>
                </a:prstGeom>
                <a:ln w="255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886120" y="4206240"/>
                  <a:ext cx="109080" cy="727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2705040" y="3591000"/>
                  <a:ext cx="615960" cy="39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 flipV="1">
                  <a:off x="3283920" y="3554640"/>
                  <a:ext cx="217800" cy="253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958480" y="3445560"/>
                  <a:ext cx="253800" cy="181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(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6" name=""/>
              <p:cNvSpPr/>
              <p:nvPr/>
            </p:nvSpPr>
            <p:spPr>
              <a:xfrm>
                <a:off x="4541760" y="4562280"/>
                <a:ext cx="253800" cy="21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81080" y="3409920"/>
                <a:ext cx="183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86920" y="3048120"/>
                <a:ext cx="183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972960" y="3445560"/>
                <a:ext cx="2746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541760" y="4562280"/>
                <a:ext cx="183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523880" y="2057400"/>
              <a:ext cx="45720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 position de la masse M est repérée par l’angl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t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u</a:t>
              </a: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est le vecteur directeur de la droite passant par O et qui porte la mass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597680" y="4800600"/>
            <a:ext cx="2583720" cy="771480"/>
            <a:chOff x="1597680" y="4800600"/>
            <a:chExt cx="2583720" cy="771480"/>
          </a:xfrm>
        </p:grpSpPr>
        <p:sp>
          <p:nvSpPr>
            <p:cNvPr id="893" name=""/>
            <p:cNvSpPr/>
            <p:nvPr/>
          </p:nvSpPr>
          <p:spPr>
            <a:xfrm>
              <a:off x="3429000" y="5410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29000" y="5029200"/>
              <a:ext cx="6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5" name=""/>
                <p:cNvSpPr txBox="1"/>
                <p:nvPr/>
              </p:nvSpPr>
              <p:spPr>
                <a:xfrm>
                  <a:off x="3352680" y="5105520"/>
                  <a:ext cx="82872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96" name=""/>
            <p:cNvSpPr/>
            <p:nvPr/>
          </p:nvSpPr>
          <p:spPr>
            <a:xfrm>
              <a:off x="1597680" y="4800600"/>
              <a:ext cx="161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vecteur position s’écrit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990720" y="7621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5°/ Mouvement plan en coordonnées pol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76240" y="-25560"/>
            <a:ext cx="4267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0" y="28954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358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1447920" y="1066680"/>
            <a:ext cx="4821120" cy="413640"/>
            <a:chOff x="1447920" y="1066680"/>
            <a:chExt cx="4821120" cy="413640"/>
          </a:xfrm>
        </p:grpSpPr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5486400" y="1066680"/>
                  <a:ext cx="782640" cy="4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Ω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903" name=""/>
            <p:cNvSpPr/>
            <p:nvPr/>
          </p:nvSpPr>
          <p:spPr>
            <a:xfrm>
              <a:off x="1447920" y="1143000"/>
              <a:ext cx="40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vecteur taux de rotation est égal à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1506600" y="1828800"/>
            <a:ext cx="5313240" cy="609480"/>
            <a:chOff x="1506600" y="1828800"/>
            <a:chExt cx="5313240" cy="609480"/>
          </a:xfrm>
        </p:grpSpPr>
        <mc:AlternateContent>
          <mc:Choice xmlns:a14="http://schemas.microsoft.com/office/drawing/2010/main" Requires="a14">
            <p:sp>
              <p:nvSpPr>
                <p:cNvPr id="905" name=""/>
                <p:cNvSpPr txBox="1"/>
                <p:nvPr/>
              </p:nvSpPr>
              <p:spPr>
                <a:xfrm>
                  <a:off x="4114800" y="1828800"/>
                  <a:ext cx="2705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ℜ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r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906" name=""/>
            <p:cNvSpPr/>
            <p:nvPr/>
          </p:nvSpPr>
          <p:spPr>
            <a:xfrm>
              <a:off x="1506600" y="1981080"/>
              <a:ext cx="120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On a don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540440" y="2743200"/>
            <a:ext cx="5959080" cy="1015920"/>
            <a:chOff x="1540440" y="2743200"/>
            <a:chExt cx="5959080" cy="1015920"/>
          </a:xfrm>
        </p:grpSpPr>
        <mc:AlternateContent>
          <mc:Choice xmlns:a14="http://schemas.microsoft.com/office/drawing/2010/main" Requires="a14">
            <p:sp>
              <p:nvSpPr>
                <p:cNvPr id="908" name=""/>
                <p:cNvSpPr txBox="1"/>
                <p:nvPr/>
              </p:nvSpPr>
              <p:spPr>
                <a:xfrm>
                  <a:off x="2514600" y="3048120"/>
                  <a:ext cx="49849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ℜ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  <m:r>
                            <m:t xml:space="preserve">+</m:t>
                          </m:r>
                          <m:r>
                            <m:t xml:space="preserve">r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(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r</m:t>
                      </m:r>
                      <m:sSup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2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)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909" name=""/>
            <p:cNvSpPr/>
            <p:nvPr/>
          </p:nvSpPr>
          <p:spPr>
            <a:xfrm>
              <a:off x="1540440" y="2743200"/>
              <a:ext cx="4366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t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1376640" y="4495680"/>
            <a:ext cx="6198840" cy="1953360"/>
            <a:chOff x="1376640" y="4495680"/>
            <a:chExt cx="6198840" cy="1953360"/>
          </a:xfrm>
        </p:grpSpPr>
        <mc:AlternateContent>
          <mc:Choice xmlns:a14="http://schemas.microsoft.com/office/drawing/2010/main" Requires="a14">
            <p:sp>
              <p:nvSpPr>
                <p:cNvPr id="911" name=""/>
                <p:cNvSpPr txBox="1"/>
                <p:nvPr/>
              </p:nvSpPr>
              <p:spPr>
                <a:xfrm>
                  <a:off x="2438280" y="4876920"/>
                  <a:ext cx="6858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2" name=""/>
                <p:cNvSpPr txBox="1"/>
                <p:nvPr/>
              </p:nvSpPr>
              <p:spPr>
                <a:xfrm>
                  <a:off x="2514600" y="5562720"/>
                  <a:ext cx="533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3" name=""/>
            <p:cNvSpPr/>
            <p:nvPr/>
          </p:nvSpPr>
          <p:spPr>
            <a:xfrm>
              <a:off x="1376640" y="4495680"/>
              <a:ext cx="619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On peut vérifier que si on considère des mouvements tels que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34120" y="525780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o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09040" y="6095880"/>
              <a:ext cx="59292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0000"/>
                  </a:solidFill>
                  <a:latin typeface="Comic Sans MS"/>
                </a:rPr>
                <a:t>On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etrouve les résultats des deux paragraphes précéd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228600" y="64764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34120" y="152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152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39600" y="-1296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-4495680" y="-6972480"/>
            <a:ext cx="174895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1" name="mimetex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1279800" cy="343080"/>
          </a:xfrm>
          <a:prstGeom prst="rect">
            <a:avLst/>
          </a:prstGeom>
          <a:ln w="0">
            <a:noFill/>
          </a:ln>
        </p:spPr>
      </p:pic>
      <p:pic>
        <p:nvPicPr>
          <p:cNvPr id="922" name="mimetex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2286000" cy="217440"/>
          </a:xfrm>
          <a:prstGeom prst="rect">
            <a:avLst/>
          </a:prstGeom>
          <a:ln w="0">
            <a:noFill/>
          </a:ln>
        </p:spPr>
      </p:pic>
      <p:pic>
        <p:nvPicPr>
          <p:cNvPr id="923" name="mimetex" descr=""/>
          <p:cNvPicPr/>
          <p:nvPr/>
        </p:nvPicPr>
        <p:blipFill>
          <a:blip r:embed="rId3"/>
          <a:stretch/>
        </p:blipFill>
        <p:spPr>
          <a:xfrm>
            <a:off x="1828800" y="3581280"/>
            <a:ext cx="2378160" cy="217440"/>
          </a:xfrm>
          <a:prstGeom prst="rect">
            <a:avLst/>
          </a:prstGeom>
          <a:ln w="0">
            <a:noFill/>
          </a:ln>
        </p:spPr>
      </p:pic>
      <p:pic>
        <p:nvPicPr>
          <p:cNvPr id="924" name="mimetex" descr=""/>
          <p:cNvPicPr/>
          <p:nvPr/>
        </p:nvPicPr>
        <p:blipFill>
          <a:blip r:embed="rId4"/>
          <a:stretch/>
        </p:blipFill>
        <p:spPr>
          <a:xfrm>
            <a:off x="1600200" y="4267080"/>
            <a:ext cx="3292560" cy="343080"/>
          </a:xfrm>
          <a:prstGeom prst="rect">
            <a:avLst/>
          </a:prstGeom>
          <a:ln w="0">
            <a:noFill/>
          </a:ln>
        </p:spPr>
      </p:pic>
      <p:pic>
        <p:nvPicPr>
          <p:cNvPr id="925" name="mimetex" descr=""/>
          <p:cNvPicPr/>
          <p:nvPr/>
        </p:nvPicPr>
        <p:blipFill>
          <a:blip r:embed="rId5"/>
          <a:stretch/>
        </p:blipFill>
        <p:spPr>
          <a:xfrm>
            <a:off x="1523880" y="5867280"/>
            <a:ext cx="3382920" cy="3430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1222920" y="548640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'une part, 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47320" y="388620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érivons tout ce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43000" y="327672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004040" y="2286000"/>
            <a:ext cx="5888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érons ici le cas le plus simple d'un référentiel tournant à 2D en coordonnées pola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(les vecteurs unitaires sont notés avec un ^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193760" y="1295280"/>
            <a:ext cx="469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ns le repère cartésien, les dérivées des vecteurs de bases unitaires sont null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20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1-Dérivée  d’un  vecteur unitai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946240" y="4946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870280" y="46418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70280" y="49467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479760" y="4946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403440" y="46418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2900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3105000" y="4603320"/>
            <a:ext cx="74520" cy="74520"/>
            <a:chOff x="3105000" y="4603320"/>
            <a:chExt cx="74520" cy="74520"/>
          </a:xfrm>
        </p:grpSpPr>
        <p:sp>
          <p:nvSpPr>
            <p:cNvPr id="939" name=""/>
            <p:cNvSpPr/>
            <p:nvPr/>
          </p:nvSpPr>
          <p:spPr>
            <a:xfrm flipH="1" flipV="1">
              <a:off x="3110400" y="4603320"/>
              <a:ext cx="6912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3105000" y="4645080"/>
              <a:ext cx="6120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3022560" y="46418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238560" y="47340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cteur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4008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640080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010280" y="35812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5880" y="28954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00800" y="3429000"/>
            <a:ext cx="533520" cy="380880"/>
          </a:xfrm>
          <a:prstGeom prst="line">
            <a:avLst/>
          </a:prstGeom>
          <a:ln w="9360">
            <a:solidFill>
              <a:srgbClr val="eb1f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5943600" y="3352680"/>
            <a:ext cx="457200" cy="457200"/>
          </a:xfrm>
          <a:prstGeom prst="line">
            <a:avLst/>
          </a:prstGeom>
          <a:ln w="9360">
            <a:solidFill>
              <a:srgbClr val="eb1f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05720" y="3124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0080" y="320040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1400" spc="-1" strike="noStrike" baseline="-25000">
                <a:solidFill>
                  <a:srgbClr val="000000"/>
                </a:solidFill>
                <a:latin typeface="Arial"/>
              </a:rPr>
              <a:t>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63868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cteur"/>
              </a:rPr>
              <a:t>(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011720" y="312408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cteur"/>
              </a:rPr>
              <a:t>(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072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cteur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81480" y="426708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5627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486400" y="4724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5721120" y="4381200"/>
            <a:ext cx="74160" cy="74520"/>
            <a:chOff x="5721120" y="4381200"/>
            <a:chExt cx="74160" cy="74520"/>
          </a:xfrm>
        </p:grpSpPr>
        <p:sp>
          <p:nvSpPr>
            <p:cNvPr id="958" name=""/>
            <p:cNvSpPr/>
            <p:nvPr/>
          </p:nvSpPr>
          <p:spPr>
            <a:xfrm flipH="1" flipV="1">
              <a:off x="5726520" y="4381200"/>
              <a:ext cx="6876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5721120" y="4422960"/>
              <a:ext cx="6084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56386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486400" y="4419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943600" y="45720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cteur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248520" y="45720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cteur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243200" y="35812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cteur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30240" y="28954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cteur"/>
              </a:rPr>
              <a:t>(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592680" y="355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78200" y="34290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6477120" y="5715000"/>
            <a:ext cx="990360" cy="457200"/>
            <a:chOff x="6477120" y="5715000"/>
            <a:chExt cx="990360" cy="457200"/>
          </a:xfrm>
        </p:grpSpPr>
        <p:sp>
          <p:nvSpPr>
            <p:cNvPr id="969" name=""/>
            <p:cNvSpPr/>
            <p:nvPr/>
          </p:nvSpPr>
          <p:spPr>
            <a:xfrm>
              <a:off x="6477120" y="57150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77120" y="579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Reto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209680" y="4648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00320" y="49435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409480" y="4627440"/>
            <a:ext cx="74160" cy="74520"/>
            <a:chOff x="2409480" y="4627440"/>
            <a:chExt cx="74160" cy="74520"/>
          </a:xfrm>
        </p:grpSpPr>
        <p:sp>
          <p:nvSpPr>
            <p:cNvPr id="974" name=""/>
            <p:cNvSpPr/>
            <p:nvPr/>
          </p:nvSpPr>
          <p:spPr>
            <a:xfrm flipH="1" flipV="1">
              <a:off x="2414880" y="4627440"/>
              <a:ext cx="6876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409480" y="4669200"/>
              <a:ext cx="60840" cy="3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2327400" y="4665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09680" y="4952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16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cteur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794120" cy="388908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1371600" y="4322880"/>
            <a:ext cx="5629320" cy="253512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172880" y="457200"/>
            <a:ext cx="3855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3-Représentation </a:t>
            </a:r>
            <a:br>
              <a:rPr sz="3600"/>
            </a:b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    géométriqu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2133720" y="2514600"/>
            <a:ext cx="990360" cy="457200"/>
            <a:chOff x="2133720" y="2514600"/>
            <a:chExt cx="990360" cy="457200"/>
          </a:xfrm>
        </p:grpSpPr>
        <p:sp>
          <p:nvSpPr>
            <p:cNvPr id="983" name=""/>
            <p:cNvSpPr/>
            <p:nvPr/>
          </p:nvSpPr>
          <p:spPr>
            <a:xfrm>
              <a:off x="2133720" y="251460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33720" y="25956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"/>
                </a:rPr>
                <a:t>Reto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0" y="-1230480"/>
            <a:ext cx="91440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éorèmes et formules dérivation / inté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7478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408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4082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763640" y="914400"/>
                <a:ext cx="1357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kd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4267080" y="1523880"/>
                <a:ext cx="17719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1600200" y="2286000"/>
                <a:ext cx="16794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371600" y="3886200"/>
                <a:ext cx="25304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5410080" y="4419720"/>
                <a:ext cx="30369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A9-Intégral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4359240" y="685800"/>
                <a:ext cx="1587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a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5513400" y="3581280"/>
                <a:ext cx="28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5" name="">
            <a:hlinkClick r:id="rId1" action="ppaction://hlinksldjump"/>
          </p:cNvPr>
          <p:cNvSpPr/>
          <p:nvPr/>
        </p:nvSpPr>
        <p:spPr>
          <a:xfrm>
            <a:off x="7696080" y="6095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>
            <a:hlinkClick r:id="rId2" action="ppaction://hlinksldjump"/>
          </p:cNvPr>
          <p:cNvSpPr/>
          <p:nvPr/>
        </p:nvSpPr>
        <p:spPr>
          <a:xfrm>
            <a:off x="7696080" y="61768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t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7000" y="-25560"/>
            <a:ext cx="4191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4764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11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8380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1°/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71960" y="114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6172200"/>
            <a:ext cx="914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On remarque alors que les variables d'espace sont elles-mêmes des fonctions du temps si on suit le point 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dans son mouve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Comic Sans MS"/>
              </a:rPr>
              <a:t>x = f(t) ; y = g (t) ; z = h (t),</a:t>
            </a:r>
            <a:r>
              <a:rPr b="0" lang="fr-FR" sz="1000" spc="-1" strike="noStrike">
                <a:solidFill>
                  <a:srgbClr val="000000"/>
                </a:solidFill>
                <a:latin typeface="Comic Sans MS"/>
              </a:rPr>
              <a:t> ce sont les équations paramétriques du mouvement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862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66680" y="1447920"/>
            <a:ext cx="7772400" cy="4446360"/>
            <a:chOff x="1066680" y="1447920"/>
            <a:chExt cx="7772400" cy="4446360"/>
          </a:xfrm>
        </p:grpSpPr>
        <p:grpSp>
          <p:nvGrpSpPr>
            <p:cNvPr id="142" name=""/>
            <p:cNvGrpSpPr/>
            <p:nvPr/>
          </p:nvGrpSpPr>
          <p:grpSpPr>
            <a:xfrm>
              <a:off x="1066680" y="1752480"/>
              <a:ext cx="2895480" cy="2057400"/>
              <a:chOff x="1066680" y="1752480"/>
              <a:chExt cx="2895480" cy="2057400"/>
            </a:xfrm>
          </p:grpSpPr>
          <p:sp>
            <p:nvSpPr>
              <p:cNvPr id="143" name=""/>
              <p:cNvSpPr/>
              <p:nvPr/>
            </p:nvSpPr>
            <p:spPr>
              <a:xfrm flipV="1">
                <a:off x="2152440" y="1860480"/>
                <a:ext cx="360" cy="129960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152440" y="3159720"/>
                <a:ext cx="1407960" cy="36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307520" y="3159720"/>
                <a:ext cx="844920" cy="650160"/>
              </a:xfrm>
              <a:prstGeom prst="line">
                <a:avLst/>
              </a:prstGeom>
              <a:ln w="9360">
                <a:solidFill>
                  <a:srgbClr val="26262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52440" y="2257560"/>
                <a:ext cx="1005840" cy="360"/>
              </a:xfrm>
              <a:prstGeom prst="line">
                <a:avLst/>
              </a:prstGeom>
              <a:ln w="648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715120" y="2257560"/>
                <a:ext cx="402840" cy="325080"/>
              </a:xfrm>
              <a:prstGeom prst="line">
                <a:avLst/>
              </a:prstGeom>
              <a:ln w="648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755440" y="3123720"/>
                <a:ext cx="402480" cy="325080"/>
              </a:xfrm>
              <a:prstGeom prst="line">
                <a:avLst/>
              </a:prstGeom>
              <a:ln w="648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17600" y="2257560"/>
                <a:ext cx="360" cy="902520"/>
              </a:xfrm>
              <a:prstGeom prst="line">
                <a:avLst/>
              </a:prstGeom>
              <a:ln w="648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15480" y="2582280"/>
                <a:ext cx="360" cy="902880"/>
              </a:xfrm>
              <a:prstGeom prst="line">
                <a:avLst/>
              </a:prstGeom>
              <a:ln w="648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749960" y="2257560"/>
                <a:ext cx="402840" cy="325080"/>
              </a:xfrm>
              <a:prstGeom prst="line">
                <a:avLst/>
              </a:prstGeom>
              <a:ln w="648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50320" y="2582280"/>
                <a:ext cx="1005840" cy="720"/>
              </a:xfrm>
              <a:prstGeom prst="line">
                <a:avLst/>
              </a:prstGeom>
              <a:ln w="648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50320" y="2582280"/>
                <a:ext cx="360" cy="902880"/>
              </a:xfrm>
              <a:prstGeom prst="line">
                <a:avLst/>
              </a:prstGeom>
              <a:ln w="648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50320" y="3484440"/>
                <a:ext cx="1005840" cy="360"/>
              </a:xfrm>
              <a:prstGeom prst="line">
                <a:avLst/>
              </a:prstGeom>
              <a:ln w="648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70920" y="3015360"/>
                <a:ext cx="161280" cy="2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57560" y="2906640"/>
                <a:ext cx="201600" cy="21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80280" y="3123720"/>
                <a:ext cx="281880" cy="25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73040" y="1752480"/>
                <a:ext cx="241920" cy="25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08760" y="3340440"/>
                <a:ext cx="12132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66680" y="3592800"/>
                <a:ext cx="20160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675160" y="2582280"/>
                <a:ext cx="40680" cy="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73920" y="2365920"/>
                <a:ext cx="24192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133720" y="1828800"/>
              <a:ext cx="911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3171960"/>
              <a:ext cx="316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3618000"/>
              <a:ext cx="341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400800" y="1905120"/>
              <a:ext cx="1440" cy="130464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885840" y="3200400"/>
              <a:ext cx="762120" cy="65232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5120" y="2655720"/>
              <a:ext cx="1440" cy="941400"/>
            </a:xfrm>
            <a:prstGeom prst="line">
              <a:avLst/>
            </a:prstGeom>
            <a:ln w="6480">
              <a:solidFill>
                <a:srgbClr val="26262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86240" y="3083040"/>
              <a:ext cx="14436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34320" y="2057400"/>
              <a:ext cx="22212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48040" y="1816200"/>
              <a:ext cx="2178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10160" y="3720960"/>
              <a:ext cx="1904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62280" y="3622680"/>
              <a:ext cx="255600" cy="33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10200" y="2647800"/>
              <a:ext cx="36360" cy="1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81480" y="2438280"/>
              <a:ext cx="2174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4638240" y="2292120"/>
              <a:ext cx="507960" cy="361800"/>
            </a:xfrm>
            <a:prstGeom prst="line">
              <a:avLst/>
            </a:prstGeom>
            <a:ln w="6480">
              <a:solidFill>
                <a:srgbClr val="26262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4595760" y="3184200"/>
              <a:ext cx="868320" cy="61596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19720" y="2133720"/>
              <a:ext cx="1508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92360" y="5494320"/>
              <a:ext cx="14472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4920" y="5495760"/>
              <a:ext cx="3005280" cy="0"/>
            </a:xfrm>
            <a:prstGeom prst="line">
              <a:avLst/>
            </a:prstGeom>
            <a:ln w="12600">
              <a:solidFill>
                <a:srgbClr val="26262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456000" y="4398480"/>
              <a:ext cx="0" cy="1195560"/>
            </a:xfrm>
            <a:prstGeom prst="line">
              <a:avLst/>
            </a:prstGeom>
            <a:ln w="12600">
              <a:solidFill>
                <a:srgbClr val="26262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840040" y="5457960"/>
              <a:ext cx="652320" cy="398160"/>
            </a:xfrm>
            <a:prstGeom prst="line">
              <a:avLst/>
            </a:prstGeom>
            <a:ln w="12600">
              <a:solidFill>
                <a:srgbClr val="26262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00360" y="4797360"/>
              <a:ext cx="195588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5"/>
                  </a:moveTo>
                  <a:lnTo>
                    <a:pt x="117" y="0"/>
                  </a:lnTo>
                  <a:lnTo>
                    <a:pt x="3040" y="0"/>
                  </a:lnTo>
                  <a:lnTo>
                    <a:pt x="3235" y="525"/>
                  </a:lnTo>
                  <a:lnTo>
                    <a:pt x="3527" y="1051"/>
                  </a:lnTo>
                  <a:lnTo>
                    <a:pt x="3722" y="1051"/>
                  </a:lnTo>
                  <a:lnTo>
                    <a:pt x="4112" y="1576"/>
                  </a:lnTo>
                  <a:lnTo>
                    <a:pt x="4404" y="1576"/>
                  </a:lnTo>
                  <a:lnTo>
                    <a:pt x="4404" y="2102"/>
                  </a:lnTo>
                  <a:lnTo>
                    <a:pt x="4599" y="2102"/>
                  </a:lnTo>
                  <a:lnTo>
                    <a:pt x="4794" y="2627"/>
                  </a:lnTo>
                  <a:lnTo>
                    <a:pt x="4989" y="2627"/>
                  </a:lnTo>
                  <a:lnTo>
                    <a:pt x="5184" y="3152"/>
                  </a:lnTo>
                  <a:lnTo>
                    <a:pt x="5671" y="3152"/>
                  </a:lnTo>
                  <a:lnTo>
                    <a:pt x="5866" y="3678"/>
                  </a:lnTo>
                  <a:lnTo>
                    <a:pt x="6060" y="3678"/>
                  </a:lnTo>
                  <a:lnTo>
                    <a:pt x="6937" y="5254"/>
                  </a:lnTo>
                  <a:lnTo>
                    <a:pt x="7132" y="5254"/>
                  </a:lnTo>
                  <a:lnTo>
                    <a:pt x="7522" y="5779"/>
                  </a:lnTo>
                  <a:lnTo>
                    <a:pt x="7717" y="6305"/>
                  </a:lnTo>
                  <a:lnTo>
                    <a:pt x="8691" y="7356"/>
                  </a:lnTo>
                  <a:lnTo>
                    <a:pt x="8886" y="7356"/>
                  </a:lnTo>
                  <a:lnTo>
                    <a:pt x="9471" y="8406"/>
                  </a:lnTo>
                  <a:lnTo>
                    <a:pt x="10445" y="9457"/>
                  </a:lnTo>
                  <a:lnTo>
                    <a:pt x="10835" y="9457"/>
                  </a:lnTo>
                  <a:lnTo>
                    <a:pt x="11224" y="9982"/>
                  </a:lnTo>
                  <a:lnTo>
                    <a:pt x="11419" y="10508"/>
                  </a:lnTo>
                  <a:lnTo>
                    <a:pt x="11614" y="11559"/>
                  </a:lnTo>
                  <a:lnTo>
                    <a:pt x="11906" y="12084"/>
                  </a:lnTo>
                  <a:lnTo>
                    <a:pt x="12101" y="13135"/>
                  </a:lnTo>
                  <a:lnTo>
                    <a:pt x="12394" y="13660"/>
                  </a:lnTo>
                  <a:lnTo>
                    <a:pt x="12589" y="14711"/>
                  </a:lnTo>
                  <a:lnTo>
                    <a:pt x="12881" y="15762"/>
                  </a:lnTo>
                  <a:lnTo>
                    <a:pt x="13271" y="15762"/>
                  </a:lnTo>
                  <a:lnTo>
                    <a:pt x="14050" y="17863"/>
                  </a:lnTo>
                  <a:lnTo>
                    <a:pt x="14342" y="17863"/>
                  </a:lnTo>
                  <a:lnTo>
                    <a:pt x="14635" y="18389"/>
                  </a:lnTo>
                  <a:lnTo>
                    <a:pt x="15609" y="19440"/>
                  </a:lnTo>
                  <a:lnTo>
                    <a:pt x="16583" y="19440"/>
                  </a:lnTo>
                  <a:lnTo>
                    <a:pt x="16973" y="19965"/>
                  </a:lnTo>
                  <a:lnTo>
                    <a:pt x="18532" y="19965"/>
                  </a:lnTo>
                  <a:lnTo>
                    <a:pt x="18824" y="19440"/>
                  </a:lnTo>
                  <a:lnTo>
                    <a:pt x="19117" y="19440"/>
                  </a:lnTo>
                  <a:lnTo>
                    <a:pt x="19311" y="18914"/>
                  </a:lnTo>
                  <a:lnTo>
                    <a:pt x="19506" y="18914"/>
                  </a:lnTo>
                  <a:lnTo>
                    <a:pt x="19701" y="18389"/>
                  </a:lnTo>
                  <a:lnTo>
                    <a:pt x="19799" y="18389"/>
                  </a:lnTo>
                  <a:lnTo>
                    <a:pt x="19799" y="17863"/>
                  </a:lnTo>
                  <a:lnTo>
                    <a:pt x="19896" y="17863"/>
                  </a:lnTo>
                  <a:lnTo>
                    <a:pt x="19896" y="17338"/>
                  </a:lnTo>
                  <a:lnTo>
                    <a:pt x="19994" y="18074"/>
                  </a:lnTo>
                </a:path>
              </a:pathLst>
            </a:custGeom>
            <a:solidFill>
              <a:srgbClr val="ffffff"/>
            </a:solidFill>
            <a:ln w="255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456000" y="4873320"/>
              <a:ext cx="760320" cy="615960"/>
            </a:xfrm>
            <a:prstGeom prst="line">
              <a:avLst/>
            </a:prstGeom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456000" y="5128920"/>
              <a:ext cx="1557360" cy="361800"/>
            </a:xfrm>
            <a:prstGeom prst="line">
              <a:avLst/>
            </a:prstGeom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16320" y="4873680"/>
              <a:ext cx="0" cy="797040"/>
            </a:xfrm>
            <a:prstGeom prst="line">
              <a:avLst/>
            </a:prstGeom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165120" y="5676840"/>
              <a:ext cx="1050840" cy="0"/>
            </a:xfrm>
            <a:prstGeom prst="line">
              <a:avLst/>
            </a:prstGeom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216320" y="5495400"/>
              <a:ext cx="289080" cy="181080"/>
            </a:xfrm>
            <a:prstGeom prst="line">
              <a:avLst/>
            </a:prstGeom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16320" y="4581360"/>
              <a:ext cx="362160" cy="21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M(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75200" y="4908600"/>
              <a:ext cx="3636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M(t’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88200" y="5349960"/>
              <a:ext cx="28872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58960" y="5640480"/>
              <a:ext cx="1098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94200" y="4324320"/>
              <a:ext cx="29052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800600"/>
              <a:ext cx="162900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Trajectoire de 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73360" y="4981680"/>
              <a:ext cx="1158840" cy="0"/>
            </a:xfrm>
            <a:prstGeom prst="line">
              <a:avLst/>
            </a:prstGeom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73720" y="4981680"/>
              <a:ext cx="1440" cy="14580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456000" y="5238720"/>
              <a:ext cx="0" cy="25416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274560" y="5494320"/>
              <a:ext cx="181080" cy="10944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56000" y="5495760"/>
              <a:ext cx="254160" cy="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74920" y="5311800"/>
              <a:ext cx="1447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30560" y="5457960"/>
              <a:ext cx="7308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37080" y="5530680"/>
              <a:ext cx="14436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1447920"/>
              <a:ext cx="3048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1" i="1" lang="fr-FR" sz="1100" spc="-1" strike="noStrike">
                  <a:solidFill>
                    <a:srgbClr val="000000"/>
                  </a:solidFill>
                  <a:latin typeface="Comic Sans MS"/>
                </a:rPr>
                <a:t>en coordonnées cartésiennes M (x, y, z)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5320" y="1676520"/>
              <a:ext cx="304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100" spc="-1" strike="noStrike">
                  <a:solidFill>
                    <a:srgbClr val="000000"/>
                  </a:solidFill>
                  <a:latin typeface="Comic Sans MS"/>
                </a:rPr>
                <a:t>- en coordonnées cylindriques M (r, </a:t>
              </a:r>
              <a:r>
                <a:rPr b="1" lang="fr-FR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fr-FR" sz="1100" spc="-1" strike="noStrike">
                  <a:solidFill>
                    <a:srgbClr val="000000"/>
                  </a:solidFill>
                  <a:latin typeface="Comic Sans MS"/>
                </a:rPr>
                <a:t>, z)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1447920"/>
              <a:ext cx="2895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100" spc="-1" strike="noStrike">
                  <a:solidFill>
                    <a:srgbClr val="000000"/>
                  </a:solidFill>
                  <a:latin typeface="Stylus BT"/>
                </a:rPr>
                <a:t>- </a:t>
              </a:r>
              <a:r>
                <a:rPr b="1" i="1" lang="fr-FR" sz="1100" spc="-1" strike="noStrike">
                  <a:solidFill>
                    <a:srgbClr val="000000"/>
                  </a:solidFill>
                  <a:latin typeface="Comic Sans MS"/>
                </a:rPr>
                <a:t>en coordonnées sphériques M</a:t>
              </a:r>
              <a:r>
                <a:rPr b="1" i="1" lang="fr-FR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1" i="1" lang="fr-FR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</a:t>
              </a:r>
              <a:r>
                <a:rPr b="1" lang="fr-FR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fr-FR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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380988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Vecteur"/>
                </a:rPr>
                <a:t>_OM=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1600" spc="-1" strike="noStrike">
                  <a:solidFill>
                    <a:srgbClr val="000000"/>
                  </a:solidFill>
                  <a:latin typeface="Vecteur"/>
                </a:rPr>
                <a:t>i+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fr-FR" sz="1600" spc="-1" strike="noStrike">
                  <a:solidFill>
                    <a:srgbClr val="000000"/>
                  </a:solidFill>
                  <a:latin typeface="Vecteur"/>
                </a:rPr>
                <a:t>j+z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04840" y="35244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288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2819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57600" y="35812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40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28954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6400" y="35812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3400" y="39625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Vecteur"/>
                </a:rPr>
                <a:t>_OM=</a:t>
              </a: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fr-FR" sz="1600" spc="-1" strike="noStrike">
                  <a:solidFill>
                    <a:srgbClr val="000000"/>
                  </a:solidFill>
                  <a:latin typeface="Vecteur"/>
                </a:rPr>
                <a:t>u+z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714720" y="3191040"/>
              <a:ext cx="762120" cy="65232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467480" y="1905120"/>
              <a:ext cx="1800" cy="130464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7200" y="3179880"/>
              <a:ext cx="1268280" cy="144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415280" y="3136680"/>
              <a:ext cx="868320" cy="61596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476840" y="2286000"/>
              <a:ext cx="600120" cy="90504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8240" y="2577960"/>
              <a:ext cx="38088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2" y="3008"/>
                  </a:moveTo>
                  <a:arcTo wR="10800" hR="10800" stAng="-8029362" swAng="72258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2" y="3008"/>
                  </a:moveTo>
                  <a:arcTo wR="10800" hR="10800" stAng="-8029362" swAng="722581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848640" y="3229200"/>
              <a:ext cx="914040" cy="30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41" y="669"/>
                  </a:moveTo>
                  <a:arcTo wR="10800" hR="10800" stAng="-4184044" swAng="41840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41" y="669"/>
                  </a:moveTo>
                  <a:arcTo wR="10800" hR="10800" stAng="-4184044" swAng="418404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7190640" y="3342600"/>
              <a:ext cx="5713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15" y="8"/>
                  </a:moveTo>
                  <a:arcTo wR="10800" hR="10800" stAng="-5267845" swAng="52678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15" y="8"/>
                  </a:moveTo>
                  <a:arcTo wR="10800" hR="10800" stAng="-5267845" swAng="526784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93000" y="2565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1000" y="2438280"/>
              <a:ext cx="2174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840800" y="2535480"/>
              <a:ext cx="87120" cy="82800"/>
              <a:chOff x="7840800" y="2535480"/>
              <a:chExt cx="87120" cy="8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7862400" y="2535480"/>
                <a:ext cx="5148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840800" y="2548080"/>
                <a:ext cx="8712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7319880" y="35002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67480" y="26668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00800" y="35053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6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534520" y="2819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38880" y="3048120"/>
              <a:ext cx="21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86600" y="396252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_OM=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</a:rPr>
                <a:t>ρ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01000" y="205740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29600" y="350532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18240" y="2286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3505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971880" y="3239280"/>
              <a:ext cx="914040" cy="30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41" y="669"/>
                  </a:moveTo>
                  <a:arcTo wR="10800" hR="10800" stAng="-4184044" swAng="41840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41" y="669"/>
                  </a:moveTo>
                  <a:arcTo wR="10800" hR="10800" stAng="-4184044" swAng="418404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342680" y="3371040"/>
              <a:ext cx="57132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15" y="8"/>
                  </a:moveTo>
                  <a:arcTo wR="10800" hR="10800" stAng="-5267845" swAng="52678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15" y="8"/>
                  </a:moveTo>
                  <a:arcTo wR="10800" hR="10800" stAng="-5267845" swAng="526784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10280" y="3381480"/>
              <a:ext cx="1508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1320" y="2514600"/>
              <a:ext cx="1268280" cy="144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097600" y="2602080"/>
              <a:ext cx="87120" cy="82800"/>
              <a:chOff x="5097600" y="2602080"/>
              <a:chExt cx="87120" cy="82800"/>
            </a:xfrm>
          </p:grpSpPr>
          <p:sp>
            <p:nvSpPr>
              <p:cNvPr id="244" name=""/>
              <p:cNvSpPr/>
              <p:nvPr/>
            </p:nvSpPr>
            <p:spPr>
              <a:xfrm>
                <a:off x="5119200" y="2602080"/>
                <a:ext cx="5148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097600" y="2614680"/>
                <a:ext cx="8712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49600" y="2545200"/>
              <a:ext cx="87480" cy="82800"/>
              <a:chOff x="2649600" y="2545200"/>
              <a:chExt cx="87480" cy="82800"/>
            </a:xfrm>
          </p:grpSpPr>
          <p:sp>
            <p:nvSpPr>
              <p:cNvPr id="247" name=""/>
              <p:cNvSpPr/>
              <p:nvPr/>
            </p:nvSpPr>
            <p:spPr>
              <a:xfrm>
                <a:off x="2671560" y="2545200"/>
                <a:ext cx="518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2649600" y="2557800"/>
                <a:ext cx="8748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V="1">
              <a:off x="4648320" y="1905120"/>
              <a:ext cx="1440" cy="130464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29240" y="3208320"/>
              <a:ext cx="1268280" cy="1440"/>
            </a:xfrm>
            <a:prstGeom prst="line">
              <a:avLst/>
            </a:prstGeom>
            <a:ln w="9360">
              <a:solidFill>
                <a:srgbClr val="26262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90800" y="2000160"/>
              <a:ext cx="15084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09760" y="2905200"/>
              <a:ext cx="1508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23880" y="3276720"/>
              <a:ext cx="1508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7" name=""/>
          <p:cNvGraphicFramePr/>
          <p:nvPr/>
        </p:nvGraphicFramePr>
        <p:xfrm>
          <a:off x="1154160" y="800280"/>
          <a:ext cx="6989760" cy="57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800280"/>
                    <a:ext cx="6989760" cy="57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9" name="">
            <a:hlinkClick r:id="rId3" action="ppaction://hlinksldjump"/>
          </p:cNvPr>
          <p:cNvSpPr/>
          <p:nvPr/>
        </p:nvSpPr>
        <p:spPr>
          <a:xfrm>
            <a:off x="7924680" y="51004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>
            <a:hlinkClick r:id="rId4" action="ppaction://hlinksldjump"/>
          </p:cNvPr>
          <p:cNvSpPr/>
          <p:nvPr/>
        </p:nvSpPr>
        <p:spPr>
          <a:xfrm>
            <a:off x="7924680" y="5181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t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438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A10 Mouvement Rectiligne Unifor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52360" y="63244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1f03"/>
                </a:solidFill>
                <a:latin typeface="Times New Roman"/>
              </a:rPr>
              <a:t>Figure I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Equations%20Mouvement%20rectigne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257800" cy="3638520"/>
          </a:xfrm>
          <a:prstGeom prst="rect">
            <a:avLst/>
          </a:prstGeom>
          <a:ln w="0">
            <a:noFill/>
          </a:ln>
        </p:spPr>
      </p:pic>
      <p:pic>
        <p:nvPicPr>
          <p:cNvPr id="1004" name="Equations%20Mouvement%20rectigne%202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4876920" cy="2911680"/>
          </a:xfrm>
          <a:prstGeom prst="rect">
            <a:avLst/>
          </a:prstGeom>
          <a:ln w="0">
            <a:noFill/>
          </a:ln>
        </p:spPr>
      </p:pic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028840" y="2209320"/>
            <a:ext cx="3855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A11 Mouvement Rectiligne   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       Uniformément accéléré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06" name="Equations%20Mouvement%20rectigne%203" descr=""/>
          <p:cNvPicPr/>
          <p:nvPr/>
        </p:nvPicPr>
        <p:blipFill>
          <a:blip r:embed="rId3"/>
          <a:stretch/>
        </p:blipFill>
        <p:spPr>
          <a:xfrm>
            <a:off x="5181480" y="5638680"/>
            <a:ext cx="3095640" cy="476280"/>
          </a:xfrm>
          <a:prstGeom prst="rect">
            <a:avLst/>
          </a:prstGeom>
          <a:ln w="0">
            <a:noFill/>
          </a:ln>
        </p:spPr>
      </p:pic>
      <p:sp>
        <p:nvSpPr>
          <p:cNvPr id="1007" name="">
            <a:hlinkClick r:id="rId4" action="ppaction://hlinksldjump"/>
          </p:cNvPr>
          <p:cNvSpPr/>
          <p:nvPr/>
        </p:nvSpPr>
        <p:spPr>
          <a:xfrm>
            <a:off x="7848720" y="487692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>
            <a:hlinkClick r:id="rId5" action="ppaction://hlinksldjump"/>
          </p:cNvPr>
          <p:cNvSpPr/>
          <p:nvPr/>
        </p:nvSpPr>
        <p:spPr>
          <a:xfrm>
            <a:off x="7848720" y="49579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t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171440" y="1066680"/>
            <a:ext cx="7972560" cy="4324320"/>
            <a:chOff x="1171440" y="1066680"/>
            <a:chExt cx="7972560" cy="4324320"/>
          </a:xfrm>
        </p:grpSpPr>
        <p:grpSp>
          <p:nvGrpSpPr>
            <p:cNvPr id="255" name=""/>
            <p:cNvGrpSpPr/>
            <p:nvPr/>
          </p:nvGrpSpPr>
          <p:grpSpPr>
            <a:xfrm>
              <a:off x="1171440" y="1066680"/>
              <a:ext cx="7972560" cy="4324320"/>
              <a:chOff x="1171440" y="1066680"/>
              <a:chExt cx="7972560" cy="43243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1171440" y="1066680"/>
                <a:ext cx="7972560" cy="4324320"/>
                <a:chOff x="1171440" y="1066680"/>
                <a:chExt cx="7972560" cy="4324320"/>
              </a:xfrm>
            </p:grpSpPr>
            <p:pic>
              <p:nvPicPr>
                <p:cNvPr id="257" name="Vitesse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71440" y="1066680"/>
                  <a:ext cx="7972560" cy="4324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8" name=""/>
                <p:cNvGrpSpPr/>
                <p:nvPr/>
              </p:nvGrpSpPr>
              <p:grpSpPr>
                <a:xfrm>
                  <a:off x="1447920" y="3625920"/>
                  <a:ext cx="4066560" cy="1289160"/>
                  <a:chOff x="1447920" y="3625920"/>
                  <a:chExt cx="4066560" cy="128916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1447920" y="4800600"/>
                    <a:ext cx="234720" cy="114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673360" y="4730760"/>
                    <a:ext cx="476280" cy="8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89280" y="4737240"/>
                    <a:ext cx="469800" cy="8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4406760" y="4737240"/>
                    <a:ext cx="57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209680" y="3657600"/>
                    <a:ext cx="165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24080" y="4495680"/>
                    <a:ext cx="30492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216160" y="3664080"/>
                    <a:ext cx="19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038120" y="4723920"/>
                    <a:ext cx="79560" cy="75240"/>
                    <a:chOff x="4038120" y="4723920"/>
                    <a:chExt cx="79560" cy="7524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flipV="1">
                      <a:off x="4044600" y="4723920"/>
                      <a:ext cx="73080" cy="41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>
                      <a:off x="4038120" y="4765680"/>
                      <a:ext cx="65160" cy="33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200400" y="4495680"/>
                    <a:ext cx="228600" cy="57240"/>
                    <a:chOff x="3200400" y="4495680"/>
                    <a:chExt cx="228600" cy="572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3200400" y="45273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eb1f0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flipV="1">
                      <a:off x="3371400" y="4495680"/>
                      <a:ext cx="57240" cy="31680"/>
                    </a:xfrm>
                    <a:prstGeom prst="line">
                      <a:avLst/>
                    </a:prstGeom>
                    <a:ln w="9360">
                      <a:solidFill>
                        <a:srgbClr val="eb1f0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flipH="1">
                      <a:off x="3366720" y="4527360"/>
                      <a:ext cx="50760" cy="25560"/>
                    </a:xfrm>
                    <a:prstGeom prst="line">
                      <a:avLst/>
                    </a:prstGeom>
                    <a:ln w="9360">
                      <a:solidFill>
                        <a:srgbClr val="eb1f0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4819680" y="4711680"/>
                    <a:ext cx="78840" cy="74160"/>
                    <a:chOff x="4819680" y="4711680"/>
                    <a:chExt cx="78840" cy="7416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flipH="1" flipV="1">
                      <a:off x="4825800" y="4711680"/>
                      <a:ext cx="72720" cy="4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flipH="1">
                      <a:off x="4819680" y="4752720"/>
                      <a:ext cx="64800" cy="33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2952360" y="4718160"/>
                    <a:ext cx="79560" cy="74160"/>
                    <a:chOff x="2952360" y="4718160"/>
                    <a:chExt cx="79560" cy="741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flipH="1" flipV="1">
                      <a:off x="2958840" y="4718160"/>
                      <a:ext cx="73080" cy="4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>
                      <a:off x="2952360" y="4759200"/>
                      <a:ext cx="65160" cy="33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2324160" y="3625920"/>
                    <a:ext cx="78840" cy="74160"/>
                    <a:chOff x="2324160" y="3625920"/>
                    <a:chExt cx="78840" cy="7416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flipH="1" flipV="1">
                      <a:off x="2330280" y="3625920"/>
                      <a:ext cx="72720" cy="4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>
                      <a:off x="2324160" y="3666960"/>
                      <a:ext cx="64800" cy="33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2" name=""/>
                  <p:cNvSpPr/>
                  <p:nvPr/>
                </p:nvSpPr>
                <p:spPr>
                  <a:xfrm>
                    <a:off x="2743200" y="4756320"/>
                    <a:ext cx="295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759120" y="4762440"/>
                    <a:ext cx="358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406760" y="4749840"/>
                    <a:ext cx="49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315040" y="3778200"/>
                    <a:ext cx="193680" cy="1800"/>
                  </a:xfrm>
                  <a:prstGeom prst="line">
                    <a:avLst/>
                  </a:prstGeom>
                  <a:ln w="9360">
                    <a:solidFill>
                      <a:srgbClr val="eb1f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435640" y="3739680"/>
                    <a:ext cx="78840" cy="75240"/>
                    <a:chOff x="5435640" y="3739680"/>
                    <a:chExt cx="78840" cy="7524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flipH="1" flipV="1">
                      <a:off x="5441760" y="3739680"/>
                      <a:ext cx="72720" cy="41400"/>
                    </a:xfrm>
                    <a:prstGeom prst="line">
                      <a:avLst/>
                    </a:prstGeom>
                    <a:ln w="9360">
                      <a:solidFill>
                        <a:srgbClr val="eb1f0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5435640" y="3781440"/>
                      <a:ext cx="64800" cy="33480"/>
                    </a:xfrm>
                    <a:prstGeom prst="line">
                      <a:avLst/>
                    </a:prstGeom>
                    <a:ln w="9360">
                      <a:solidFill>
                        <a:srgbClr val="eb1f0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1600200" y="4826160"/>
                    <a:ext cx="78840" cy="74160"/>
                    <a:chOff x="1600200" y="4826160"/>
                    <a:chExt cx="78840" cy="7416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flipV="1">
                      <a:off x="1606320" y="4826160"/>
                      <a:ext cx="72720" cy="41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>
                      <a:off x="1600200" y="4867200"/>
                      <a:ext cx="64800" cy="33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2" name=""/>
                  <p:cNvSpPr/>
                  <p:nvPr/>
                </p:nvSpPr>
                <p:spPr>
                  <a:xfrm>
                    <a:off x="1460520" y="4863960"/>
                    <a:ext cx="19368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3" name=""/>
              <p:cNvSpPr/>
              <p:nvPr/>
            </p:nvSpPr>
            <p:spPr>
              <a:xfrm>
                <a:off x="1790640" y="1739520"/>
                <a:ext cx="3812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724040" y="16855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-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15920" y="-38160"/>
            <a:ext cx="4152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11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609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2°/ Vit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71960" y="114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371600" y="5457960"/>
            <a:ext cx="6724800" cy="1400040"/>
            <a:chOff x="1371600" y="5457960"/>
            <a:chExt cx="6724800" cy="1400040"/>
          </a:xfrm>
        </p:grpSpPr>
        <p:pic>
          <p:nvPicPr>
            <p:cNvPr id="301" name="Vecteur_Vitesse" descr=""/>
            <p:cNvPicPr/>
            <p:nvPr/>
          </p:nvPicPr>
          <p:blipFill>
            <a:blip r:embed="rId2"/>
            <a:stretch/>
          </p:blipFill>
          <p:spPr>
            <a:xfrm>
              <a:off x="1371600" y="5457960"/>
              <a:ext cx="672480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5410080" y="6400800"/>
              <a:ext cx="1652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34120" y="6400800"/>
              <a:ext cx="193680" cy="1440"/>
            </a:xfrm>
            <a:prstGeom prst="line">
              <a:avLst/>
            </a:prstGeom>
            <a:ln w="936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454720" y="6362640"/>
              <a:ext cx="78840" cy="74160"/>
              <a:chOff x="5454720" y="6362640"/>
              <a:chExt cx="78840" cy="74160"/>
            </a:xfrm>
          </p:grpSpPr>
          <p:sp>
            <p:nvSpPr>
              <p:cNvPr id="305" name=""/>
              <p:cNvSpPr/>
              <p:nvPr/>
            </p:nvSpPr>
            <p:spPr>
              <a:xfrm flipH="1" flipV="1">
                <a:off x="5460840" y="6362640"/>
                <a:ext cx="72720" cy="4104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454720" y="6403680"/>
                <a:ext cx="64800" cy="3312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07" name="Tangente2" descr=""/>
          <p:cNvPicPr/>
          <p:nvPr/>
        </p:nvPicPr>
        <p:blipFill>
          <a:blip r:embed="rId3"/>
          <a:stretch/>
        </p:blipFill>
        <p:spPr>
          <a:xfrm>
            <a:off x="6477120" y="2743200"/>
            <a:ext cx="182880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15920" y="-6372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11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609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3°/ Accélé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71960" y="114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066680" y="1905120"/>
            <a:ext cx="8077320" cy="1635120"/>
            <a:chOff x="1066680" y="1905120"/>
            <a:chExt cx="8077320" cy="1635120"/>
          </a:xfrm>
        </p:grpSpPr>
        <p:grpSp>
          <p:nvGrpSpPr>
            <p:cNvPr id="314" name=""/>
            <p:cNvGrpSpPr/>
            <p:nvPr/>
          </p:nvGrpSpPr>
          <p:grpSpPr>
            <a:xfrm>
              <a:off x="1066680" y="1905120"/>
              <a:ext cx="8077320" cy="1635120"/>
              <a:chOff x="1066680" y="1905120"/>
              <a:chExt cx="8077320" cy="1635120"/>
            </a:xfrm>
          </p:grpSpPr>
          <p:graphicFrame>
            <p:nvGraphicFramePr>
              <p:cNvPr id="315" name=""/>
              <p:cNvGraphicFramePr/>
              <p:nvPr/>
            </p:nvGraphicFramePr>
            <p:xfrm>
              <a:off x="1066680" y="1905120"/>
              <a:ext cx="8077320" cy="1635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1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66680" y="1905120"/>
                        <a:ext cx="8077320" cy="1635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7" name=""/>
              <p:cNvSpPr/>
              <p:nvPr/>
            </p:nvSpPr>
            <p:spPr>
              <a:xfrm>
                <a:off x="3809880" y="3048120"/>
                <a:ext cx="190800" cy="9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24280" y="2895480"/>
                <a:ext cx="795600" cy="7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43600" y="2895480"/>
                <a:ext cx="60948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6414840" y="2904840"/>
                <a:ext cx="61920" cy="57600"/>
                <a:chOff x="6414840" y="2904840"/>
                <a:chExt cx="61920" cy="57600"/>
              </a:xfrm>
            </p:grpSpPr>
            <p:sp>
              <p:nvSpPr>
                <p:cNvPr id="321" name=""/>
                <p:cNvSpPr/>
                <p:nvPr/>
              </p:nvSpPr>
              <p:spPr>
                <a:xfrm flipH="1" flipV="1">
                  <a:off x="6419520" y="2904840"/>
                  <a:ext cx="5724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6414840" y="2937240"/>
                  <a:ext cx="50760" cy="2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352840" y="2937960"/>
                <a:ext cx="61920" cy="57600"/>
                <a:chOff x="5352840" y="2937960"/>
                <a:chExt cx="61920" cy="57600"/>
              </a:xfrm>
            </p:grpSpPr>
            <p:sp>
              <p:nvSpPr>
                <p:cNvPr id="324" name=""/>
                <p:cNvSpPr/>
                <p:nvPr/>
              </p:nvSpPr>
              <p:spPr>
                <a:xfrm flipH="1" flipV="1">
                  <a:off x="5357520" y="2937960"/>
                  <a:ext cx="5724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5352840" y="2970360"/>
                  <a:ext cx="50760" cy="2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4662360" y="2967120"/>
                <a:ext cx="76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62520" y="293832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54760" y="2209680"/>
                <a:ext cx="12060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40280" y="2165400"/>
                <a:ext cx="3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Vecteur"/>
                  </a:rPr>
                  <a:t>£</a:t>
                </a:r>
                <a:r>
                  <a:rPr b="0" lang="fr-FR" sz="1400" spc="-1" strike="noStrike">
                    <a:solidFill>
                      <a:srgbClr val="ff3399"/>
                    </a:solidFill>
                    <a:latin typeface="Vecteur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809880" y="3124080"/>
                <a:ext cx="12060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708360" y="3003480"/>
                <a:ext cx="3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Vecteur"/>
                  </a:rPr>
                  <a:t>£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391520" y="2133720"/>
              <a:ext cx="13716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52560" y="-5112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11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609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4°/ Mouvement de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71960" y="114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743200" y="1447920"/>
            <a:ext cx="3295440" cy="1008000"/>
            <a:chOff x="2743200" y="1447920"/>
            <a:chExt cx="3295440" cy="1008000"/>
          </a:xfrm>
        </p:grpSpPr>
        <p:sp>
          <p:nvSpPr>
            <p:cNvPr id="339" name=""/>
            <p:cNvSpPr/>
            <p:nvPr/>
          </p:nvSpPr>
          <p:spPr>
            <a:xfrm>
              <a:off x="3033720" y="1573200"/>
              <a:ext cx="0" cy="54288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33720" y="1843200"/>
              <a:ext cx="2208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37280" y="1849320"/>
              <a:ext cx="687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33720" y="1536840"/>
              <a:ext cx="0" cy="6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56200" y="1771560"/>
              <a:ext cx="217440" cy="144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33720" y="220176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33720" y="2363760"/>
              <a:ext cx="123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63840" y="1932120"/>
              <a:ext cx="0" cy="4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43200" y="1536840"/>
              <a:ext cx="2905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5000" y="160812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9480" y="1447920"/>
              <a:ext cx="2174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56120" y="1573200"/>
              <a:ext cx="182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9160" y="2130480"/>
              <a:ext cx="5079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200" spc="-1" strike="noStrike">
                  <a:solidFill>
                    <a:srgbClr val="000000"/>
                  </a:solidFill>
                  <a:latin typeface="Times New Roman"/>
                </a:rPr>
                <a:t>x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28600" y="3657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tylus BT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657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44197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648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8960" y="137160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72600" y="1371600"/>
            <a:ext cx="24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56320" y="135720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270200" y="137160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90720" y="2590920"/>
            <a:ext cx="5486400" cy="916560"/>
            <a:chOff x="990720" y="2590920"/>
            <a:chExt cx="5486400" cy="916560"/>
          </a:xfrm>
        </p:grpSpPr>
        <p:sp>
          <p:nvSpPr>
            <p:cNvPr id="361" name=""/>
            <p:cNvSpPr/>
            <p:nvPr/>
          </p:nvSpPr>
          <p:spPr>
            <a:xfrm>
              <a:off x="2666880" y="3200400"/>
              <a:ext cx="104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M = x(t).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90720" y="2590920"/>
              <a:ext cx="54864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a trajectoire de M est une droit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O i,</a:t>
              </a: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l’absciss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x(t)</a:t>
              </a: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du point caractérise sa positio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vecteur position s'écrit 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028680" y="3171960"/>
              <a:ext cx="61920" cy="56520"/>
              <a:chOff x="3028680" y="3171960"/>
              <a:chExt cx="61920" cy="56520"/>
            </a:xfrm>
          </p:grpSpPr>
          <p:sp>
            <p:nvSpPr>
              <p:cNvPr id="364" name=""/>
              <p:cNvSpPr/>
              <p:nvPr/>
            </p:nvSpPr>
            <p:spPr>
              <a:xfrm flipH="1" flipV="1">
                <a:off x="3033360" y="3171960"/>
                <a:ext cx="57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3028680" y="3203640"/>
                <a:ext cx="5076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743200" y="3200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091520" y="3657600"/>
            <a:ext cx="3328200" cy="916560"/>
            <a:chOff x="1091520" y="3657600"/>
            <a:chExt cx="3328200" cy="916560"/>
          </a:xfrm>
        </p:grpSpPr>
        <p:sp>
          <p:nvSpPr>
            <p:cNvPr id="368" name=""/>
            <p:cNvSpPr/>
            <p:nvPr/>
          </p:nvSpPr>
          <p:spPr>
            <a:xfrm>
              <a:off x="2133720" y="41338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              = x(t).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48120" y="4267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91520" y="3657600"/>
              <a:ext cx="213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vecteur vitesse de M est donc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71800" y="39625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8120" y="4267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414240" y="3933360"/>
              <a:ext cx="61920" cy="57600"/>
              <a:chOff x="3414240" y="3933360"/>
              <a:chExt cx="61920" cy="5760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418920" y="3933360"/>
                <a:ext cx="572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3414240" y="3965760"/>
                <a:ext cx="507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3038400" y="3962520"/>
              <a:ext cx="44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2676240" y="4080960"/>
              <a:ext cx="61920" cy="57600"/>
              <a:chOff x="2676240" y="4080960"/>
              <a:chExt cx="61920" cy="57600"/>
            </a:xfrm>
          </p:grpSpPr>
          <p:sp>
            <p:nvSpPr>
              <p:cNvPr id="378" name=""/>
              <p:cNvSpPr/>
              <p:nvPr/>
            </p:nvSpPr>
            <p:spPr>
              <a:xfrm flipH="1" flipV="1">
                <a:off x="2680920" y="4080960"/>
                <a:ext cx="572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2676240" y="4113360"/>
                <a:ext cx="507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233440" y="4110120"/>
              <a:ext cx="5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40384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914400" y="5867280"/>
            <a:ext cx="7924680" cy="383400"/>
            <a:chOff x="914400" y="5867280"/>
            <a:chExt cx="7924680" cy="383400"/>
          </a:xfrm>
        </p:grpSpPr>
        <p:sp>
          <p:nvSpPr>
            <p:cNvPr id="383" name=""/>
            <p:cNvSpPr/>
            <p:nvPr/>
          </p:nvSpPr>
          <p:spPr>
            <a:xfrm>
              <a:off x="914400" y="5943600"/>
              <a:ext cx="79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Les termes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x(t)</a:t>
              </a: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 et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x(t)</a:t>
              </a: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 signifient que l'on dérive respectivement une fois ou deux fois la fonction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Comic Sans MS"/>
                </a:rPr>
                <a:t>x(t)</a:t>
              </a: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 par rapport au temps.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19280" y="58672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38320" y="5867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°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066680" y="4724280"/>
            <a:ext cx="4572000" cy="1145520"/>
            <a:chOff x="1066680" y="4724280"/>
            <a:chExt cx="4572000" cy="1145520"/>
          </a:xfrm>
        </p:grpSpPr>
        <p:sp>
          <p:nvSpPr>
            <p:cNvPr id="387" name=""/>
            <p:cNvSpPr/>
            <p:nvPr/>
          </p:nvSpPr>
          <p:spPr>
            <a:xfrm>
              <a:off x="1066680" y="4724280"/>
              <a:ext cx="4572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De la même façon, on calcule le vecteur accélération en dérivant la vitess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vecteur accélération est donc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57400" y="541008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A(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                  =                = x(t).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95480" y="5257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V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71800" y="5562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840" y="556272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38480" y="5562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14800" y="55627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t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481280" y="5229360"/>
              <a:ext cx="61920" cy="56520"/>
              <a:chOff x="4481280" y="5229360"/>
              <a:chExt cx="61920" cy="56520"/>
            </a:xfrm>
          </p:grpSpPr>
          <p:sp>
            <p:nvSpPr>
              <p:cNvPr id="395" name=""/>
              <p:cNvSpPr/>
              <p:nvPr/>
            </p:nvSpPr>
            <p:spPr>
              <a:xfrm flipH="1" flipV="1">
                <a:off x="4485960" y="5229360"/>
                <a:ext cx="57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4481280" y="5261040"/>
                <a:ext cx="5076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105440" y="5257800"/>
              <a:ext cx="44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00680" y="5229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43360" y="531504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°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3595320" y="5219280"/>
              <a:ext cx="61920" cy="57600"/>
              <a:chOff x="3595320" y="5219280"/>
              <a:chExt cx="61920" cy="57600"/>
            </a:xfrm>
          </p:grpSpPr>
          <p:sp>
            <p:nvSpPr>
              <p:cNvPr id="401" name=""/>
              <p:cNvSpPr/>
              <p:nvPr/>
            </p:nvSpPr>
            <p:spPr>
              <a:xfrm flipH="1" flipV="1">
                <a:off x="3600000" y="5219280"/>
                <a:ext cx="572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595320" y="5251680"/>
                <a:ext cx="507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3029040" y="524844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2642760" y="5381280"/>
              <a:ext cx="61920" cy="57600"/>
              <a:chOff x="2642760" y="5381280"/>
              <a:chExt cx="61920" cy="57600"/>
            </a:xfrm>
          </p:grpSpPr>
          <p:sp>
            <p:nvSpPr>
              <p:cNvPr id="405" name=""/>
              <p:cNvSpPr/>
              <p:nvPr/>
            </p:nvSpPr>
            <p:spPr>
              <a:xfrm flipH="1" flipV="1">
                <a:off x="2647440" y="5381280"/>
                <a:ext cx="572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2642760" y="5413680"/>
                <a:ext cx="507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2171880" y="5410080"/>
              <a:ext cx="51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371600" y="198108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3581280"/>
            <a:ext cx="571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33720" y="20574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1"/>
          </p:cNvPr>
          <p:cNvSpPr/>
          <p:nvPr/>
        </p:nvSpPr>
        <p:spPr>
          <a:xfrm>
            <a:off x="1081440" y="6248520"/>
            <a:ext cx="78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cc"/>
                </a:solidFill>
                <a:latin typeface="Times New Roman"/>
              </a:rPr>
              <a:t>http://www.ecligne.net/mecanique/2_cinematique/2_translation/1_translation_base_cour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360" y="-76320"/>
            <a:ext cx="4190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1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71960" y="114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7905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ouvement de translation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267080" y="762120"/>
            <a:ext cx="1371600" cy="1097640"/>
            <a:chOff x="4267080" y="762120"/>
            <a:chExt cx="1371600" cy="1097640"/>
          </a:xfrm>
        </p:grpSpPr>
        <p:sp>
          <p:nvSpPr>
            <p:cNvPr id="418" name=""/>
            <p:cNvSpPr/>
            <p:nvPr/>
          </p:nvSpPr>
          <p:spPr>
            <a:xfrm>
              <a:off x="4343400" y="790560"/>
              <a:ext cx="104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M = x(t)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704840" y="762120"/>
              <a:ext cx="61920" cy="56520"/>
              <a:chOff x="4704840" y="762120"/>
              <a:chExt cx="61920" cy="56520"/>
            </a:xfrm>
          </p:grpSpPr>
          <p:sp>
            <p:nvSpPr>
              <p:cNvPr id="420" name=""/>
              <p:cNvSpPr/>
              <p:nvPr/>
            </p:nvSpPr>
            <p:spPr>
              <a:xfrm flipH="1" flipV="1">
                <a:off x="4709520" y="762120"/>
                <a:ext cx="57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4704840" y="793800"/>
                <a:ext cx="5076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419720" y="790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080" y="1171440"/>
              <a:ext cx="129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x(t)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809600" y="1118880"/>
              <a:ext cx="61920" cy="57600"/>
              <a:chOff x="4809600" y="1118880"/>
              <a:chExt cx="61920" cy="57600"/>
            </a:xfrm>
          </p:grpSpPr>
          <p:sp>
            <p:nvSpPr>
              <p:cNvPr id="425" name=""/>
              <p:cNvSpPr/>
              <p:nvPr/>
            </p:nvSpPr>
            <p:spPr>
              <a:xfrm flipH="1" flipV="1">
                <a:off x="4814280" y="1118880"/>
                <a:ext cx="572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4809600" y="1151280"/>
                <a:ext cx="507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4367160" y="1147680"/>
              <a:ext cx="5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29200" y="10764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7080" y="15526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A(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x(t)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29200" y="1476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°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901760" y="1521000"/>
              <a:ext cx="61920" cy="56520"/>
              <a:chOff x="4901760" y="1521000"/>
              <a:chExt cx="61920" cy="56520"/>
            </a:xfrm>
          </p:grpSpPr>
          <p:sp>
            <p:nvSpPr>
              <p:cNvPr id="432" name=""/>
              <p:cNvSpPr/>
              <p:nvPr/>
            </p:nvSpPr>
            <p:spPr>
              <a:xfrm flipH="1" flipV="1">
                <a:off x="4906440" y="1521000"/>
                <a:ext cx="57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4901760" y="1552680"/>
                <a:ext cx="5076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4425840" y="154620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>
            <a:hlinkClick r:id="rId2" action="ppaction://hlinksldjump"/>
          </p:cNvPr>
          <p:cNvSpPr/>
          <p:nvPr/>
        </p:nvSpPr>
        <p:spPr>
          <a:xfrm>
            <a:off x="1651680" y="2184480"/>
            <a:ext cx="23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ouvement de translation uniform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495680" y="2974680"/>
            <a:ext cx="1752840" cy="365040"/>
            <a:chOff x="4495680" y="2974680"/>
            <a:chExt cx="1752840" cy="365040"/>
          </a:xfrm>
        </p:grpSpPr>
        <p:sp>
          <p:nvSpPr>
            <p:cNvPr id="437" name=""/>
            <p:cNvSpPr/>
            <p:nvPr/>
          </p:nvSpPr>
          <p:spPr>
            <a:xfrm>
              <a:off x="4495680" y="3003480"/>
              <a:ext cx="1752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M = (v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 + 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857480" y="2974680"/>
              <a:ext cx="61920" cy="57600"/>
              <a:chOff x="4857480" y="2974680"/>
              <a:chExt cx="61920" cy="57600"/>
            </a:xfrm>
          </p:grpSpPr>
          <p:sp>
            <p:nvSpPr>
              <p:cNvPr id="439" name=""/>
              <p:cNvSpPr/>
              <p:nvPr/>
            </p:nvSpPr>
            <p:spPr>
              <a:xfrm flipH="1" flipV="1">
                <a:off x="4862160" y="2974680"/>
                <a:ext cx="572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4857480" y="3007080"/>
                <a:ext cx="507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4572000" y="3003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495680" y="2569680"/>
            <a:ext cx="1295640" cy="389160"/>
            <a:chOff x="4495680" y="2569680"/>
            <a:chExt cx="1295640" cy="389160"/>
          </a:xfrm>
        </p:grpSpPr>
        <p:sp>
          <p:nvSpPr>
            <p:cNvPr id="443" name=""/>
            <p:cNvSpPr/>
            <p:nvPr/>
          </p:nvSpPr>
          <p:spPr>
            <a:xfrm>
              <a:off x="4495680" y="2622600"/>
              <a:ext cx="129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v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038200" y="2569680"/>
              <a:ext cx="61920" cy="57600"/>
              <a:chOff x="5038200" y="2569680"/>
              <a:chExt cx="61920" cy="57600"/>
            </a:xfrm>
          </p:grpSpPr>
          <p:sp>
            <p:nvSpPr>
              <p:cNvPr id="445" name=""/>
              <p:cNvSpPr/>
              <p:nvPr/>
            </p:nvSpPr>
            <p:spPr>
              <a:xfrm flipH="1" flipV="1">
                <a:off x="5042880" y="2569680"/>
                <a:ext cx="572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038200" y="2602080"/>
                <a:ext cx="507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595760" y="2598840"/>
              <a:ext cx="5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495680" y="2133720"/>
            <a:ext cx="1371600" cy="338760"/>
            <a:chOff x="4495680" y="2133720"/>
            <a:chExt cx="1371600" cy="338760"/>
          </a:xfrm>
        </p:grpSpPr>
        <p:sp>
          <p:nvSpPr>
            <p:cNvPr id="449" name=""/>
            <p:cNvSpPr/>
            <p:nvPr/>
          </p:nvSpPr>
          <p:spPr>
            <a:xfrm>
              <a:off x="4495680" y="21654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Vecteur"/>
                </a:rPr>
                <a:t>A(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M/</a:t>
              </a:r>
              <a:r>
                <a:rPr b="0" lang="fr-FR" sz="1400" spc="-1" strike="noStrike">
                  <a:solidFill>
                    <a:srgbClr val="eb1f03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) = 0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5130360" y="2133720"/>
              <a:ext cx="61920" cy="56520"/>
              <a:chOff x="5130360" y="2133720"/>
              <a:chExt cx="61920" cy="56520"/>
            </a:xfrm>
          </p:grpSpPr>
          <p:sp>
            <p:nvSpPr>
              <p:cNvPr id="451" name=""/>
              <p:cNvSpPr/>
              <p:nvPr/>
            </p:nvSpPr>
            <p:spPr>
              <a:xfrm flipH="1" flipV="1">
                <a:off x="5135040" y="2133720"/>
                <a:ext cx="57240" cy="3168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5130360" y="2165400"/>
                <a:ext cx="50760" cy="2484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4654440" y="2158920"/>
              <a:ext cx="519120" cy="0"/>
            </a:xfrm>
            <a:prstGeom prst="line">
              <a:avLst/>
            </a:prstGeom>
            <a:ln w="936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5428800" y="2139480"/>
              <a:ext cx="61920" cy="57600"/>
              <a:chOff x="5428800" y="2139480"/>
              <a:chExt cx="61920" cy="57600"/>
            </a:xfrm>
          </p:grpSpPr>
          <p:sp>
            <p:nvSpPr>
              <p:cNvPr id="455" name=""/>
              <p:cNvSpPr/>
              <p:nvPr/>
            </p:nvSpPr>
            <p:spPr>
              <a:xfrm flipH="1" flipV="1">
                <a:off x="5433480" y="2139480"/>
                <a:ext cx="57240" cy="3204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5428800" y="2171880"/>
                <a:ext cx="50760" cy="2520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5334120" y="2165400"/>
              <a:ext cx="137880" cy="0"/>
            </a:xfrm>
            <a:prstGeom prst="line">
              <a:avLst/>
            </a:prstGeom>
            <a:ln w="936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362320" y="2971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00"/>
                </a:solidFill>
                <a:latin typeface="Arial"/>
              </a:rPr>
              <a:t>En intég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rId3" action="ppaction://hlinksldjump"/>
          </p:cNvPr>
          <p:cNvSpPr/>
          <p:nvPr/>
        </p:nvSpPr>
        <p:spPr>
          <a:xfrm>
            <a:off x="7391520" y="5638680"/>
            <a:ext cx="1143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En savoir p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61400" y="3886200"/>
            <a:ext cx="321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ouvement de translation uniformément accéléré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181480" y="4328640"/>
            <a:ext cx="1981440" cy="389160"/>
            <a:chOff x="5181480" y="4328640"/>
            <a:chExt cx="1981440" cy="389160"/>
          </a:xfrm>
        </p:grpSpPr>
        <p:sp>
          <p:nvSpPr>
            <p:cNvPr id="462" name=""/>
            <p:cNvSpPr/>
            <p:nvPr/>
          </p:nvSpPr>
          <p:spPr>
            <a:xfrm>
              <a:off x="5181480" y="4381560"/>
              <a:ext cx="1981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V(M/</a:t>
              </a:r>
              <a:r>
                <a:rPr b="0" lang="fr-FR" sz="1400" spc="-1" strike="noStrike">
                  <a:solidFill>
                    <a:srgbClr val="000000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 = (a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.t + v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5724000" y="4328640"/>
              <a:ext cx="61920" cy="57600"/>
              <a:chOff x="5724000" y="4328640"/>
              <a:chExt cx="61920" cy="57600"/>
            </a:xfrm>
          </p:grpSpPr>
          <p:sp>
            <p:nvSpPr>
              <p:cNvPr id="464" name=""/>
              <p:cNvSpPr/>
              <p:nvPr/>
            </p:nvSpPr>
            <p:spPr>
              <a:xfrm flipH="1" flipV="1">
                <a:off x="5728680" y="4328640"/>
                <a:ext cx="572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724000" y="4361040"/>
                <a:ext cx="507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5281560" y="4357800"/>
              <a:ext cx="5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181480" y="3854160"/>
            <a:ext cx="1371600" cy="368280"/>
            <a:chOff x="5181480" y="3854160"/>
            <a:chExt cx="1371600" cy="368280"/>
          </a:xfrm>
        </p:grpSpPr>
        <p:sp>
          <p:nvSpPr>
            <p:cNvPr id="468" name=""/>
            <p:cNvSpPr/>
            <p:nvPr/>
          </p:nvSpPr>
          <p:spPr>
            <a:xfrm>
              <a:off x="5181480" y="3886200"/>
              <a:ext cx="1371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Vecteur"/>
                </a:rPr>
                <a:t>A(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M/</a:t>
              </a:r>
              <a:r>
                <a:rPr b="0" lang="fr-FR" sz="1400" spc="-1" strike="noStrike">
                  <a:solidFill>
                    <a:srgbClr val="eb1f03"/>
                  </a:solidFill>
                  <a:latin typeface="CommercialScript BT"/>
                </a:rPr>
                <a:t>R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) = a</a:t>
              </a:r>
              <a:r>
                <a:rPr b="0" lang="fr-FR" sz="1400" spc="-1" strike="noStrike" baseline="-25000">
                  <a:solidFill>
                    <a:srgbClr val="eb1f03"/>
                  </a:solidFill>
                  <a:latin typeface="Arial"/>
                </a:rPr>
                <a:t>0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.</a:t>
              </a:r>
              <a:r>
                <a:rPr b="0" lang="fr-FR" sz="1400" spc="-1" strike="noStrike">
                  <a:solidFill>
                    <a:srgbClr val="eb1f03"/>
                  </a:solidFill>
                  <a:latin typeface="Vecteur"/>
                </a:rPr>
                <a:t>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5816160" y="3854160"/>
              <a:ext cx="61920" cy="57600"/>
              <a:chOff x="5816160" y="3854160"/>
              <a:chExt cx="61920" cy="57600"/>
            </a:xfrm>
          </p:grpSpPr>
          <p:sp>
            <p:nvSpPr>
              <p:cNvPr id="470" name=""/>
              <p:cNvSpPr/>
              <p:nvPr/>
            </p:nvSpPr>
            <p:spPr>
              <a:xfrm flipH="1" flipV="1">
                <a:off x="5820840" y="3854160"/>
                <a:ext cx="57240" cy="3204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5816160" y="3886560"/>
                <a:ext cx="50760" cy="25200"/>
              </a:xfrm>
              <a:prstGeom prst="line">
                <a:avLst/>
              </a:prstGeom>
              <a:ln w="9360">
                <a:solidFill>
                  <a:srgbClr val="eb1f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5340240" y="3879720"/>
              <a:ext cx="519120" cy="0"/>
            </a:xfrm>
            <a:prstGeom prst="line">
              <a:avLst/>
            </a:prstGeom>
            <a:ln w="9360">
              <a:solidFill>
                <a:srgbClr val="eb1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029200" y="4714920"/>
            <a:ext cx="2286000" cy="614880"/>
            <a:chOff x="5029200" y="4714920"/>
            <a:chExt cx="2286000" cy="614880"/>
          </a:xfrm>
        </p:grpSpPr>
        <p:sp>
          <p:nvSpPr>
            <p:cNvPr id="474" name=""/>
            <p:cNvSpPr/>
            <p:nvPr/>
          </p:nvSpPr>
          <p:spPr>
            <a:xfrm>
              <a:off x="5029200" y="4876920"/>
              <a:ext cx="2286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M = (          +  v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 + 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5390640" y="4847760"/>
              <a:ext cx="61920" cy="57600"/>
              <a:chOff x="5390640" y="4847760"/>
              <a:chExt cx="61920" cy="57600"/>
            </a:xfrm>
          </p:grpSpPr>
          <p:sp>
            <p:nvSpPr>
              <p:cNvPr id="476" name=""/>
              <p:cNvSpPr/>
              <p:nvPr/>
            </p:nvSpPr>
            <p:spPr>
              <a:xfrm flipH="1" flipV="1">
                <a:off x="5395320" y="4847760"/>
                <a:ext cx="5724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5390640" y="4880160"/>
                <a:ext cx="507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5105520" y="4876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15000" y="5029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05640" y="47149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.t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91320" y="50227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971800" y="43815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00"/>
                </a:solidFill>
                <a:latin typeface="Arial"/>
              </a:rPr>
              <a:t>En intég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4876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00"/>
                </a:solidFill>
                <a:latin typeface="Arial"/>
              </a:rPr>
              <a:t>En intég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282680" y="5562720"/>
            <a:ext cx="4784760" cy="520200"/>
            <a:chOff x="1282680" y="5562720"/>
            <a:chExt cx="4784760" cy="520200"/>
          </a:xfrm>
        </p:grpSpPr>
        <p:pic>
          <p:nvPicPr>
            <p:cNvPr id="485" name="Equations%20Mouvement%20rectigne%203" descr=""/>
            <p:cNvPicPr/>
            <p:nvPr/>
          </p:nvPicPr>
          <p:blipFill>
            <a:blip r:embed="rId5"/>
            <a:stretch/>
          </p:blipFill>
          <p:spPr>
            <a:xfrm>
              <a:off x="2971800" y="5562720"/>
              <a:ext cx="30956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282680" y="556272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     </a:t>
              </a: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Equation supplémenta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733920" y="2895480"/>
            <a:ext cx="400680" cy="457200"/>
            <a:chOff x="3733920" y="2895480"/>
            <a:chExt cx="400680" cy="457200"/>
          </a:xfrm>
        </p:grpSpPr>
        <p:sp>
          <p:nvSpPr>
            <p:cNvPr id="488" name="">
              <a:hlinkClick r:id="rId6" action="ppaction://hlinksldjump"/>
            </p:cNvPr>
            <p:cNvSpPr/>
            <p:nvPr/>
          </p:nvSpPr>
          <p:spPr>
            <a:xfrm>
              <a:off x="3733920" y="28954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7" action="ppaction://hlinksldjump"/>
            </p:cNvPr>
            <p:cNvSpPr/>
            <p:nvPr/>
          </p:nvSpPr>
          <p:spPr>
            <a:xfrm>
              <a:off x="3737520" y="2971800"/>
              <a:ext cx="3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Vecteur"/>
                </a:rPr>
                <a:t>A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757640" y="2895480"/>
            <a:ext cx="499320" cy="457200"/>
            <a:chOff x="7757640" y="2895480"/>
            <a:chExt cx="499320" cy="457200"/>
          </a:xfrm>
        </p:grpSpPr>
        <p:sp>
          <p:nvSpPr>
            <p:cNvPr id="491" name="">
              <a:hlinkClick r:id="rId8" action="ppaction://hlinksldjump"/>
            </p:cNvPr>
            <p:cNvSpPr/>
            <p:nvPr/>
          </p:nvSpPr>
          <p:spPr>
            <a:xfrm>
              <a:off x="7823160" y="289548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>
              <a:hlinkClick r:id="rId9" action="ppaction://hlinksldjump"/>
            </p:cNvPr>
            <p:cNvSpPr/>
            <p:nvPr/>
          </p:nvSpPr>
          <p:spPr>
            <a:xfrm>
              <a:off x="7757640" y="297180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Vecteur"/>
                </a:rPr>
                <a:t>A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741080" y="4800600"/>
            <a:ext cx="499320" cy="457200"/>
            <a:chOff x="7741080" y="4800600"/>
            <a:chExt cx="499320" cy="457200"/>
          </a:xfrm>
        </p:grpSpPr>
        <p:sp>
          <p:nvSpPr>
            <p:cNvPr id="494" name="">
              <a:hlinkClick r:id="rId10" action="ppaction://hlinksldjump"/>
            </p:cNvPr>
            <p:cNvSpPr/>
            <p:nvPr/>
          </p:nvSpPr>
          <p:spPr>
            <a:xfrm>
              <a:off x="7823160" y="480060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>
              <a:hlinkClick r:id="rId11" action="ppaction://hlinksldjump"/>
            </p:cNvPr>
            <p:cNvSpPr/>
            <p:nvPr/>
          </p:nvSpPr>
          <p:spPr>
            <a:xfrm>
              <a:off x="7741080" y="487656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Vecteur"/>
                </a:rPr>
                <a:t>A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419720" y="4317840"/>
            <a:ext cx="400680" cy="457200"/>
            <a:chOff x="4419720" y="4317840"/>
            <a:chExt cx="400680" cy="457200"/>
          </a:xfrm>
        </p:grpSpPr>
        <p:sp>
          <p:nvSpPr>
            <p:cNvPr id="497" name="">
              <a:hlinkClick r:id="rId12" action="ppaction://hlinksldjump"/>
            </p:cNvPr>
            <p:cNvSpPr/>
            <p:nvPr/>
          </p:nvSpPr>
          <p:spPr>
            <a:xfrm>
              <a:off x="4419720" y="431784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23320" y="4394160"/>
              <a:ext cx="3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Vecteur"/>
                </a:rPr>
                <a:t>A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419720" y="4800600"/>
            <a:ext cx="400680" cy="457200"/>
            <a:chOff x="4419720" y="4800600"/>
            <a:chExt cx="400680" cy="457200"/>
          </a:xfrm>
        </p:grpSpPr>
        <p:sp>
          <p:nvSpPr>
            <p:cNvPr id="500" name=""/>
            <p:cNvSpPr/>
            <p:nvPr/>
          </p:nvSpPr>
          <p:spPr>
            <a:xfrm>
              <a:off x="4419720" y="4800600"/>
              <a:ext cx="38088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23320" y="4876920"/>
              <a:ext cx="3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Vecteur"/>
                </a:rPr>
                <a:t>A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28600" y="68580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34120" y="127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1270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129528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gle de rotation; vitesse et accélération angul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Angle%20de%20rotation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3295800" cy="2590920"/>
          </a:xfrm>
          <a:prstGeom prst="rect">
            <a:avLst/>
          </a:prstGeom>
          <a:ln w="0">
            <a:noFill/>
          </a:ln>
        </p:spPr>
      </p:pic>
      <p:pic>
        <p:nvPicPr>
          <p:cNvPr id="507" name="Vitesse%20instantan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10536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Vitesse%20moyenne" descr=""/>
          <p:cNvPicPr/>
          <p:nvPr/>
        </p:nvPicPr>
        <p:blipFill>
          <a:blip r:embed="rId3"/>
          <a:stretch/>
        </p:blipFill>
        <p:spPr>
          <a:xfrm>
            <a:off x="5105520" y="3200400"/>
            <a:ext cx="3714480" cy="6951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4860720" y="2830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ye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5120" y="380988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stanta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Accélération1" descr=""/>
          <p:cNvPicPr/>
          <p:nvPr/>
        </p:nvPicPr>
        <p:blipFill>
          <a:blip r:embed="rId4"/>
          <a:stretch/>
        </p:blipFill>
        <p:spPr>
          <a:xfrm>
            <a:off x="1676520" y="5715000"/>
            <a:ext cx="639108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2" name=""/>
          <p:cNvGrpSpPr/>
          <p:nvPr/>
        </p:nvGrpSpPr>
        <p:grpSpPr>
          <a:xfrm>
            <a:off x="4724280" y="1676520"/>
            <a:ext cx="2971800" cy="398880"/>
            <a:chOff x="4724280" y="1676520"/>
            <a:chExt cx="2971800" cy="398880"/>
          </a:xfrm>
        </p:grpSpPr>
        <p:sp>
          <p:nvSpPr>
            <p:cNvPr id="513" name=""/>
            <p:cNvSpPr/>
            <p:nvPr/>
          </p:nvSpPr>
          <p:spPr>
            <a:xfrm>
              <a:off x="4724280" y="175248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3366cc"/>
                  </a:solidFill>
                  <a:latin typeface="Arial"/>
                </a:rPr>
                <a:t>Angle de ro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24480" y="1676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34320" y="1714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9900"/>
                  </a:solidFill>
                  <a:latin typeface="Arial"/>
                </a:rPr>
                <a:t>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24280" y="2209680"/>
            <a:ext cx="2997360" cy="398880"/>
            <a:chOff x="4724280" y="2209680"/>
            <a:chExt cx="2997360" cy="398880"/>
          </a:xfrm>
        </p:grpSpPr>
        <p:sp>
          <p:nvSpPr>
            <p:cNvPr id="517" name=""/>
            <p:cNvSpPr/>
            <p:nvPr/>
          </p:nvSpPr>
          <p:spPr>
            <a:xfrm>
              <a:off x="632448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24280" y="22860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3366cc"/>
                  </a:solidFill>
                  <a:latin typeface="Arial"/>
                </a:rPr>
                <a:t>Vitesse angula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9520" y="224784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9900"/>
                  </a:solidFill>
                  <a:latin typeface="Arial"/>
                </a:rPr>
                <a:t>rd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600200" y="5181480"/>
            <a:ext cx="3174840" cy="398880"/>
            <a:chOff x="1600200" y="5181480"/>
            <a:chExt cx="3174840" cy="398880"/>
          </a:xfrm>
        </p:grpSpPr>
        <p:sp>
          <p:nvSpPr>
            <p:cNvPr id="521" name=""/>
            <p:cNvSpPr/>
            <p:nvPr/>
          </p:nvSpPr>
          <p:spPr>
            <a:xfrm>
              <a:off x="3505320" y="51814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00200" y="5257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3366cc"/>
                  </a:solidFill>
                  <a:latin typeface="Arial"/>
                </a:rPr>
                <a:t>Accélération angula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13280" y="521964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9900"/>
                  </a:solidFill>
                  <a:latin typeface="Arial"/>
                </a:rPr>
                <a:t>rd/s</a:t>
              </a:r>
              <a:r>
                <a:rPr b="1" i="1" lang="fr-FR" sz="1600" spc="-1" strike="noStrike" baseline="30000">
                  <a:solidFill>
                    <a:srgbClr val="00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1800" y="-360"/>
            <a:ext cx="417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7621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5°/ Mouvement de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28600" y="68580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4120" y="127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1270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1440" y="3816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0" name="MCU1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600720" cy="1514520"/>
          </a:xfrm>
          <a:prstGeom prst="rect">
            <a:avLst/>
          </a:prstGeom>
          <a:ln w="0">
            <a:noFill/>
          </a:ln>
        </p:spPr>
      </p:pic>
      <p:pic>
        <p:nvPicPr>
          <p:cNvPr id="531" name="MCU2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495680" cy="14922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066680" y="7621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uvement de rotation unifo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MCUV" descr=""/>
          <p:cNvPicPr/>
          <p:nvPr/>
        </p:nvPicPr>
        <p:blipFill>
          <a:blip r:embed="rId3"/>
          <a:stretch/>
        </p:blipFill>
        <p:spPr>
          <a:xfrm>
            <a:off x="1219320" y="4191120"/>
            <a:ext cx="7219800" cy="20001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143000" y="36576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uvement de rotation uniformément vari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66680" y="2438280"/>
            <a:ext cx="91440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50418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56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52880" y="1523880"/>
            <a:ext cx="5137920" cy="2385720"/>
            <a:chOff x="1352880" y="1523880"/>
            <a:chExt cx="5137920" cy="2385720"/>
          </a:xfrm>
        </p:grpSpPr>
        <p:grpSp>
          <p:nvGrpSpPr>
            <p:cNvPr id="539" name=""/>
            <p:cNvGrpSpPr/>
            <p:nvPr/>
          </p:nvGrpSpPr>
          <p:grpSpPr>
            <a:xfrm>
              <a:off x="3657600" y="2057400"/>
              <a:ext cx="2833200" cy="1852200"/>
              <a:chOff x="3657600" y="2057400"/>
              <a:chExt cx="2833200" cy="1852200"/>
            </a:xfrm>
          </p:grpSpPr>
          <p:sp>
            <p:nvSpPr>
              <p:cNvPr id="540" name=""/>
              <p:cNvSpPr/>
              <p:nvPr/>
            </p:nvSpPr>
            <p:spPr>
              <a:xfrm>
                <a:off x="6273360" y="3189240"/>
                <a:ext cx="2174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3666960" y="2063160"/>
                <a:ext cx="2534760" cy="1846440"/>
                <a:chOff x="3666960" y="2063160"/>
                <a:chExt cx="2534760" cy="184644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884040" y="2569680"/>
                  <a:ext cx="1448640" cy="1339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608000" y="3257640"/>
                  <a:ext cx="159372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4608000" y="2135160"/>
                  <a:ext cx="360" cy="112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5368680" y="2569680"/>
                  <a:ext cx="290160" cy="18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>
                  <a:off x="3883680" y="2388600"/>
                  <a:ext cx="724680" cy="86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499640" y="3330360"/>
                  <a:ext cx="181440" cy="18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694480" y="2497320"/>
                  <a:ext cx="217800" cy="18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680360" y="2063160"/>
                  <a:ext cx="2178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666960" y="2424960"/>
                  <a:ext cx="2538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042520" y="2461320"/>
                  <a:ext cx="25380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042520" y="2967480"/>
                  <a:ext cx="326160" cy="25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114880" y="2859480"/>
                  <a:ext cx="73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223600" y="2787120"/>
                  <a:ext cx="73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V="1">
                  <a:off x="5114880" y="2787120"/>
                  <a:ext cx="109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5187600" y="2859480"/>
                  <a:ext cx="109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4608000" y="2895480"/>
                  <a:ext cx="543600" cy="362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V="1">
                  <a:off x="5259960" y="2750760"/>
                  <a:ext cx="109080" cy="7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151240" y="2823120"/>
                  <a:ext cx="109080" cy="72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4663440" y="2057400"/>
                <a:ext cx="183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669280" y="2507040"/>
                <a:ext cx="183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657600" y="2415240"/>
                <a:ext cx="183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18280" y="3132000"/>
                <a:ext cx="183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352880" y="1523880"/>
              <a:ext cx="366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a trajectoire de M est un cercle de centre O et de rayon R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33120" y="-51120"/>
            <a:ext cx="421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34120" y="11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itions, Vitesses, Accél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952880" y="114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371600" y="4572000"/>
            <a:ext cx="6858000" cy="1373760"/>
            <a:chOff x="1371600" y="4572000"/>
            <a:chExt cx="6858000" cy="1373760"/>
          </a:xfrm>
        </p:grpSpPr>
        <p:sp>
          <p:nvSpPr>
            <p:cNvPr id="570" name=""/>
            <p:cNvSpPr/>
            <p:nvPr/>
          </p:nvSpPr>
          <p:spPr>
            <a:xfrm>
              <a:off x="1371600" y="4572000"/>
              <a:ext cx="685800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a position de M est repérée  par l’angle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t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Vecteur"/>
                  <a:ea typeface="Arial"/>
                </a:rPr>
                <a:t>u</a:t>
              </a: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est le vecteur directeur de la droite passant par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O</a:t>
              </a: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 et qui porte la masse M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Le vecteur position s’écrit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62520" y="56386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M = R . </a:t>
              </a:r>
              <a:r>
                <a:rPr b="0" lang="fr-FR" sz="1400" spc="-1" strike="noStrike">
                  <a:solidFill>
                    <a:srgbClr val="000000"/>
                  </a:solidFill>
                  <a:latin typeface="Vecteur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4286160" y="5613120"/>
              <a:ext cx="74520" cy="74520"/>
              <a:chOff x="4286160" y="5613120"/>
              <a:chExt cx="74520" cy="74520"/>
            </a:xfrm>
          </p:grpSpPr>
          <p:sp>
            <p:nvSpPr>
              <p:cNvPr id="573" name=""/>
              <p:cNvSpPr/>
              <p:nvPr/>
            </p:nvSpPr>
            <p:spPr>
              <a:xfrm flipH="1" flipV="1">
                <a:off x="4291560" y="5613120"/>
                <a:ext cx="6912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4286160" y="5654880"/>
                <a:ext cx="6120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4038480" y="5638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066680" y="7621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tesse et accélération d’un point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867280" y="6095880"/>
            <a:ext cx="2057400" cy="457200"/>
            <a:chOff x="5867280" y="6095880"/>
            <a:chExt cx="2057400" cy="457200"/>
          </a:xfrm>
        </p:grpSpPr>
        <p:sp>
          <p:nvSpPr>
            <p:cNvPr id="578" name=""/>
            <p:cNvSpPr/>
            <p:nvPr/>
          </p:nvSpPr>
          <p:spPr>
            <a:xfrm>
              <a:off x="5867280" y="6095880"/>
              <a:ext cx="144792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41880" y="6164280"/>
              <a:ext cx="188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 u="sng">
                  <a:solidFill>
                    <a:srgbClr val="99ccff"/>
                  </a:solidFill>
                  <a:uFillTx/>
                  <a:latin typeface="Times New Roman"/>
                  <a:hlinkClick r:id="rId1"/>
                </a:rPr>
                <a:t>En savoir </a:t>
              </a:r>
              <a:r>
                <a:rPr b="0" lang="fr-FR" sz="1400" spc="-1" strike="noStrike" u="sng">
                  <a:solidFill>
                    <a:srgbClr val="99ccff"/>
                  </a:solidFill>
                  <a:uFillTx/>
                  <a:latin typeface="Times New Roman"/>
                  <a:hlinkClick r:id="rId2"/>
                </a:rPr>
                <a:t>pl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6:18:03Z</dcterms:created>
  <dc:creator>Antonin ARTAUD</dc:creator>
  <dc:description/>
  <dc:language>en-US</dc:language>
  <cp:lastModifiedBy>Antonin ARTAUD</cp:lastModifiedBy>
  <dcterms:modified xsi:type="dcterms:W3CDTF">2015-03-24T20:00:56Z</dcterms:modified>
  <cp:revision>93</cp:revision>
  <dc:subject/>
  <dc:title>La cinématique</dc:title>
</cp:coreProperties>
</file>