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FEAE-B362-421A-8618-442933E54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00AD-24FC-45C2-8A91-87038A34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94CB-3F07-4696-8EDE-74CEC050A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572E-C38E-4FBD-9A94-A7D651071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6EF5-E58C-403E-B0FF-A0530DE7A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14C1-3CE3-4A0B-AD2B-AA68DA8D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B9D2-138D-44F5-BFAA-B7952D3E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3512-B46C-4339-BE3F-B7E917DD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4F60-597F-4D71-8CD7-ADD3FB66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79B9-397D-47F9-A969-F2366AA4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D57D-6041-4937-86CD-25828AA5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154A-26A4-49D8-AD91-133F38F1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54B9-F905-4F34-9991-E779FC04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851E-A12F-49AF-BE9E-67D02B02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CDBA1-3A34-4B20-8DEE-67EC6004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9FDD-2F49-4A4E-80B8-28F89A42B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CB5A-474E-48F9-B8B1-1322EC61F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CDFA-1D0F-4BB2-8F1B-6F2C1235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F0C2-24B8-492E-A75C-9D7A9BEB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AAE7-8B0D-47B5-A9DF-76F02FC0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8BD0-5BEC-48BE-889E-D11DBC52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497F-417C-46E8-9264-DE17F236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28C2-0DD5-477F-8EC5-E2A8FE34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02B9-E56B-40FA-B3B4-7EB1E4EA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069C-55D3-4E98-99B1-F791DA30C11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-89892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C5D1-3BEE-4A21-89C1-29A49B4F652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bm%200%20bati%20fixe_Diapo2.avi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cir.avi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20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4465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 cinématique 3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84040" y="2338560"/>
            <a:ext cx="31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c0c0"/>
                </a:solidFill>
                <a:latin typeface="Arial Narrow"/>
              </a:rPr>
              <a:t>B -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c0c0c0"/>
                </a:solidFill>
                <a:latin typeface="Arial Narrow"/>
              </a:rPr>
              <a:t>Étude des mouv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94120" y="3378240"/>
            <a:ext cx="41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 - Loi de composition des vit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92680" y="3936960"/>
            <a:ext cx="34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E - La cinématique grap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13560" y="1771560"/>
            <a:ext cx="184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c0c0"/>
                </a:solidFill>
                <a:latin typeface="Arial Narrow"/>
              </a:rPr>
              <a:t>A -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c0c0c0"/>
                </a:solidFill>
                <a:latin typeface="Arial Narrow"/>
              </a:rPr>
              <a:t>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80440" y="2882880"/>
            <a:ext cx="46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c0c0"/>
                </a:solidFill>
                <a:latin typeface="Arial Narrow"/>
              </a:rPr>
              <a:t>C-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c0c0c0"/>
                </a:solidFill>
                <a:latin typeface="Arial Narrow"/>
              </a:rPr>
              <a:t>Mouvements, Vitesses, Accélé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44640" y="-106200"/>
            <a:ext cx="446544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 cinématique 3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" y="609480"/>
            <a:ext cx="86439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85960" y="922320"/>
            <a:ext cx="79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ans le cas de la </a:t>
            </a:r>
            <a:r>
              <a:rPr b="0" lang="fr-FR" sz="2400" spc="-1" strike="noStrike">
                <a:solidFill>
                  <a:srgbClr val="0099cc"/>
                </a:solidFill>
                <a:latin typeface="Arial Narrow"/>
              </a:rPr>
              <a:t>translatio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, trouver le vecteur vitesse d’un point quelconque ne pose aucun problème puisque dans ce cas le </a:t>
            </a:r>
            <a:r>
              <a:rPr b="0" lang="fr-FR" sz="2400" spc="-1" strike="noStrike">
                <a:solidFill>
                  <a:srgbClr val="0099cc"/>
                </a:solidFill>
                <a:latin typeface="Arial Narrow"/>
              </a:rPr>
              <a:t>champ de vitesse est uni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2562120" y="2655720"/>
            <a:ext cx="4405320" cy="2975040"/>
            <a:chOff x="2562120" y="2655720"/>
            <a:chExt cx="4405320" cy="2975040"/>
          </a:xfrm>
        </p:grpSpPr>
        <p:sp>
          <p:nvSpPr>
            <p:cNvPr id="281" name=""/>
            <p:cNvSpPr/>
            <p:nvPr/>
          </p:nvSpPr>
          <p:spPr>
            <a:xfrm>
              <a:off x="2562120" y="3440160"/>
              <a:ext cx="4272120" cy="21906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3073320" y="2655720"/>
              <a:ext cx="1339920" cy="119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2781360" y="2709720"/>
              <a:ext cx="1057320" cy="703440"/>
              <a:chOff x="2781360" y="2709720"/>
              <a:chExt cx="1057320" cy="703440"/>
            </a:xfrm>
          </p:grpSpPr>
          <p:sp>
            <p:nvSpPr>
              <p:cNvPr id="284" name=""/>
              <p:cNvSpPr/>
              <p:nvPr/>
            </p:nvSpPr>
            <p:spPr>
              <a:xfrm>
                <a:off x="2781360" y="2709720"/>
                <a:ext cx="10573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4000" spc="-1" strike="noStrike">
                    <a:solidFill>
                      <a:srgbClr val="000000"/>
                    </a:solidFill>
                    <a:latin typeface="Arial Narrow"/>
                  </a:rPr>
                  <a:t>V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Arial Narrow"/>
                  </a:rPr>
                  <a:t>A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Arial Narrow"/>
                  </a:rPr>
                  <a:t> 1/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860920" y="2835000"/>
                <a:ext cx="788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 flipH="1">
              <a:off x="3079800" y="3726000"/>
              <a:ext cx="1440" cy="236520"/>
            </a:xfrm>
            <a:prstGeom prst="line">
              <a:avLst/>
            </a:prstGeom>
            <a:ln w="9360">
              <a:solidFill>
                <a:srgbClr val="549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987640" y="3851280"/>
              <a:ext cx="189000" cy="0"/>
            </a:xfrm>
            <a:prstGeom prst="line">
              <a:avLst/>
            </a:prstGeom>
            <a:ln w="9360">
              <a:solidFill>
                <a:srgbClr val="549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5961240" y="4357800"/>
              <a:ext cx="1440" cy="236520"/>
            </a:xfrm>
            <a:prstGeom prst="line">
              <a:avLst/>
            </a:prstGeom>
            <a:ln w="9360">
              <a:solidFill>
                <a:srgbClr val="549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869080" y="4483080"/>
              <a:ext cx="189000" cy="0"/>
            </a:xfrm>
            <a:prstGeom prst="line">
              <a:avLst/>
            </a:prstGeom>
            <a:ln w="9360">
              <a:solidFill>
                <a:srgbClr val="549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3726000" y="4764240"/>
              <a:ext cx="1440" cy="236520"/>
            </a:xfrm>
            <a:prstGeom prst="line">
              <a:avLst/>
            </a:prstGeom>
            <a:ln w="9360">
              <a:solidFill>
                <a:srgbClr val="549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633840" y="4889520"/>
              <a:ext cx="189000" cy="0"/>
            </a:xfrm>
            <a:prstGeom prst="line">
              <a:avLst/>
            </a:prstGeom>
            <a:ln w="9360">
              <a:solidFill>
                <a:srgbClr val="549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27240" y="4784760"/>
              <a:ext cx="1579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 Narrow"/>
                </a:rPr>
                <a:t>V</a:t>
              </a:r>
              <a:r>
                <a:rPr b="0" lang="fr-FR" sz="2400" spc="-1" strike="noStrike">
                  <a:solidFill>
                    <a:srgbClr val="000000"/>
                  </a:solidFill>
                  <a:latin typeface="Arial Narrow"/>
                </a:rPr>
                <a:t>B</a:t>
              </a:r>
              <a:r>
                <a:rPr b="0" lang="fr-FR" sz="2000" spc="-1" strike="noStrike">
                  <a:solidFill>
                    <a:srgbClr val="000000"/>
                  </a:solidFill>
                  <a:latin typeface="Arial Narrow"/>
                </a:rPr>
                <a:t> ½ </a:t>
              </a:r>
              <a:r>
                <a:rPr b="0" lang="fr-FR" sz="3200" spc="-1" strike="noStrike">
                  <a:solidFill>
                    <a:srgbClr val="000000"/>
                  </a:solidFill>
                  <a:latin typeface="Arial Narrow"/>
                </a:rPr>
                <a:t>=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357880" y="4591080"/>
              <a:ext cx="1609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 Narrow"/>
                </a:rPr>
                <a:t>V</a:t>
              </a:r>
              <a:r>
                <a:rPr b="0" lang="fr-FR" sz="2400" spc="-1" strike="noStrike">
                  <a:solidFill>
                    <a:srgbClr val="000000"/>
                  </a:solidFill>
                  <a:latin typeface="Arial Narrow"/>
                </a:rPr>
                <a:t>C</a:t>
              </a:r>
              <a:r>
                <a:rPr b="0" lang="fr-FR" sz="2000" spc="-1" strike="noStrike">
                  <a:solidFill>
                    <a:srgbClr val="000000"/>
                  </a:solidFill>
                  <a:latin typeface="Arial Narrow"/>
                </a:rPr>
                <a:t> 1/2 </a:t>
              </a:r>
              <a:r>
                <a:rPr b="0" lang="fr-FR" sz="3200" spc="-1" strike="noStrike">
                  <a:solidFill>
                    <a:srgbClr val="000000"/>
                  </a:solidFill>
                  <a:latin typeface="Arial Narrow"/>
                </a:rPr>
                <a:t>=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5867280" y="763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a cinématique grap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553000" y="763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429000" y="3684240"/>
            <a:ext cx="1631880" cy="1198440"/>
            <a:chOff x="3429000" y="3684240"/>
            <a:chExt cx="1631880" cy="1198440"/>
          </a:xfrm>
        </p:grpSpPr>
        <p:sp>
          <p:nvSpPr>
            <p:cNvPr id="297" name=""/>
            <p:cNvSpPr/>
            <p:nvPr/>
          </p:nvSpPr>
          <p:spPr>
            <a:xfrm flipV="1">
              <a:off x="3720960" y="3684240"/>
              <a:ext cx="1339920" cy="1198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3429000" y="3738600"/>
              <a:ext cx="1057320" cy="703440"/>
              <a:chOff x="3429000" y="3738600"/>
              <a:chExt cx="1057320" cy="703440"/>
            </a:xfrm>
          </p:grpSpPr>
          <p:sp>
            <p:nvSpPr>
              <p:cNvPr id="299" name=""/>
              <p:cNvSpPr/>
              <p:nvPr/>
            </p:nvSpPr>
            <p:spPr>
              <a:xfrm>
                <a:off x="3429000" y="3738600"/>
                <a:ext cx="10573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4000" spc="-1" strike="noStrike">
                    <a:solidFill>
                      <a:srgbClr val="000000"/>
                    </a:solidFill>
                    <a:latin typeface="Arial Narrow"/>
                  </a:rPr>
                  <a:t>V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Arial Narrow"/>
                  </a:rPr>
                  <a:t>B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Arial Narrow"/>
                  </a:rPr>
                  <a:t> 1/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508560" y="3863880"/>
                <a:ext cx="788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1" name=""/>
          <p:cNvGrpSpPr/>
          <p:nvPr/>
        </p:nvGrpSpPr>
        <p:grpSpPr>
          <a:xfrm>
            <a:off x="5667480" y="3284280"/>
            <a:ext cx="1631880" cy="1198440"/>
            <a:chOff x="5667480" y="3284280"/>
            <a:chExt cx="1631880" cy="1198440"/>
          </a:xfrm>
        </p:grpSpPr>
        <p:sp>
          <p:nvSpPr>
            <p:cNvPr id="302" name=""/>
            <p:cNvSpPr/>
            <p:nvPr/>
          </p:nvSpPr>
          <p:spPr>
            <a:xfrm flipV="1">
              <a:off x="5959440" y="3284280"/>
              <a:ext cx="1339920" cy="1198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5667480" y="3338640"/>
              <a:ext cx="1057320" cy="703440"/>
              <a:chOff x="5667480" y="3338640"/>
              <a:chExt cx="1057320" cy="703440"/>
            </a:xfrm>
          </p:grpSpPr>
          <p:sp>
            <p:nvSpPr>
              <p:cNvPr id="304" name=""/>
              <p:cNvSpPr/>
              <p:nvPr/>
            </p:nvSpPr>
            <p:spPr>
              <a:xfrm>
                <a:off x="5667480" y="3338640"/>
                <a:ext cx="10573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4000" spc="-1" strike="noStrike">
                    <a:solidFill>
                      <a:srgbClr val="000000"/>
                    </a:solidFill>
                    <a:latin typeface="Arial Narrow"/>
                  </a:rPr>
                  <a:t>V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Arial Narrow"/>
                  </a:rPr>
                  <a:t>C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Arial Narrow"/>
                  </a:rPr>
                  <a:t> 1/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747040" y="3463920"/>
                <a:ext cx="788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6" name=""/>
          <p:cNvSpPr/>
          <p:nvPr/>
        </p:nvSpPr>
        <p:spPr>
          <a:xfrm flipV="1">
            <a:off x="3349800" y="2941560"/>
            <a:ext cx="1339560" cy="1198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3635280" y="3274920"/>
            <a:ext cx="1339920" cy="1198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4378320" y="3455640"/>
            <a:ext cx="1339920" cy="1198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5178600" y="3207960"/>
            <a:ext cx="1339560" cy="1198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721480" y="3160440"/>
            <a:ext cx="1339560" cy="1198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39960" y="-51120"/>
            <a:ext cx="406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 cinématique 3                        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609480"/>
            <a:ext cx="86439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38080" y="685800"/>
            <a:ext cx="77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ans le cas de la </a:t>
            </a:r>
            <a:r>
              <a:rPr b="0" lang="fr-FR" sz="2400" spc="-1" strike="noStrike">
                <a:solidFill>
                  <a:srgbClr val="0099cc"/>
                </a:solidFill>
                <a:latin typeface="Arial Narrow"/>
              </a:rPr>
              <a:t>rotatio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, le problème reste simple tant que l’on connaît la position du centre de la rotati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001000" y="4035600"/>
            <a:ext cx="762120" cy="2286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05720" y="4492800"/>
            <a:ext cx="533160" cy="14475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562720" y="4873680"/>
            <a:ext cx="304560" cy="7621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057400" y="4797360"/>
            <a:ext cx="457200" cy="10670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2742840" y="4949640"/>
            <a:ext cx="304920" cy="6858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7391520" y="5102280"/>
            <a:ext cx="1143000" cy="579960"/>
            <a:chOff x="7391520" y="5102280"/>
            <a:chExt cx="1143000" cy="579960"/>
          </a:xfrm>
        </p:grpSpPr>
        <p:sp>
          <p:nvSpPr>
            <p:cNvPr id="320" name=""/>
            <p:cNvSpPr/>
            <p:nvPr/>
          </p:nvSpPr>
          <p:spPr>
            <a:xfrm>
              <a:off x="7391520" y="5102280"/>
              <a:ext cx="1143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cc0000"/>
                  </a:solidFill>
                  <a:latin typeface="Arial"/>
                </a:rPr>
                <a:t>V</a:t>
              </a:r>
              <a:r>
                <a:rPr b="1" lang="fr-FR" sz="2000" spc="-1" strike="noStrike">
                  <a:solidFill>
                    <a:srgbClr val="cc0000"/>
                  </a:solidFill>
                  <a:latin typeface="Arial"/>
                </a:rPr>
                <a:t>M2/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620120" y="5102280"/>
              <a:ext cx="6858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1143000" y="5102280"/>
            <a:ext cx="1143000" cy="579960"/>
            <a:chOff x="1143000" y="5102280"/>
            <a:chExt cx="1143000" cy="579960"/>
          </a:xfrm>
        </p:grpSpPr>
        <p:sp>
          <p:nvSpPr>
            <p:cNvPr id="323" name=""/>
            <p:cNvSpPr/>
            <p:nvPr/>
          </p:nvSpPr>
          <p:spPr>
            <a:xfrm>
              <a:off x="1143000" y="5102280"/>
              <a:ext cx="1143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cc0000"/>
                  </a:solidFill>
                  <a:latin typeface="Arial"/>
                </a:rPr>
                <a:t>V</a:t>
              </a:r>
              <a:r>
                <a:rPr b="1" lang="fr-FR" sz="2000" spc="-1" strike="noStrike">
                  <a:solidFill>
                    <a:srgbClr val="cc0000"/>
                  </a:solidFill>
                  <a:latin typeface="Arial"/>
                </a:rPr>
                <a:t>P2/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71600" y="5102280"/>
              <a:ext cx="6858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2057400" y="4797360"/>
            <a:ext cx="7086600" cy="160020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03240" y="1619280"/>
            <a:ext cx="824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champ des vitesses d’un mouvement de rotation est « </a:t>
            </a:r>
            <a:r>
              <a:rPr b="0" lang="fr-FR" sz="2000" spc="-1" strike="noStrike">
                <a:solidFill>
                  <a:srgbClr val="0099cc"/>
                </a:solidFill>
                <a:latin typeface="Arial"/>
              </a:rPr>
              <a:t>triangulair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 ». On peut donc tracer la </a:t>
            </a:r>
            <a:r>
              <a:rPr b="0" lang="fr-FR" sz="2000" spc="-1" strike="noStrike">
                <a:solidFill>
                  <a:srgbClr val="0099cc"/>
                </a:solidFill>
                <a:latin typeface="Arial"/>
              </a:rPr>
              <a:t>droite de proportionnal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71560" y="2409840"/>
            <a:ext cx="801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ous les vecteurs vitesses du rayon OM sont compris entre ce rayon et la droite de proportionnalit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209680" y="3654360"/>
            <a:ext cx="6553440" cy="2971800"/>
            <a:chOff x="2209680" y="3654360"/>
            <a:chExt cx="6553440" cy="2971800"/>
          </a:xfrm>
        </p:grpSpPr>
        <p:sp>
          <p:nvSpPr>
            <p:cNvPr id="329" name=""/>
            <p:cNvSpPr/>
            <p:nvPr/>
          </p:nvSpPr>
          <p:spPr>
            <a:xfrm>
              <a:off x="2209680" y="5788080"/>
              <a:ext cx="533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001000" y="365436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2437920" y="3753720"/>
              <a:ext cx="5563080" cy="2872440"/>
              <a:chOff x="2437920" y="3753720"/>
              <a:chExt cx="5563080" cy="2872440"/>
            </a:xfrm>
          </p:grpSpPr>
          <p:sp>
            <p:nvSpPr>
              <p:cNvPr id="332" name=""/>
              <p:cNvSpPr/>
              <p:nvPr/>
            </p:nvSpPr>
            <p:spPr>
              <a:xfrm>
                <a:off x="5791320" y="4003560"/>
                <a:ext cx="60948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600" spc="-1" strike="noStrike">
                    <a:solidFill>
                      <a:srgbClr val="003366"/>
                    </a:solidFill>
                    <a:latin typeface="Arial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314960" y="5686560"/>
                <a:ext cx="53316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987720" y="5051520"/>
                <a:ext cx="558720" cy="48240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267080" y="55594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886200" y="6245280"/>
                <a:ext cx="838080" cy="3808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886200" y="6245280"/>
                <a:ext cx="83808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>
                <a:off x="4267080" y="4568760"/>
                <a:ext cx="0" cy="106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V="1">
                <a:off x="4572000" y="4035240"/>
                <a:ext cx="3429000" cy="1143000"/>
              </a:xfrm>
              <a:prstGeom prst="line">
                <a:avLst/>
              </a:prstGeom>
              <a:ln w="507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690720" y="4800600"/>
                <a:ext cx="1159560" cy="91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70" y="0"/>
                    </a:moveTo>
                    <a:arcTo wR="10800" hR="10800" stAng="-5409418" swAng="39949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70" y="0"/>
                    </a:moveTo>
                    <a:arcTo wR="10800" hR="10800" stAng="-5409418" swAng="3994926"/>
                  </a:path>
                </a:pathLst>
              </a:custGeom>
              <a:noFill/>
              <a:ln cap="rnd" w="507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664080" y="4797360"/>
                <a:ext cx="1211760" cy="904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58" y="14511"/>
                    </a:moveTo>
                    <a:arcTo wR="10800" hR="10800" stAng="9594177" swAng="65968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58" y="14511"/>
                    </a:moveTo>
                    <a:arcTo wR="10800" hR="10800" stAng="9594177" swAng="6596823"/>
                  </a:path>
                </a:pathLst>
              </a:custGeom>
              <a:noFill/>
              <a:ln cap="rnd" w="507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2437920" y="5407200"/>
                <a:ext cx="1295640" cy="457200"/>
              </a:xfrm>
              <a:prstGeom prst="line">
                <a:avLst/>
              </a:prstGeom>
              <a:ln w="507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056760" y="4267080"/>
                <a:ext cx="2421720" cy="2133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6" y="6143"/>
                    </a:moveTo>
                    <a:arcTo wR="10800" hR="10800" stAng="-9267421" swAng="503778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6" y="6143"/>
                    </a:moveTo>
                    <a:arcTo wR="10800" hR="10800" stAng="-9267421" swAng="5037787"/>
                  </a:path>
                </a:pathLst>
              </a:custGeom>
              <a:noFill/>
              <a:ln cap="rnd" w="50760">
                <a:solidFill>
                  <a:srgbClr val="99ff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4" name=""/>
              <p:cNvGrpSpPr/>
              <p:nvPr/>
            </p:nvGrpSpPr>
            <p:grpSpPr>
              <a:xfrm>
                <a:off x="3432240" y="3755160"/>
                <a:ext cx="227880" cy="511920"/>
                <a:chOff x="3432240" y="3755160"/>
                <a:chExt cx="227880" cy="51192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3432240" y="3755160"/>
                  <a:ext cx="227880" cy="511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49" y="21599"/>
                      </a:moveTo>
                      <a:arcTo wR="10800" hR="10800" stAng="5448191" swAng="712271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49" y="21599"/>
                      </a:moveTo>
                      <a:arcTo wR="10800" hR="10800" stAng="5448191" swAng="7122717"/>
                    </a:path>
                  </a:pathLst>
                </a:custGeom>
                <a:noFill/>
                <a:ln cap="rnd" w="50760">
                  <a:solidFill>
                    <a:srgbClr val="99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3467160" y="3965400"/>
                  <a:ext cx="151560" cy="29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50760">
                  <a:solidFill>
                    <a:srgbClr val="99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3581640" y="3753720"/>
                <a:ext cx="227880" cy="512640"/>
                <a:chOff x="3581640" y="3753720"/>
                <a:chExt cx="227880" cy="51264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3581640" y="3753720"/>
                  <a:ext cx="227880" cy="512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103" y="5315"/>
                      </a:moveTo>
                      <a:arcTo wR="10800" hR="10800" stAng="-1831501" swAng="72315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103" y="5315"/>
                      </a:moveTo>
                      <a:arcTo wR="10800" hR="10800" stAng="-1831501" swAng="7231501"/>
                    </a:path>
                  </a:pathLst>
                </a:custGeom>
                <a:noFill/>
                <a:ln cap="rnd" w="50760">
                  <a:solidFill>
                    <a:srgbClr val="99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3622680" y="3965040"/>
                  <a:ext cx="151560" cy="29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50760">
                  <a:solidFill>
                    <a:srgbClr val="99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0" name=""/>
              <p:cNvSpPr/>
              <p:nvPr/>
            </p:nvSpPr>
            <p:spPr>
              <a:xfrm>
                <a:off x="4538520" y="5116680"/>
                <a:ext cx="7621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1" name=""/>
          <p:cNvSpPr/>
          <p:nvPr/>
        </p:nvSpPr>
        <p:spPr>
          <a:xfrm>
            <a:off x="860400" y="3340080"/>
            <a:ext cx="744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vitesse du point P devient évident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867280" y="763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a cinématique grap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553000" y="763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10800"/>
            <a:ext cx="42670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 cinématique 3                   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8600" y="685800"/>
            <a:ext cx="86439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47800" y="774720"/>
            <a:ext cx="77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ans le cas de la </a:t>
            </a:r>
            <a:r>
              <a:rPr b="0" lang="fr-FR" sz="2400" spc="-1" strike="noStrike">
                <a:solidFill>
                  <a:srgbClr val="0099cc"/>
                </a:solidFill>
                <a:latin typeface="Arial Narrow"/>
              </a:rPr>
              <a:t>rotatio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, le problème reste simple tant que l’on connaît la position du centre de la rotati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67280" y="4842000"/>
            <a:ext cx="385920" cy="9651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5018040" y="3147840"/>
            <a:ext cx="1143000" cy="579960"/>
            <a:chOff x="5018040" y="3147840"/>
            <a:chExt cx="1143000" cy="579960"/>
          </a:xfrm>
        </p:grpSpPr>
        <p:sp>
          <p:nvSpPr>
            <p:cNvPr id="359" name=""/>
            <p:cNvSpPr/>
            <p:nvPr/>
          </p:nvSpPr>
          <p:spPr>
            <a:xfrm>
              <a:off x="5018040" y="3147840"/>
              <a:ext cx="1143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cc0000"/>
                  </a:solidFill>
                  <a:latin typeface="Arial"/>
                </a:rPr>
                <a:t>V</a:t>
              </a:r>
              <a:r>
                <a:rPr b="1" lang="fr-FR" sz="2000" spc="-1" strike="noStrike">
                  <a:solidFill>
                    <a:srgbClr val="cc0000"/>
                  </a:solidFill>
                  <a:latin typeface="Arial"/>
                </a:rPr>
                <a:t>P2/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246640" y="3147840"/>
              <a:ext cx="6858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4264200" y="5381640"/>
            <a:ext cx="4879800" cy="109224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74800" y="1712880"/>
            <a:ext cx="8240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orsque le « point connu » et le « point cherché » ne sont </a:t>
            </a:r>
            <a:r>
              <a:rPr b="0" lang="fr-FR" sz="2000" spc="-1" strike="noStrike">
                <a:solidFill>
                  <a:srgbClr val="0099cc"/>
                </a:solidFill>
                <a:latin typeface="Arial"/>
              </a:rPr>
              <a:t>pas sur le même rayo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 il faut « transporter » l’un des vecteurs vitesse avec un </a:t>
            </a:r>
            <a:r>
              <a:rPr b="0" lang="fr-FR" sz="2000" spc="-1" strike="noStrike">
                <a:solidFill>
                  <a:srgbClr val="0099cc"/>
                </a:solidFill>
                <a:latin typeface="Arial"/>
              </a:rPr>
              <a:t>« coup de compas »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3456000" y="3530520"/>
            <a:ext cx="5316480" cy="3171600"/>
            <a:chOff x="3456000" y="3530520"/>
            <a:chExt cx="5316480" cy="3171600"/>
          </a:xfrm>
        </p:grpSpPr>
        <p:sp>
          <p:nvSpPr>
            <p:cNvPr id="364" name=""/>
            <p:cNvSpPr/>
            <p:nvPr/>
          </p:nvSpPr>
          <p:spPr>
            <a:xfrm>
              <a:off x="8010360" y="4111560"/>
              <a:ext cx="762120" cy="22860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7400880" y="5178240"/>
              <a:ext cx="1143000" cy="579960"/>
              <a:chOff x="7400880" y="5178240"/>
              <a:chExt cx="1143000" cy="579960"/>
            </a:xfrm>
          </p:grpSpPr>
          <p:sp>
            <p:nvSpPr>
              <p:cNvPr id="366" name=""/>
              <p:cNvSpPr/>
              <p:nvPr/>
            </p:nvSpPr>
            <p:spPr>
              <a:xfrm>
                <a:off x="7400880" y="5178240"/>
                <a:ext cx="11430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200" spc="-1" strike="noStrike">
                    <a:solidFill>
                      <a:srgbClr val="cc0000"/>
                    </a:solidFill>
                    <a:latin typeface="Arial"/>
                  </a:rPr>
                  <a:t>V</a:t>
                </a:r>
                <a:r>
                  <a:rPr b="1" lang="fr-FR" sz="2000" spc="-1" strike="noStrike">
                    <a:solidFill>
                      <a:srgbClr val="cc0000"/>
                    </a:solidFill>
                    <a:latin typeface="Arial"/>
                  </a:rPr>
                  <a:t>M2/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629480" y="5178240"/>
                <a:ext cx="6858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3456000" y="3530520"/>
              <a:ext cx="5316480" cy="3171600"/>
              <a:chOff x="3456000" y="3530520"/>
              <a:chExt cx="5316480" cy="3171600"/>
            </a:xfrm>
          </p:grpSpPr>
          <p:grpSp>
            <p:nvGrpSpPr>
              <p:cNvPr id="369" name=""/>
              <p:cNvGrpSpPr/>
              <p:nvPr/>
            </p:nvGrpSpPr>
            <p:grpSpPr>
              <a:xfrm>
                <a:off x="3456000" y="4620240"/>
                <a:ext cx="281160" cy="383040"/>
                <a:chOff x="3456000" y="4620240"/>
                <a:chExt cx="281160" cy="383040"/>
              </a:xfrm>
            </p:grpSpPr>
            <p:grpSp>
              <p:nvGrpSpPr>
                <p:cNvPr id="370" name=""/>
                <p:cNvGrpSpPr/>
                <p:nvPr/>
              </p:nvGrpSpPr>
              <p:grpSpPr>
                <a:xfrm>
                  <a:off x="3456000" y="4621320"/>
                  <a:ext cx="170280" cy="381600"/>
                  <a:chOff x="3456000" y="4621320"/>
                  <a:chExt cx="170280" cy="38160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>
                    <a:off x="3456000" y="4621320"/>
                    <a:ext cx="170280" cy="381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649" y="21599"/>
                        </a:moveTo>
                        <a:arcTo wR="10800" hR="10800" stAng="5448191" swAng="71227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649" y="21599"/>
                        </a:moveTo>
                        <a:arcTo wR="10800" hR="10800" stAng="5448191" swAng="7122717"/>
                      </a:path>
                    </a:pathLst>
                  </a:custGeom>
                  <a:noFill/>
                  <a:ln cap="rnd" w="50760">
                    <a:solidFill>
                      <a:srgbClr val="99ff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3481920" y="4778280"/>
                    <a:ext cx="11340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50760">
                    <a:solidFill>
                      <a:srgbClr val="99ff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3567600" y="4620240"/>
                  <a:ext cx="169560" cy="383040"/>
                  <a:chOff x="3567600" y="4620240"/>
                  <a:chExt cx="169560" cy="38304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>
                    <a:off x="3567600" y="4620240"/>
                    <a:ext cx="16956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103" y="5315"/>
                        </a:moveTo>
                        <a:arcTo wR="10800" hR="10800" stAng="-1831501" swAng="723150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103" y="5315"/>
                        </a:moveTo>
                        <a:arcTo wR="10800" hR="10800" stAng="-1831501" swAng="7231501"/>
                      </a:path>
                    </a:pathLst>
                  </a:custGeom>
                  <a:noFill/>
                  <a:ln cap="rnd" w="50760">
                    <a:solidFill>
                      <a:srgbClr val="99ff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3598200" y="4778280"/>
                    <a:ext cx="112680" cy="222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noFill/>
                  <a:ln cap="rnd" w="50760">
                    <a:solidFill>
                      <a:srgbClr val="99ff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6" name=""/>
              <p:cNvGrpSpPr/>
              <p:nvPr/>
            </p:nvGrpSpPr>
            <p:grpSpPr>
              <a:xfrm>
                <a:off x="3638160" y="3530520"/>
                <a:ext cx="5134320" cy="3171600"/>
                <a:chOff x="3638160" y="3530520"/>
                <a:chExt cx="5134320" cy="317160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4809960" y="3530520"/>
                  <a:ext cx="53352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8010360" y="3730320"/>
                  <a:ext cx="76212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Arial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5800680" y="4079520"/>
                  <a:ext cx="60948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3600" spc="-1" strike="noStrike">
                      <a:solidFill>
                        <a:srgbClr val="003366"/>
                      </a:solidFill>
                      <a:latin typeface="Arial"/>
                    </a:rPr>
                    <a:t>2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4324320" y="5762520"/>
                  <a:ext cx="53316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36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3997080" y="5127480"/>
                  <a:ext cx="558720" cy="482400"/>
                </a:xfrm>
                <a:prstGeom prst="ellipse">
                  <a:avLst/>
                </a:prstGeom>
                <a:noFill/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4276440" y="563544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3895560" y="6321240"/>
                  <a:ext cx="838080" cy="38088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3895560" y="6321240"/>
                  <a:ext cx="83808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V="1">
                  <a:off x="4276440" y="4644720"/>
                  <a:ext cx="0" cy="1067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flipV="1">
                  <a:off x="4581360" y="4111200"/>
                  <a:ext cx="3429000" cy="1143000"/>
                </a:xfrm>
                <a:prstGeom prst="line">
                  <a:avLst/>
                </a:prstGeom>
                <a:ln w="507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3699720" y="4880160"/>
                  <a:ext cx="1159560" cy="913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363" y="1011"/>
                      </a:moveTo>
                      <a:arcTo wR="10800" hR="10800" stAng="-3900547" swAng="24860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363" y="1011"/>
                      </a:moveTo>
                      <a:arcTo wR="10800" hR="10800" stAng="-3900547" swAng="2486056"/>
                    </a:path>
                  </a:pathLst>
                </a:custGeom>
                <a:noFill/>
                <a:ln cap="rnd" w="507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H="1">
                  <a:off x="4465080" y="3857400"/>
                  <a:ext cx="615960" cy="1095480"/>
                </a:xfrm>
                <a:prstGeom prst="line">
                  <a:avLst/>
                </a:prstGeom>
                <a:ln w="507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3638160" y="4847040"/>
                  <a:ext cx="1280160" cy="112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6" y="6143"/>
                      </a:moveTo>
                      <a:arcTo wR="10800" hR="10800" stAng="-9267421" swAng="320099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6" y="6143"/>
                      </a:moveTo>
                      <a:arcTo wR="10800" hR="10800" stAng="-9267421" swAng="3200999"/>
                    </a:path>
                  </a:pathLst>
                </a:custGeom>
                <a:noFill/>
                <a:ln cap="rnd" w="50760">
                  <a:solidFill>
                    <a:srgbClr val="99ff33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4547880" y="5192640"/>
                  <a:ext cx="76212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91" name=""/>
          <p:cNvSpPr/>
          <p:nvPr/>
        </p:nvSpPr>
        <p:spPr>
          <a:xfrm>
            <a:off x="2583360" y="3668040"/>
            <a:ext cx="3367440" cy="336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026" y="1348"/>
                </a:moveTo>
                <a:arcTo wR="10800" hR="10800" stAng="-3663742" swAng="2586575"/>
                <a:lnTo>
                  <a:pt x="10800" y="10800"/>
                </a:lnTo>
                <a:close/>
              </a:path>
              <a:path fill="none" w="21600" h="21600">
                <a:moveTo>
                  <a:pt x="16026" y="1348"/>
                </a:moveTo>
                <a:arcTo wR="10800" hR="10800" stAng="-3663742" swAng="2586575"/>
              </a:path>
            </a:pathLst>
          </a:custGeom>
          <a:noFill/>
          <a:ln w="255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66640" y="3847320"/>
            <a:ext cx="873360" cy="5630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300640" y="4021920"/>
            <a:ext cx="824400" cy="6328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497920" y="4206960"/>
            <a:ext cx="772560" cy="6951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34800" y="4521600"/>
            <a:ext cx="628560" cy="8276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820840" y="4698000"/>
            <a:ext cx="507600" cy="9068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48400" y="4379400"/>
            <a:ext cx="725400" cy="7441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57160" y="4119480"/>
            <a:ext cx="328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l ne reste qu’à reporter la longueur trouvé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95320" y="3057480"/>
            <a:ext cx="359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n peut maintenant appliquer le triangle des vitesse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67280" y="1522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a cinématique grap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553000" y="1522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51040" y="12600"/>
            <a:ext cx="4419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 cinématique 3                        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28600" y="685800"/>
            <a:ext cx="86439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47800" y="774720"/>
            <a:ext cx="77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ans le cas d’un </a:t>
            </a:r>
            <a:r>
              <a:rPr b="0" lang="fr-FR" sz="2400" spc="-1" strike="noStrike">
                <a:solidFill>
                  <a:srgbClr val="0099cc"/>
                </a:solidFill>
                <a:latin typeface="Arial Narrow"/>
              </a:rPr>
              <a:t>mouvement pla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, il existe deux méthodes pour déterminer la vitesse voulu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563840" y="2509920"/>
            <a:ext cx="701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- La méthode du </a:t>
            </a:r>
            <a:r>
              <a:rPr b="0" lang="fr-FR" sz="3200" spc="-1" strike="noStrike">
                <a:solidFill>
                  <a:srgbClr val="0099cc"/>
                </a:solidFill>
                <a:latin typeface="Arial Narrow"/>
              </a:rPr>
              <a:t>centre instantané de rotation</a:t>
            </a: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  ( C.I.R.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577880" y="3757680"/>
            <a:ext cx="670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- La méthode </a:t>
            </a:r>
            <a:r>
              <a:rPr b="0" lang="fr-FR" sz="3200" spc="-1" strike="noStrike">
                <a:solidFill>
                  <a:srgbClr val="0099cc"/>
                </a:solidFill>
                <a:latin typeface="Arial Narrow"/>
              </a:rPr>
              <a:t>d’équiprojectivit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867280" y="1522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a cinématique grap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53000" y="1522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76320" y="-136800"/>
            <a:ext cx="4433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 cinématique 3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8600" y="609480"/>
            <a:ext cx="86439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97040" y="549360"/>
            <a:ext cx="834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La méthode du centre instantané de rotation  ( C.I.R.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420920" y="1190520"/>
            <a:ext cx="7137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lle est très proche de celle utilisée pour un solide en rotation simple.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432080" y="2220840"/>
            <a:ext cx="74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 effet, </a:t>
            </a:r>
            <a:r>
              <a:rPr b="0" lang="fr-FR" sz="2400" spc="-1" strike="noStrike" u="sng">
                <a:solidFill>
                  <a:srgbClr val="0099cc"/>
                </a:solidFill>
                <a:uFillTx/>
                <a:latin typeface="Arial"/>
              </a:rPr>
              <a:t>à un instant donné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, un solide en mouvement plan est considéré en rotation autour d’un point fictif (le C.I.R). Le solide possède donc les mêmes caractéristiques qu’un solide en rotati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977760" y="5337000"/>
            <a:ext cx="749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ui mais…le centre de rotation n’est qu’</a:t>
            </a:r>
            <a:r>
              <a:rPr b="0" lang="fr-FR" sz="2400" spc="-1" strike="noStrike">
                <a:solidFill>
                  <a:srgbClr val="0099cc"/>
                </a:solidFill>
                <a:latin typeface="Arial"/>
              </a:rPr>
              <a:t>instantané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c il se déplace 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67280" y="763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a cinématique grap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36600" y="3762360"/>
            <a:ext cx="790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vitesse du C.I.R. est considérée comme nu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247760" y="4230720"/>
            <a:ext cx="770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intensité de la vitesse d’un point du solide est proportionnelle à son éloignement du C.I.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553000" y="763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971640" y="6143760"/>
            <a:ext cx="81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problème consiste à déterminer </a:t>
            </a:r>
            <a:r>
              <a:rPr b="0" lang="fr-FR" sz="2400" spc="-1" strike="noStrike">
                <a:solidFill>
                  <a:srgbClr val="0099cc"/>
                </a:solidFill>
                <a:latin typeface="Arial"/>
              </a:rPr>
              <a:t>où se trouve le C.I.R.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80720" y="-76680"/>
            <a:ext cx="4329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 cinématique 3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44440" y="609480"/>
            <a:ext cx="86439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97040" y="549360"/>
            <a:ext cx="834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La méthode du centre instantané de rotation  ( C.I.R.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182600" y="1185840"/>
            <a:ext cx="766620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finiti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C.I.R. se trouve </a:t>
            </a:r>
            <a:r>
              <a:rPr b="0" lang="fr-FR" sz="2400" spc="-1" strike="noStrike">
                <a:solidFill>
                  <a:srgbClr val="0099cc"/>
                </a:solidFill>
                <a:latin typeface="Arial"/>
              </a:rPr>
              <a:t>à l’intersection des perpendiculair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aux vecteurs vitesses des points du solide en mouvement pl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158840" y="2933640"/>
            <a:ext cx="742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c, connaissant la </a:t>
            </a:r>
            <a:r>
              <a:rPr b="0" lang="fr-FR" sz="2400" spc="-1" strike="noStrike" u="sng">
                <a:solidFill>
                  <a:srgbClr val="0099cc"/>
                </a:solidFill>
                <a:uFillTx/>
                <a:latin typeface="Arial"/>
              </a:rPr>
              <a:t>direc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99cc"/>
                </a:solidFill>
                <a:latin typeface="Arial"/>
              </a:rPr>
              <a:t>de la vitesse d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 u="sng">
                <a:solidFill>
                  <a:srgbClr val="0099cc"/>
                </a:solidFill>
                <a:uFillTx/>
                <a:latin typeface="Arial"/>
              </a:rPr>
              <a:t>deux</a:t>
            </a:r>
            <a:r>
              <a:rPr b="0" lang="fr-FR" sz="2400" spc="-1" strike="noStrike">
                <a:solidFill>
                  <a:srgbClr val="0099cc"/>
                </a:solidFill>
                <a:latin typeface="Arial"/>
              </a:rPr>
              <a:t> point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, on peut déterminer la position du C.I.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67280" y="763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a cinématique grap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553000" y="763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12760" y="4094280"/>
            <a:ext cx="19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Exempl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74800" y="4948200"/>
            <a:ext cx="22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Faisons un schéma de ce mécanism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2797200" y="3808440"/>
            <a:ext cx="6345360" cy="3063960"/>
          </a:xfrm>
          <a:prstGeom prst="rect">
            <a:avLst/>
          </a:prstGeom>
          <a:ln w="0">
            <a:noFill/>
          </a:ln>
        </p:spPr>
      </p:pic>
      <p:sp>
        <p:nvSpPr>
          <p:cNvPr id="430" name="">
            <a:hlinkClick r:id="rId2"/>
          </p:cNvPr>
          <p:cNvSpPr/>
          <p:nvPr/>
        </p:nvSpPr>
        <p:spPr>
          <a:xfrm>
            <a:off x="7467480" y="25146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111320" y="-106200"/>
            <a:ext cx="4222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 cinématique 3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71360" y="671400"/>
            <a:ext cx="86439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46000" y="625320"/>
            <a:ext cx="834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La méthode du centre instantané de rotation  ( C.I.R.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787320" y="1411200"/>
            <a:ext cx="4557600" cy="458280"/>
            <a:chOff x="787320" y="1411200"/>
            <a:chExt cx="4557600" cy="458280"/>
          </a:xfrm>
        </p:grpSpPr>
        <p:sp>
          <p:nvSpPr>
            <p:cNvPr id="435" name=""/>
            <p:cNvSpPr/>
            <p:nvPr/>
          </p:nvSpPr>
          <p:spPr>
            <a:xfrm>
              <a:off x="787320" y="1552680"/>
              <a:ext cx="311040" cy="247680"/>
            </a:xfrm>
            <a:prstGeom prst="rightArrow">
              <a:avLst>
                <a:gd name="adj1" fmla="val 50000"/>
                <a:gd name="adj2" fmla="val 62808"/>
              </a:avLst>
            </a:prstGeom>
            <a:solidFill>
              <a:srgbClr val="99ff33"/>
            </a:solidFill>
            <a:ln w="1260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104840" y="1411200"/>
              <a:ext cx="4240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eb1f03"/>
                  </a:solidFill>
                  <a:latin typeface="Arial"/>
                </a:rPr>
                <a:t>perpendiculaire à V</a:t>
              </a:r>
              <a:r>
                <a:rPr b="0" lang="fr-FR" sz="1800" spc="-1" strike="noStrike">
                  <a:solidFill>
                    <a:srgbClr val="eb1f03"/>
                  </a:solidFill>
                  <a:latin typeface="Arial"/>
                </a:rPr>
                <a:t>B2/0</a:t>
              </a:r>
              <a:r>
                <a:rPr b="0" lang="fr-FR" sz="2400" spc="-1" strike="noStrike">
                  <a:solidFill>
                    <a:srgbClr val="eb1f03"/>
                  </a:solidFill>
                  <a:latin typeface="Arial"/>
                </a:rPr>
                <a:t> en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714840" y="1444680"/>
              <a:ext cx="514080" cy="0"/>
            </a:xfrm>
            <a:prstGeom prst="line">
              <a:avLst/>
            </a:prstGeom>
            <a:ln w="25560">
              <a:solidFill>
                <a:srgbClr val="99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712960" y="1382400"/>
            <a:ext cx="5788080" cy="4567320"/>
            <a:chOff x="2712960" y="1382400"/>
            <a:chExt cx="5788080" cy="4567320"/>
          </a:xfrm>
        </p:grpSpPr>
        <p:sp>
          <p:nvSpPr>
            <p:cNvPr id="439" name=""/>
            <p:cNvSpPr/>
            <p:nvPr/>
          </p:nvSpPr>
          <p:spPr>
            <a:xfrm flipV="1">
              <a:off x="2712960" y="1382400"/>
              <a:ext cx="5788080" cy="456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770360" y="4276800"/>
              <a:ext cx="387360" cy="709560"/>
            </a:xfrm>
            <a:custGeom>
              <a:avLst/>
              <a:gdLst/>
              <a:ahLst/>
              <a:rect l="l" t="t" r="r" b="b"/>
              <a:pathLst>
                <a:path w="289" h="529">
                  <a:moveTo>
                    <a:pt x="0" y="528"/>
                  </a:moveTo>
                  <a:lnTo>
                    <a:pt x="288" y="27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7729560" y="1496880"/>
            <a:ext cx="450720" cy="4440240"/>
            <a:chOff x="7729560" y="1496880"/>
            <a:chExt cx="450720" cy="4440240"/>
          </a:xfrm>
        </p:grpSpPr>
        <p:sp>
          <p:nvSpPr>
            <p:cNvPr id="442" name=""/>
            <p:cNvSpPr/>
            <p:nvPr/>
          </p:nvSpPr>
          <p:spPr>
            <a:xfrm flipV="1">
              <a:off x="7729560" y="1496880"/>
              <a:ext cx="0" cy="424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729560" y="5421240"/>
              <a:ext cx="450720" cy="515880"/>
            </a:xfrm>
            <a:custGeom>
              <a:avLst/>
              <a:gdLst/>
              <a:ahLst/>
              <a:rect l="l" t="t" r="r" b="b"/>
              <a:pathLst>
                <a:path w="337" h="385">
                  <a:moveTo>
                    <a:pt x="336" y="384"/>
                  </a:move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762120" y="1905120"/>
            <a:ext cx="4719600" cy="458280"/>
            <a:chOff x="762120" y="1905120"/>
            <a:chExt cx="4719600" cy="458280"/>
          </a:xfrm>
        </p:grpSpPr>
        <p:sp>
          <p:nvSpPr>
            <p:cNvPr id="445" name=""/>
            <p:cNvSpPr/>
            <p:nvPr/>
          </p:nvSpPr>
          <p:spPr>
            <a:xfrm>
              <a:off x="762120" y="1989000"/>
              <a:ext cx="311040" cy="247680"/>
            </a:xfrm>
            <a:prstGeom prst="rightArrow">
              <a:avLst>
                <a:gd name="adj1" fmla="val 50000"/>
                <a:gd name="adj2" fmla="val 62808"/>
              </a:avLst>
            </a:prstGeom>
            <a:solidFill>
              <a:srgbClr val="eb1f03"/>
            </a:solidFill>
            <a:ln w="12600">
              <a:solidFill>
                <a:srgbClr val="eb1f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123920" y="1905120"/>
              <a:ext cx="4357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eb1f03"/>
                  </a:solidFill>
                  <a:latin typeface="Arial"/>
                </a:rPr>
                <a:t>perpendiculaire à V</a:t>
              </a:r>
              <a:r>
                <a:rPr b="0" lang="fr-FR" sz="1800" spc="-1" strike="noStrike">
                  <a:solidFill>
                    <a:srgbClr val="eb1f03"/>
                  </a:solidFill>
                  <a:latin typeface="Arial"/>
                </a:rPr>
                <a:t>C2/0</a:t>
              </a:r>
              <a:r>
                <a:rPr b="0" lang="fr-FR" sz="2400" spc="-1" strike="noStrike">
                  <a:solidFill>
                    <a:srgbClr val="eb1f03"/>
                  </a:solidFill>
                  <a:latin typeface="Arial"/>
                </a:rPr>
                <a:t> en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681360" y="1919160"/>
              <a:ext cx="646200" cy="0"/>
            </a:xfrm>
            <a:prstGeom prst="line">
              <a:avLst/>
            </a:prstGeom>
            <a:ln w="25560">
              <a:solidFill>
                <a:srgbClr val="eb1f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781200" y="3891960"/>
            <a:ext cx="7334280" cy="4375800"/>
            <a:chOff x="781200" y="3891960"/>
            <a:chExt cx="7334280" cy="4375800"/>
          </a:xfrm>
        </p:grpSpPr>
        <p:grpSp>
          <p:nvGrpSpPr>
            <p:cNvPr id="449" name=""/>
            <p:cNvGrpSpPr/>
            <p:nvPr/>
          </p:nvGrpSpPr>
          <p:grpSpPr>
            <a:xfrm>
              <a:off x="7407360" y="5629320"/>
              <a:ext cx="708120" cy="706320"/>
              <a:chOff x="7407360" y="5629320"/>
              <a:chExt cx="708120" cy="706320"/>
            </a:xfrm>
          </p:grpSpPr>
          <p:sp>
            <p:nvSpPr>
              <p:cNvPr id="450" name=""/>
              <p:cNvSpPr/>
              <p:nvPr/>
            </p:nvSpPr>
            <p:spPr>
              <a:xfrm>
                <a:off x="7729200" y="5629320"/>
                <a:ext cx="0" cy="70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407360" y="5950080"/>
                <a:ext cx="708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4062240" y="4599000"/>
              <a:ext cx="70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711520" y="6143760"/>
              <a:ext cx="0" cy="257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454120" y="6400800"/>
              <a:ext cx="579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2325240" y="6400800"/>
              <a:ext cx="128520" cy="2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2454120" y="6400800"/>
              <a:ext cx="128880" cy="2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2582640" y="6400800"/>
              <a:ext cx="128520" cy="2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2839680" y="6400800"/>
              <a:ext cx="128520" cy="2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224240" y="4438800"/>
              <a:ext cx="320760" cy="322200"/>
            </a:xfrm>
            <a:prstGeom prst="ellipse">
              <a:avLst/>
            </a:prstGeom>
            <a:noFill/>
            <a:ln w="7632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550960" y="5789520"/>
              <a:ext cx="322560" cy="322200"/>
            </a:xfrm>
            <a:prstGeom prst="ellipse">
              <a:avLst/>
            </a:prstGeom>
            <a:noFill/>
            <a:ln w="7632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69360" y="5789520"/>
              <a:ext cx="320400" cy="322200"/>
            </a:xfrm>
            <a:prstGeom prst="ellipse">
              <a:avLst/>
            </a:prstGeom>
            <a:noFill/>
            <a:ln w="7632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513320" y="4664160"/>
              <a:ext cx="3087720" cy="1222200"/>
            </a:xfrm>
            <a:prstGeom prst="line">
              <a:avLst/>
            </a:prstGeom>
            <a:ln w="507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2840040" y="4727520"/>
              <a:ext cx="1415880" cy="1093680"/>
            </a:xfrm>
            <a:prstGeom prst="line">
              <a:avLst/>
            </a:prstGeom>
            <a:ln w="507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384800" y="4278240"/>
              <a:ext cx="0" cy="64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057400" y="5867280"/>
              <a:ext cx="4492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215120" y="6078600"/>
              <a:ext cx="4492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33920" y="4267080"/>
              <a:ext cx="4507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048120" y="4952880"/>
              <a:ext cx="4507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3366cc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864400" y="4792680"/>
              <a:ext cx="514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6699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2711160" y="6400800"/>
              <a:ext cx="128520" cy="2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81200" y="3891960"/>
              <a:ext cx="4117320" cy="43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87" y="724"/>
                  </a:moveTo>
                  <a:arcTo wR="10800" hR="10800" stAng="-4134225" swAng="41342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87" y="724"/>
                  </a:moveTo>
                  <a:arcTo wR="10800" hR="10800" stAng="-4134225" swAng="4134225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7667640" y="5435640"/>
            <a:ext cx="1476360" cy="514080"/>
            <a:chOff x="7667640" y="5435640"/>
            <a:chExt cx="1476360" cy="514080"/>
          </a:xfrm>
        </p:grpSpPr>
        <p:sp>
          <p:nvSpPr>
            <p:cNvPr id="473" name=""/>
            <p:cNvSpPr/>
            <p:nvPr/>
          </p:nvSpPr>
          <p:spPr>
            <a:xfrm>
              <a:off x="7667640" y="5948640"/>
              <a:ext cx="1476360" cy="108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110440" y="5435640"/>
              <a:ext cx="885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99ccff"/>
                  </a:solidFill>
                  <a:latin typeface="Arial"/>
                </a:rPr>
                <a:t>V</a:t>
              </a:r>
              <a:r>
                <a:rPr b="1" lang="fr-FR" sz="1800" spc="-1" strike="noStrike">
                  <a:solidFill>
                    <a:srgbClr val="99ccff"/>
                  </a:solidFill>
                  <a:latin typeface="Arial"/>
                </a:rPr>
                <a:t>C2/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258040" y="5435640"/>
              <a:ext cx="590760" cy="0"/>
            </a:xfrm>
            <a:prstGeom prst="line">
              <a:avLst/>
            </a:prstGeom>
            <a:ln w="25560">
              <a:solidFill>
                <a:srgbClr val="99cc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952800" y="4599000"/>
            <a:ext cx="1274400" cy="1076400"/>
            <a:chOff x="3952800" y="4599000"/>
            <a:chExt cx="1274400" cy="1076400"/>
          </a:xfrm>
        </p:grpSpPr>
        <p:sp>
          <p:nvSpPr>
            <p:cNvPr id="477" name=""/>
            <p:cNvSpPr/>
            <p:nvPr/>
          </p:nvSpPr>
          <p:spPr>
            <a:xfrm>
              <a:off x="4384440" y="4599000"/>
              <a:ext cx="836640" cy="96516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3952800" y="5156280"/>
              <a:ext cx="1274400" cy="519120"/>
              <a:chOff x="3952800" y="5156280"/>
              <a:chExt cx="1274400" cy="519120"/>
            </a:xfrm>
          </p:grpSpPr>
          <p:sp>
            <p:nvSpPr>
              <p:cNvPr id="479" name=""/>
              <p:cNvSpPr/>
              <p:nvPr/>
            </p:nvSpPr>
            <p:spPr>
              <a:xfrm>
                <a:off x="3952800" y="5156280"/>
                <a:ext cx="12744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99ccff"/>
                    </a:solidFill>
                    <a:latin typeface="Arial"/>
                  </a:rPr>
                  <a:t>V</a:t>
                </a:r>
                <a:r>
                  <a:rPr b="1" lang="fr-FR" sz="2000" spc="-1" strike="noStrike">
                    <a:solidFill>
                      <a:srgbClr val="99ccff"/>
                    </a:solidFill>
                    <a:latin typeface="Arial"/>
                  </a:rPr>
                  <a:t>B2/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122360" y="5156280"/>
                <a:ext cx="679680" cy="0"/>
              </a:xfrm>
              <a:prstGeom prst="line">
                <a:avLst/>
              </a:prstGeom>
              <a:ln w="25560">
                <a:solidFill>
                  <a:srgbClr val="99cc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1" name=""/>
          <p:cNvSpPr/>
          <p:nvPr/>
        </p:nvSpPr>
        <p:spPr>
          <a:xfrm>
            <a:off x="776160" y="2489040"/>
            <a:ext cx="4611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ff6699"/>
                </a:solidFill>
                <a:uFillTx/>
                <a:latin typeface="Comic Sans MS"/>
              </a:rPr>
              <a:t>A cet instant</a:t>
            </a:r>
            <a:r>
              <a:rPr b="1" lang="fr-FR" sz="2400" spc="-1" strike="noStrike">
                <a:solidFill>
                  <a:srgbClr val="ff6699"/>
                </a:solidFill>
                <a:latin typeface="Comic Sans MS"/>
              </a:rPr>
              <a:t>, le solide 2 est en </a:t>
            </a:r>
            <a:r>
              <a:rPr b="1" lang="fr-FR" sz="2400" spc="-1" strike="noStrike" u="sng">
                <a:solidFill>
                  <a:srgbClr val="ff6699"/>
                </a:solidFill>
                <a:uFillTx/>
                <a:latin typeface="Comic Sans MS"/>
              </a:rPr>
              <a:t>rotation</a:t>
            </a:r>
            <a:r>
              <a:rPr b="1" lang="fr-FR" sz="2400" spc="-1" strike="noStrike">
                <a:solidFill>
                  <a:srgbClr val="ff6699"/>
                </a:solidFill>
                <a:latin typeface="Comic Sans MS"/>
              </a:rPr>
              <a:t> autour du CI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5133960" y="1506600"/>
            <a:ext cx="2508120" cy="735120"/>
            <a:chOff x="5133960" y="1506600"/>
            <a:chExt cx="2508120" cy="735120"/>
          </a:xfrm>
        </p:grpSpPr>
        <p:sp>
          <p:nvSpPr>
            <p:cNvPr id="483" name=""/>
            <p:cNvSpPr/>
            <p:nvPr/>
          </p:nvSpPr>
          <p:spPr>
            <a:xfrm rot="145200">
              <a:off x="5622480" y="1534680"/>
              <a:ext cx="1351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3366"/>
                  </a:solidFill>
                  <a:latin typeface="Arial"/>
                </a:rPr>
                <a:t>C.I.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414760" y="1857240"/>
              <a:ext cx="222732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133960" y="1519200"/>
              <a:ext cx="295200" cy="722520"/>
            </a:xfrm>
            <a:custGeom>
              <a:avLst/>
              <a:gdLst>
                <a:gd name="textAreaLeft" fmla="*/ 0 w 295200"/>
                <a:gd name="textAreaRight" fmla="*/ 106560 w 295200"/>
                <a:gd name="textAreaTop" fmla="*/ 18720 h 722520"/>
                <a:gd name="textAreaBottom" fmla="*/ 703800 h 72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5810400" y="763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a cinématique grap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495760" y="763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590840" y="4575240"/>
            <a:ext cx="19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Exempl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01040" y="1876320"/>
            <a:ext cx="266760" cy="324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42640" y="-106200"/>
            <a:ext cx="4267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 cinématique 3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43000" y="671400"/>
            <a:ext cx="86439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97040" y="671400"/>
            <a:ext cx="834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La méthode du centre instantané de rotation  ( C.I.R.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87400" y="1174680"/>
            <a:ext cx="35337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 centre étant </a:t>
            </a:r>
            <a:r>
              <a:rPr b="0" lang="fr-FR" sz="2400" spc="-1" strike="noStrike">
                <a:solidFill>
                  <a:srgbClr val="0099cc"/>
                </a:solidFill>
                <a:latin typeface="Arial"/>
              </a:rPr>
              <a:t>instantané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, sa position évolue sans ces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867280" y="763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a cinématique grap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553000" y="763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476360" y="3048120"/>
            <a:ext cx="2152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Questio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Quelle est l’allure de la courbe décrite par le C.I.R.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4495680" y="1119240"/>
            <a:ext cx="4119840" cy="5738760"/>
          </a:xfrm>
          <a:prstGeom prst="rect">
            <a:avLst/>
          </a:prstGeom>
          <a:ln w="0">
            <a:noFill/>
          </a:ln>
        </p:spPr>
      </p:pic>
      <p:sp>
        <p:nvSpPr>
          <p:cNvPr id="498" name="">
            <a:hlinkClick r:id="rId2"/>
          </p:cNvPr>
          <p:cNvSpPr/>
          <p:nvPr/>
        </p:nvSpPr>
        <p:spPr>
          <a:xfrm>
            <a:off x="2057400" y="59436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3048120" y="2514600"/>
            <a:ext cx="5673600" cy="452772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82160" y="-76680"/>
            <a:ext cx="4403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 cinématique 3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14200" y="654120"/>
            <a:ext cx="86439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26920" y="646200"/>
            <a:ext cx="834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La méthode de l’équiprojectivit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93880" y="1219320"/>
            <a:ext cx="8021520" cy="119124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finition 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les projections des vecteurs vitesses de deux points d’un même solide sur la droite passant par ces deux points sont ég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987480" y="3981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a preuve !!!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867280" y="763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a cinématique grap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553000" y="763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75960" y="-46440"/>
            <a:ext cx="4846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 cinématique 3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914400" y="3619440"/>
            <a:ext cx="8229600" cy="3238560"/>
            <a:chOff x="914400" y="3619440"/>
            <a:chExt cx="8229600" cy="3238560"/>
          </a:xfrm>
        </p:grpSpPr>
        <p:pic>
          <p:nvPicPr>
            <p:cNvPr id="509" name="equiprojectivité" descr=""/>
            <p:cNvPicPr/>
            <p:nvPr/>
          </p:nvPicPr>
          <p:blipFill>
            <a:blip r:embed="rId1"/>
            <a:stretch/>
          </p:blipFill>
          <p:spPr>
            <a:xfrm>
              <a:off x="914400" y="3619440"/>
              <a:ext cx="8229600" cy="323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>
              <a:off x="3344760" y="4597560"/>
              <a:ext cx="777960" cy="15969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228600" y="609480"/>
            <a:ext cx="86439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97040" y="609480"/>
            <a:ext cx="834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La méthode de l’équiprojectivit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1920" y="2622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 trace la perpendiculaire à cette projection jusqu’à  la direction de la vitesse que l’on cherche pour obtenir son intensit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984240" y="1835280"/>
            <a:ext cx="744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On reporte cette projection  sur le point dont on cherche la vitesse (dans le même </a:t>
            </a:r>
            <a:r>
              <a:rPr b="0" lang="fr-FR" sz="2400" spc="-1" strike="noStrike">
                <a:solidFill>
                  <a:srgbClr val="0099cc"/>
                </a:solidFill>
                <a:latin typeface="Times New Roman"/>
              </a:rPr>
              <a:t>sen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969840" y="14335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On projette la vitesse connue sur cette dro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958680" y="1116000"/>
            <a:ext cx="730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On trace la droite entre les deux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506680" y="4483080"/>
            <a:ext cx="6372360" cy="885960"/>
          </a:xfrm>
          <a:prstGeom prst="line">
            <a:avLst/>
          </a:prstGeom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4152960" y="3684600"/>
            <a:ext cx="390600" cy="2589120"/>
          </a:xfrm>
          <a:prstGeom prst="line">
            <a:avLst/>
          </a:prstGeom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344760" y="4610160"/>
            <a:ext cx="1044720" cy="13644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816360" y="4471920"/>
            <a:ext cx="1044720" cy="13644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25840" y="4441680"/>
            <a:ext cx="1044720" cy="13680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326200" y="4533840"/>
            <a:ext cx="1044360" cy="13644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891040" y="4724280"/>
            <a:ext cx="1044720" cy="13680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689880" y="4930920"/>
            <a:ext cx="1044360" cy="13644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246800" y="5143680"/>
            <a:ext cx="1044720" cy="13644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8145360" y="3782520"/>
            <a:ext cx="368280" cy="2589480"/>
          </a:xfrm>
          <a:prstGeom prst="line">
            <a:avLst/>
          </a:prstGeom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028880" y="1114560"/>
            <a:ext cx="0" cy="23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7281720" y="5127480"/>
            <a:ext cx="1006560" cy="288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867280" y="889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a cinématique grap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553000" y="763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52560" y="3816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 cinématique 3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609480"/>
            <a:ext cx="86439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609480"/>
            <a:ext cx="523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1°/ Composition de mouv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79960" y="1015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-Loi de composition des vit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79640" y="1193760"/>
            <a:ext cx="730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e mouvement étant relatif, il est possible de le décomposer par rapport à une suite de repères relatif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89040" y="5168880"/>
            <a:ext cx="47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vt</a:t>
            </a:r>
            <a:r>
              <a:rPr b="0" lang="fr-FR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2/0 </a:t>
            </a:r>
            <a:r>
              <a:rPr b="0" lang="fr-FR" sz="3600" spc="-1" strike="noStrike">
                <a:solidFill>
                  <a:srgbClr val="000000"/>
                </a:solidFill>
                <a:latin typeface="Arial Narrow"/>
              </a:rPr>
              <a:t>= M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vt</a:t>
            </a:r>
            <a:r>
              <a:rPr b="0" lang="fr-FR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2/1 </a:t>
            </a:r>
            <a:r>
              <a:rPr b="0" lang="fr-FR" sz="3600" spc="-1" strike="noStrike">
                <a:solidFill>
                  <a:srgbClr val="000000"/>
                </a:solidFill>
                <a:latin typeface="Arial Narrow"/>
              </a:rPr>
              <a:t>+</a:t>
            </a: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vt</a:t>
            </a:r>
            <a:r>
              <a:rPr b="0" lang="fr-FR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1/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composition%20de%20vitesses" descr=""/>
          <p:cNvPicPr/>
          <p:nvPr/>
        </p:nvPicPr>
        <p:blipFill>
          <a:blip r:embed="rId1"/>
          <a:stretch/>
        </p:blipFill>
        <p:spPr>
          <a:xfrm>
            <a:off x="1131840" y="2514600"/>
            <a:ext cx="801216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1143000" y="2209680"/>
            <a:ext cx="914400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Si D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Comic Sans MS"/>
                <a:ea typeface="Arial"/>
              </a:rPr>
              <a:t>2/1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= A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Comic Sans MS"/>
                <a:ea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A = 3 m, mesure le déplacement du trottoir pendant un interval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de tem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t et D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Comic Sans MS"/>
                <a:ea typeface="Arial"/>
              </a:rPr>
              <a:t>3/2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= AB = 2 m, le déplacement correspondant du piét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sur le trottoir, le piéton aura parcouru D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Comic Sans MS"/>
                <a:ea typeface="Arial"/>
              </a:rPr>
              <a:t>3/1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= D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Comic Sans MS"/>
                <a:ea typeface="Arial"/>
              </a:rPr>
              <a:t>3/2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+ D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Comic Sans MS"/>
                <a:ea typeface="Arial"/>
              </a:rPr>
              <a:t>2/1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= 5 m par rapport au s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1066680" y="3962520"/>
            <a:ext cx="8077320" cy="224460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838080" y="609480"/>
            <a:ext cx="845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Exemple 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 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   Prenons le cas le cas d'un piéton (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) qui marc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sur un trottoir roulant (2). (3) et (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) avancent dans le même sens par rapport au sol (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068480" y="1295280"/>
            <a:ext cx="8131320" cy="9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Il y a composition entre les trois mouvements 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vt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Comic Sans MS"/>
                <a:ea typeface="Arial"/>
              </a:rPr>
              <a:t>3/1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, 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vt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Comic Sans MS"/>
                <a:ea typeface="Arial"/>
              </a:rPr>
              <a:t>3/2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et 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vt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Comic Sans MS"/>
                <a:ea typeface="Arial"/>
              </a:rPr>
              <a:t>2/1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Le mouvement du piéton par rapport au sol (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vt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Comic Sans MS"/>
                <a:ea typeface="Arial"/>
              </a:rPr>
              <a:t>3/1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)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est le composé des deux autres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vt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Comic Sans MS"/>
                <a:ea typeface="Arial"/>
              </a:rPr>
              <a:t>3/1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= 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vt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Comic Sans MS"/>
                <a:ea typeface="Arial"/>
              </a:rPr>
              <a:t>3/2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+ 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vt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Comic Sans MS"/>
                <a:ea typeface="Arial"/>
              </a:rPr>
              <a:t>2/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4191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66"/>
                </a:solidFill>
                <a:latin typeface="Times New Roman"/>
              </a:rPr>
              <a:t>A4-Tapis roulant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6" name="">
            <a:hlinkClick r:id="rId2" action="ppaction://hlinksldjump"/>
          </p:cNvPr>
          <p:cNvSpPr/>
          <p:nvPr/>
        </p:nvSpPr>
        <p:spPr>
          <a:xfrm>
            <a:off x="7696080" y="6172200"/>
            <a:ext cx="990720" cy="457200"/>
          </a:xfrm>
          <a:prstGeom prst="rightArrow">
            <a:avLst>
              <a:gd name="adj1" fmla="val 50000"/>
              <a:gd name="adj2" fmla="val 54173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696080" y="625320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b1f03"/>
                </a:solidFill>
                <a:latin typeface="Arial"/>
              </a:rPr>
              <a:t>Ret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4952880" cy="243360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0" y="271296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3657600" y="5181480"/>
                <a:ext cx="16765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</m:den>
                            </m:f>
                          </m:sub>
                        </m:sSub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</m:den>
                            </m:f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2286000" y="6058080"/>
                <a:ext cx="457200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sSub>
                          <m:e/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</m:den>
                            </m:f>
                          </m:sub>
                        </m:sSub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2</m:t>
                                </m:r>
                              </m:e>
                              <m:sub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4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m et tan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p>
                    </m:sSup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2" name=""/>
          <p:cNvSpPr/>
          <p:nvPr/>
        </p:nvSpPr>
        <p:spPr>
          <a:xfrm>
            <a:off x="1037160" y="685800"/>
            <a:ext cx="8085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Exemple 2 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 un bateau (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) traverse un fleuve (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) en partant du point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et en visant un point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 sur l'autre rive (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), perpendiculairement au sens du coura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143000" y="3809880"/>
            <a:ext cx="777240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Le mouvement du bateau par rapport aux rives (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vt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Comic Sans MS"/>
                <a:ea typeface="Arial"/>
              </a:rPr>
              <a:t>3/1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)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résulte de la composi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des mouvements bateau / fleuve (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vt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Comic Sans MS"/>
                <a:ea typeface="Arial"/>
              </a:rPr>
              <a:t>3/2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) et fleuve / rives (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vt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Comic Sans MS"/>
                <a:ea typeface="Arial"/>
              </a:rPr>
              <a:t>2/1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)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593160" y="4422600"/>
            <a:ext cx="1882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M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vt</a:t>
            </a:r>
            <a:r>
              <a:rPr b="0" i="1" lang="en-US" sz="1600" spc="-1" strike="noStrike" baseline="-30000">
                <a:solidFill>
                  <a:srgbClr val="000000"/>
                </a:solidFill>
                <a:latin typeface="Comic Sans MS"/>
                <a:ea typeface="Arial"/>
              </a:rPr>
              <a:t>3/1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=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M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vt</a:t>
            </a:r>
            <a:r>
              <a:rPr b="0" i="1" lang="en-US" sz="1600" spc="-1" strike="noStrike" baseline="-30000">
                <a:solidFill>
                  <a:srgbClr val="000000"/>
                </a:solidFill>
                <a:latin typeface="Comic Sans MS"/>
                <a:ea typeface="Arial"/>
              </a:rPr>
              <a:t>3/2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+ M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vt</a:t>
            </a:r>
            <a:r>
              <a:rPr b="0" i="1" lang="en-US" sz="1600" spc="-1" strike="noStrike" baseline="-30000">
                <a:solidFill>
                  <a:srgbClr val="000000"/>
                </a:solidFill>
                <a:latin typeface="Comic Sans MS"/>
                <a:ea typeface="Arial"/>
              </a:rPr>
              <a:t>2/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209960" y="4803840"/>
            <a:ext cx="742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Dans ce cas, la composition de mouvement s'effectue de façon vectorielle 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219320" y="5562720"/>
            <a:ext cx="647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Si pendant un intervalle de tem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t,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D</a:t>
            </a:r>
            <a:r>
              <a:rPr b="0" i="1" lang="en-US" sz="1600" spc="-1" strike="noStrike" baseline="-30000">
                <a:solidFill>
                  <a:srgbClr val="000000"/>
                </a:solidFill>
                <a:latin typeface="Comic Sans MS"/>
                <a:ea typeface="Arial"/>
              </a:rPr>
              <a:t>3/2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 = 3m,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D</a:t>
            </a:r>
            <a:r>
              <a:rPr b="0" i="1" lang="en-US" sz="1600" spc="-1" strike="noStrike" baseline="-30000">
                <a:solidFill>
                  <a:srgbClr val="000000"/>
                </a:solidFill>
                <a:latin typeface="Comic Sans MS"/>
                <a:ea typeface="Arial"/>
              </a:rPr>
              <a:t>2/1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 = 4m alors 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66"/>
                </a:solidFill>
                <a:latin typeface="Times New Roman"/>
              </a:rPr>
              <a:t>A5-Bateau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8" name="">
            <a:hlinkClick r:id="rId2" action="ppaction://hlinksldjump"/>
          </p:cNvPr>
          <p:cNvSpPr/>
          <p:nvPr/>
        </p:nvSpPr>
        <p:spPr>
          <a:xfrm>
            <a:off x="7696080" y="6095880"/>
            <a:ext cx="990720" cy="457200"/>
          </a:xfrm>
          <a:prstGeom prst="rightArrow">
            <a:avLst>
              <a:gd name="adj1" fmla="val 50000"/>
              <a:gd name="adj2" fmla="val 54173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696080" y="61768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b1f03"/>
                </a:solidFill>
                <a:latin typeface="Arial"/>
              </a:rPr>
              <a:t>Ret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66"/>
                </a:solidFill>
                <a:latin typeface="Times New Roman"/>
              </a:rPr>
              <a:t>A6-Exemples composition des vitess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51" name="Exemple%20Composition%20des%20vitesses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701120" cy="4403880"/>
          </a:xfrm>
          <a:prstGeom prst="rect">
            <a:avLst/>
          </a:prstGeom>
          <a:ln w="0">
            <a:noFill/>
          </a:ln>
        </p:spPr>
      </p:pic>
      <p:sp>
        <p:nvSpPr>
          <p:cNvPr id="552" name="">
            <a:hlinkClick r:id="rId2" action="ppaction://hlinksldjump"/>
          </p:cNvPr>
          <p:cNvSpPr/>
          <p:nvPr/>
        </p:nvSpPr>
        <p:spPr>
          <a:xfrm>
            <a:off x="7696080" y="6095880"/>
            <a:ext cx="990720" cy="457200"/>
          </a:xfrm>
          <a:prstGeom prst="rightArrow">
            <a:avLst>
              <a:gd name="adj1" fmla="val 50000"/>
              <a:gd name="adj2" fmla="val 54173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696080" y="61768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b1f03"/>
                </a:solidFill>
                <a:latin typeface="Arial"/>
              </a:rPr>
              <a:t>Ret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66"/>
                </a:solidFill>
                <a:latin typeface="Times New Roman"/>
              </a:rPr>
              <a:t>A7-Exemples composition des vitess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55" name="Exemple%20Composition%20des%20vitesses%202" descr=""/>
          <p:cNvPicPr/>
          <p:nvPr/>
        </p:nvPicPr>
        <p:blipFill>
          <a:blip r:embed="rId1"/>
          <a:stretch/>
        </p:blipFill>
        <p:spPr>
          <a:xfrm>
            <a:off x="1123920" y="2286000"/>
            <a:ext cx="8020080" cy="1895400"/>
          </a:xfrm>
          <a:prstGeom prst="rect">
            <a:avLst/>
          </a:prstGeom>
          <a:ln w="0">
            <a:noFill/>
          </a:ln>
        </p:spPr>
      </p:pic>
      <p:sp>
        <p:nvSpPr>
          <p:cNvPr id="556" name="">
            <a:hlinkClick r:id="rId2" action="ppaction://hlinksldjump"/>
          </p:cNvPr>
          <p:cNvSpPr/>
          <p:nvPr/>
        </p:nvSpPr>
        <p:spPr>
          <a:xfrm>
            <a:off x="7696080" y="6095880"/>
            <a:ext cx="990720" cy="457200"/>
          </a:xfrm>
          <a:prstGeom prst="rightArrow">
            <a:avLst>
              <a:gd name="adj1" fmla="val 50000"/>
              <a:gd name="adj2" fmla="val 54173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696080" y="61768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b1f03"/>
                </a:solidFill>
                <a:latin typeface="Arial"/>
              </a:rPr>
              <a:t>Ret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66"/>
                </a:solidFill>
                <a:latin typeface="Times New Roman"/>
              </a:rPr>
              <a:t>A8-Exemples Composition des vitess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59" name="Exemple%20Composition%20des%20vitesses%203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7772400" cy="4230720"/>
          </a:xfrm>
          <a:prstGeom prst="rect">
            <a:avLst/>
          </a:prstGeom>
          <a:ln w="0">
            <a:noFill/>
          </a:ln>
        </p:spPr>
      </p:pic>
      <p:sp>
        <p:nvSpPr>
          <p:cNvPr id="560" name="">
            <a:hlinkClick r:id="rId2" action="ppaction://hlinksldjump"/>
          </p:cNvPr>
          <p:cNvSpPr/>
          <p:nvPr/>
        </p:nvSpPr>
        <p:spPr>
          <a:xfrm>
            <a:off x="7696080" y="6095880"/>
            <a:ext cx="990720" cy="457200"/>
          </a:xfrm>
          <a:prstGeom prst="rightArrow">
            <a:avLst>
              <a:gd name="adj1" fmla="val 50000"/>
              <a:gd name="adj2" fmla="val 54173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696080" y="61768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b1f03"/>
                </a:solidFill>
                <a:latin typeface="Arial"/>
              </a:rPr>
              <a:t>Ret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76240" y="12600"/>
            <a:ext cx="4191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 cinématique 3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609480"/>
            <a:ext cx="86439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95960" y="88920"/>
            <a:ext cx="37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oi de composition des vit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609480"/>
            <a:ext cx="656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2°/ Composition des vitesses (cas génér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74600" y="1216080"/>
            <a:ext cx="76582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ut comme les mouvements, la </a:t>
            </a:r>
            <a:r>
              <a:rPr b="0" lang="fr-FR" sz="2400" spc="-1" strike="noStrike">
                <a:solidFill>
                  <a:srgbClr val="0099cc"/>
                </a:solidFill>
                <a:latin typeface="Arial"/>
              </a:rPr>
              <a:t>vitesse d’un </a:t>
            </a:r>
            <a:r>
              <a:rPr b="0" lang="fr-FR" sz="2400" spc="-1" strike="noStrike" u="sng">
                <a:solidFill>
                  <a:srgbClr val="0099cc"/>
                </a:solidFill>
                <a:uFillTx/>
                <a:latin typeface="Arial"/>
              </a:rPr>
              <a:t>po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peut être décomposée en plusieurs vitesses relati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mposition%20de%20vitesses" descr=""/>
          <p:cNvPicPr/>
          <p:nvPr/>
        </p:nvPicPr>
        <p:blipFill>
          <a:blip r:embed="rId1"/>
          <a:stretch/>
        </p:blipFill>
        <p:spPr>
          <a:xfrm>
            <a:off x="907920" y="2487600"/>
            <a:ext cx="8012160" cy="2238480"/>
          </a:xfrm>
          <a:prstGeom prst="rect">
            <a:avLst/>
          </a:prstGeom>
          <a:ln w="0">
            <a:noFill/>
          </a:ln>
        </p:spPr>
      </p:pic>
      <p:grpSp>
        <p:nvGrpSpPr>
          <p:cNvPr id="146" name=""/>
          <p:cNvGrpSpPr/>
          <p:nvPr/>
        </p:nvGrpSpPr>
        <p:grpSpPr>
          <a:xfrm>
            <a:off x="2608200" y="5194440"/>
            <a:ext cx="3806640" cy="703440"/>
            <a:chOff x="2608200" y="5194440"/>
            <a:chExt cx="3806640" cy="703440"/>
          </a:xfrm>
        </p:grpSpPr>
        <p:sp>
          <p:nvSpPr>
            <p:cNvPr id="147" name=""/>
            <p:cNvSpPr/>
            <p:nvPr/>
          </p:nvSpPr>
          <p:spPr>
            <a:xfrm>
              <a:off x="2608200" y="5194440"/>
              <a:ext cx="3806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 Narrow"/>
                </a:rPr>
                <a:t>V</a:t>
              </a:r>
              <a:r>
                <a:rPr b="0" lang="fr-FR" sz="32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r>
                <a:rPr b="0" lang="fr-FR" sz="2400" spc="-1" strike="noStrike">
                  <a:solidFill>
                    <a:srgbClr val="000000"/>
                  </a:solidFill>
                  <a:latin typeface="Arial Narrow"/>
                </a:rPr>
                <a:t>2/0</a:t>
              </a:r>
              <a:r>
                <a:rPr b="0" lang="fr-FR" sz="36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fr-FR" sz="4000" spc="-1" strike="noStrike">
                  <a:solidFill>
                    <a:srgbClr val="000000"/>
                  </a:solidFill>
                  <a:latin typeface="Arial Narrow"/>
                </a:rPr>
                <a:t>= V</a:t>
              </a:r>
              <a:r>
                <a:rPr b="0" lang="fr-FR" sz="32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r>
                <a:rPr b="0" lang="fr-FR" sz="2400" spc="-1" strike="noStrike">
                  <a:solidFill>
                    <a:srgbClr val="000000"/>
                  </a:solidFill>
                  <a:latin typeface="Arial Narrow"/>
                </a:rPr>
                <a:t>2/1</a:t>
              </a:r>
              <a:r>
                <a:rPr b="0" lang="fr-FR" sz="36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fr-FR" sz="4000" spc="-1" strike="noStrike">
                  <a:solidFill>
                    <a:srgbClr val="000000"/>
                  </a:solidFill>
                  <a:latin typeface="Arial Narrow"/>
                </a:rPr>
                <a:t>+  V</a:t>
              </a:r>
              <a:r>
                <a:rPr b="0" lang="fr-FR" sz="32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r>
                <a:rPr b="0" lang="fr-FR" sz="2400" spc="-1" strike="noStrike">
                  <a:solidFill>
                    <a:srgbClr val="000000"/>
                  </a:solidFill>
                  <a:latin typeface="Arial Narrow"/>
                </a:rPr>
                <a:t>1/0</a:t>
              </a:r>
              <a:r>
                <a:rPr b="0" lang="fr-FR" sz="36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93880" y="5270760"/>
              <a:ext cx="82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1960" y="5258160"/>
              <a:ext cx="82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12960" y="5270760"/>
              <a:ext cx="82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276720" y="2577960"/>
            <a:ext cx="558720" cy="459720"/>
            <a:chOff x="3276720" y="2577960"/>
            <a:chExt cx="558720" cy="459720"/>
          </a:xfrm>
        </p:grpSpPr>
        <p:sp>
          <p:nvSpPr>
            <p:cNvPr id="152" name=""/>
            <p:cNvSpPr/>
            <p:nvPr/>
          </p:nvSpPr>
          <p:spPr>
            <a:xfrm>
              <a:off x="3276720" y="2832120"/>
              <a:ext cx="88920" cy="8892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03440" y="257796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99cc"/>
                  </a:solidFill>
                  <a:latin typeface="Arial Narrow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5010120" y="9540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7391520" y="533412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rId3" action="ppaction://hlinksldjump"/>
          </p:cNvPr>
          <p:cNvSpPr/>
          <p:nvPr/>
        </p:nvSpPr>
        <p:spPr>
          <a:xfrm>
            <a:off x="7395120" y="5410080"/>
            <a:ext cx="3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b1f03"/>
                </a:solidFill>
                <a:latin typeface="Vecteur"/>
              </a:rPr>
              <a:t>A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5040" y="-8280"/>
            <a:ext cx="4559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 cinématique 3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655560"/>
            <a:ext cx="86439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72280" y="12600"/>
            <a:ext cx="37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oi de composition des vit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609480"/>
            <a:ext cx="656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2°/ Composition des vitesses (cas génér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219320"/>
            <a:ext cx="18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xempl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13080" y="6156360"/>
            <a:ext cx="542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600" spc="-1" strike="noStrike">
                <a:solidFill>
                  <a:srgbClr val="009900"/>
                </a:solidFill>
                <a:latin typeface="Times New Roman"/>
              </a:rPr>
              <a:t>3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fr-FR" sz="3600" spc="-1" strike="noStrike">
                <a:solidFill>
                  <a:srgbClr val="969696"/>
                </a:solidFill>
                <a:latin typeface="Times New Roman"/>
              </a:rPr>
              <a:t>0 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fr-FR" sz="3600" spc="-1" strike="noStrike">
                <a:solidFill>
                  <a:srgbClr val="969696"/>
                </a:solidFill>
                <a:latin typeface="Times New Roman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600" spc="-1" strike="noStrike">
                <a:solidFill>
                  <a:srgbClr val="009900"/>
                </a:solidFill>
                <a:latin typeface="Times New Roman"/>
              </a:rPr>
              <a:t>3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fr-FR" sz="3600" spc="-1" strike="noStrike">
                <a:solidFill>
                  <a:srgbClr val="3366cc"/>
                </a:solidFill>
                <a:latin typeface="Times New Roman"/>
              </a:rPr>
              <a:t>1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fr-FR" sz="36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600" spc="-1" strike="noStrike">
                <a:solidFill>
                  <a:srgbClr val="3366cc"/>
                </a:solidFill>
                <a:latin typeface="Times New Roman"/>
              </a:rPr>
              <a:t>1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fr-FR" sz="3600" spc="-1" strike="noStrike">
                <a:solidFill>
                  <a:srgbClr val="969696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502000" y="1143000"/>
            <a:ext cx="6642000" cy="51260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086440" y="190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5238360" y="3676680"/>
            <a:ext cx="552600" cy="3816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819760" y="1971720"/>
            <a:ext cx="123840" cy="175248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248520" y="3505320"/>
            <a:ext cx="457200" cy="459720"/>
            <a:chOff x="6248520" y="3505320"/>
            <a:chExt cx="457200" cy="459720"/>
          </a:xfrm>
        </p:grpSpPr>
        <p:sp>
          <p:nvSpPr>
            <p:cNvPr id="168" name=""/>
            <p:cNvSpPr/>
            <p:nvPr/>
          </p:nvSpPr>
          <p:spPr>
            <a:xfrm>
              <a:off x="6248520" y="358128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24852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419720" y="4114800"/>
            <a:ext cx="457200" cy="459720"/>
            <a:chOff x="4419720" y="4114800"/>
            <a:chExt cx="457200" cy="459720"/>
          </a:xfrm>
        </p:grpSpPr>
        <p:sp>
          <p:nvSpPr>
            <p:cNvPr id="171" name=""/>
            <p:cNvSpPr/>
            <p:nvPr/>
          </p:nvSpPr>
          <p:spPr>
            <a:xfrm>
              <a:off x="4419720" y="41911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19720" y="4114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172200" y="4114800"/>
            <a:ext cx="457200" cy="459720"/>
            <a:chOff x="6172200" y="4114800"/>
            <a:chExt cx="457200" cy="459720"/>
          </a:xfrm>
        </p:grpSpPr>
        <p:sp>
          <p:nvSpPr>
            <p:cNvPr id="174" name=""/>
            <p:cNvSpPr/>
            <p:nvPr/>
          </p:nvSpPr>
          <p:spPr>
            <a:xfrm>
              <a:off x="61722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172200" y="4114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876920" y="3809880"/>
            <a:ext cx="914400" cy="465120"/>
            <a:chOff x="4876920" y="3809880"/>
            <a:chExt cx="914400" cy="465120"/>
          </a:xfrm>
        </p:grpSpPr>
        <p:sp>
          <p:nvSpPr>
            <p:cNvPr id="177" name=""/>
            <p:cNvSpPr/>
            <p:nvPr/>
          </p:nvSpPr>
          <p:spPr>
            <a:xfrm>
              <a:off x="4876920" y="38098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3366cc"/>
                  </a:solidFill>
                  <a:latin typeface="Times New Roman"/>
                </a:rPr>
                <a:t>V 3/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48280" y="39985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3366cc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05800" y="38098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5867280" y="2438280"/>
            <a:ext cx="914400" cy="465120"/>
            <a:chOff x="5867280" y="2438280"/>
            <a:chExt cx="914400" cy="465120"/>
          </a:xfrm>
        </p:grpSpPr>
        <p:sp>
          <p:nvSpPr>
            <p:cNvPr id="181" name=""/>
            <p:cNvSpPr/>
            <p:nvPr/>
          </p:nvSpPr>
          <p:spPr>
            <a:xfrm>
              <a:off x="5867280" y="243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3366cc"/>
                  </a:solidFill>
                  <a:latin typeface="Times New Roman"/>
                </a:rPr>
                <a:t>V 1/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38640" y="26269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3366cc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96160" y="24382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4495680" y="2590920"/>
            <a:ext cx="914400" cy="465120"/>
            <a:chOff x="4495680" y="2590920"/>
            <a:chExt cx="914400" cy="465120"/>
          </a:xfrm>
        </p:grpSpPr>
        <p:sp>
          <p:nvSpPr>
            <p:cNvPr id="185" name=""/>
            <p:cNvSpPr/>
            <p:nvPr/>
          </p:nvSpPr>
          <p:spPr>
            <a:xfrm>
              <a:off x="4495680" y="25909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eb1f03"/>
                  </a:solidFill>
                  <a:latin typeface="Times New Roman"/>
                </a:rPr>
                <a:t>V 3/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67040" y="27795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eb1f03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24560" y="25909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315200" y="3276720"/>
            <a:ext cx="457200" cy="459720"/>
            <a:chOff x="7315200" y="3276720"/>
            <a:chExt cx="457200" cy="459720"/>
          </a:xfrm>
        </p:grpSpPr>
        <p:sp>
          <p:nvSpPr>
            <p:cNvPr id="189" name=""/>
            <p:cNvSpPr/>
            <p:nvPr/>
          </p:nvSpPr>
          <p:spPr>
            <a:xfrm>
              <a:off x="7315200" y="33530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315200" y="3276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400800" y="495288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eb1f03"/>
                </a:solidFill>
                <a:latin typeface="Arial"/>
              </a:rPr>
              <a:t>Lancer l’ani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4648320" y="1752480"/>
                <a:ext cx="251460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/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</m:den>
                            </m:f>
                          </m:sub>
                        </m:sSub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/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/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</m:den>
                            </m:f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514600" y="4648320"/>
                <a:ext cx="36576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/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</m:den>
                            </m:f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/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/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</m:den>
                            </m:f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404352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048120" y="3581280"/>
                <a:ext cx="25905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</m:den>
                            </m:f>
                          </m:sub>
                        </m:sSub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</m:den>
                            </m:f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50680" y="12600"/>
            <a:ext cx="4160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 cinématique 3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701640"/>
            <a:ext cx="86439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72280" y="58680"/>
            <a:ext cx="37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oi de composition des vit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86440" y="651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762120"/>
            <a:ext cx="656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3°/ Composition des vitesses angula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95280" y="1828800"/>
            <a:ext cx="35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Le raisonnement est identique, 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86640" y="2362320"/>
            <a:ext cx="709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sont les vitesses angulaires des solides 1, 2 et 3 en mouvements relatif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on peut écrire la relation de composition 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32000" y="5337000"/>
            <a:ext cx="604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Les remarques sont les mêmes qu'au paragraphe précéd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la relation peut être généralisée à n solid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28760" y="4343400"/>
            <a:ext cx="321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(forme algébrique pour le pl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00400" y="3203640"/>
            <a:ext cx="327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(forme vectorielle pour l’esp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3962520" cy="2487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2552760" y="5651640"/>
                <a:ext cx="7621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187800" y="5092560"/>
                <a:ext cx="6858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371600" y="5638680"/>
                <a:ext cx="762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</m:den>
                            </m:f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657600" y="6248520"/>
                <a:ext cx="2062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t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1285200" y="4737240"/>
            <a:ext cx="7454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On appelle vitesse de glissement en A du solide (1) par rapport au solide (2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la vitesse rel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419120" y="5867280"/>
            <a:ext cx="612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ou                est toujours contenue dans le plan tang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au contact (portée par      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95280" y="1371600"/>
            <a:ext cx="7543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A est le point de contact entre les solides (1) et (2) en glissement relatif.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est un vecteur unitaire du plan tangent au contact en 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est la normale (vecteur unitaire perpendiculaire à t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434960" y="1714680"/>
                <a:ext cx="185760" cy="31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t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409760" y="2031840"/>
                <a:ext cx="2062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990720" y="762120"/>
            <a:ext cx="656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4°/ Gliss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88840" y="12600"/>
            <a:ext cx="4237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 cinématique 3                  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701640"/>
            <a:ext cx="86439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72280" y="58680"/>
            <a:ext cx="37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oi de composition des vit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86440" y="651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4419720" cy="2575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6311880" y="1574640"/>
                <a:ext cx="2127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t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352680" y="4724280"/>
                <a:ext cx="6098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r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648320" y="4800600"/>
                <a:ext cx="7617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w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8610480" y="5257800"/>
                <a:ext cx="3207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w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1143000" y="6095880"/>
            <a:ext cx="7391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ou               est le pivotement de (1) par rapport à (2) autour de      .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481040" y="1684440"/>
                <a:ext cx="26352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W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702400" y="1676520"/>
                <a:ext cx="23184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143000" y="6019920"/>
                <a:ext cx="6094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p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133720" y="6095880"/>
                <a:ext cx="83808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p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7848720" y="6095880"/>
                <a:ext cx="2332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1707120" y="1676520"/>
            <a:ext cx="49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st un vecteur unitaire perpendiculaire à       et    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16720" y="4800600"/>
            <a:ext cx="350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La vitesse angulaire :                (ou 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95120" y="5334120"/>
            <a:ext cx="801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caractérise le roulement du solide  (1) par rapport au solide (2) autour de l'axe      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66680" y="1066680"/>
            <a:ext cx="656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5°/ Roulement et pivo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701640"/>
            <a:ext cx="86439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72280" y="58680"/>
            <a:ext cx="37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oi de composition des vit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086440" y="651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76240" y="63360"/>
            <a:ext cx="42674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 cinématique 3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3962520" y="2171880"/>
                <a:ext cx="137160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r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5562720" y="2781360"/>
                <a:ext cx="13716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209680" y="2171880"/>
                <a:ext cx="13716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r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886200" y="2781360"/>
                <a:ext cx="14479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¹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562720" y="2171880"/>
                <a:ext cx="129528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r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¹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2209680" y="2781360"/>
                <a:ext cx="13716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7315200" y="2133720"/>
                <a:ext cx="129528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r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¹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7238880" y="2781360"/>
                <a:ext cx="12956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¹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990720" y="3672000"/>
                <a:ext cx="111420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0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066680" y="4838760"/>
                <a:ext cx="11336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sub>
                    </m:sSub>
                    <m:r>
                      <m:t xml:space="preserve">¹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0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01440" y="25200"/>
            <a:ext cx="4236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 cinématique 3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701640"/>
            <a:ext cx="86439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72280" y="58680"/>
            <a:ext cx="37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oi de composition des vit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086440" y="651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63440" y="990720"/>
            <a:ext cx="432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6°/ Combinaisons possi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196000" y="3733920"/>
            <a:ext cx="13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dhé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347200" y="4915080"/>
            <a:ext cx="12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Gliss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61360" y="369576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Pivo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79760" y="4762440"/>
            <a:ext cx="195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Glisse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vec pivo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02440" y="4762440"/>
            <a:ext cx="185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Glisse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vec rou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181640" y="4610160"/>
            <a:ext cx="191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Glisse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vec roule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et pivo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25640" y="369576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Rou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137360" y="3467160"/>
            <a:ext cx="195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Roule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vec pivo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2019240"/>
            <a:ext cx="8039160" cy="389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09680" y="201924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81280" y="201924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34120" y="201924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162920" y="201924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003320" y="3314880"/>
            <a:ext cx="803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90720" y="4533840"/>
            <a:ext cx="803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>
            <a:hlinkClick r:id="rId1" action="ppaction://hlinksldjump"/>
          </p:cNvPr>
          <p:cNvSpPr/>
          <p:nvPr/>
        </p:nvSpPr>
        <p:spPr>
          <a:xfrm>
            <a:off x="7620120" y="617220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rId2" action="ppaction://hlinksldjump"/>
          </p:cNvPr>
          <p:cNvSpPr/>
          <p:nvPr/>
        </p:nvSpPr>
        <p:spPr>
          <a:xfrm>
            <a:off x="7623720" y="6248520"/>
            <a:ext cx="3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b1f03"/>
                </a:solidFill>
                <a:latin typeface="Vecteur"/>
              </a:rPr>
              <a:t>A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12600"/>
            <a:ext cx="4191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 cinématique 3                  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" y="685800"/>
            <a:ext cx="86439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12680" y="1012680"/>
            <a:ext cx="7999560" cy="15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’objectif est donc de </a:t>
            </a:r>
            <a:r>
              <a:rPr b="0" lang="fr-FR" sz="3200" spc="-1" strike="noStrike">
                <a:solidFill>
                  <a:srgbClr val="0099cc"/>
                </a:solidFill>
                <a:latin typeface="Arial"/>
              </a:rPr>
              <a:t>trouver graphiquement la vitesse d’un poi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d’un </a:t>
            </a: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</a:rPr>
              <a:t>mécanisme pla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dans une position donné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23760" y="2968560"/>
            <a:ext cx="8220240" cy="36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fr-FR" sz="3200" spc="-1" strike="noStrike">
                <a:solidFill>
                  <a:srgbClr val="0099cc"/>
                </a:solidFill>
                <a:latin typeface="Arial"/>
              </a:rPr>
              <a:t>mécanisme pla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est un système dans lequel tous les mouvements se font parallèlement au plan (aucun point du système ne sort de son plan d’origi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uvement de </a:t>
            </a:r>
            <a:r>
              <a:rPr b="0" lang="fr-FR" sz="2400" spc="-1" strike="noStrike">
                <a:solidFill>
                  <a:srgbClr val="0099cc"/>
                </a:solidFill>
                <a:latin typeface="Arial"/>
              </a:rPr>
              <a:t>translation dans le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uvement de </a:t>
            </a:r>
            <a:r>
              <a:rPr b="0" lang="fr-FR" sz="2400" spc="-1" strike="noStrike">
                <a:solidFill>
                  <a:srgbClr val="0099cc"/>
                </a:solidFill>
                <a:latin typeface="Arial"/>
              </a:rPr>
              <a:t>rota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autour de l’a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2400" spc="-1" strike="noStrike">
                <a:solidFill>
                  <a:srgbClr val="0099cc"/>
                </a:solidFill>
                <a:latin typeface="Arial"/>
              </a:rPr>
              <a:t>perpendiculaire au pla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562720" y="152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E-La cinématique grap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8T06:18:03Z</dcterms:created>
  <dc:creator>Antonin ARTAUD</dc:creator>
  <dc:description/>
  <dc:language>en-US</dc:language>
  <cp:lastModifiedBy>Michel</cp:lastModifiedBy>
  <dcterms:modified xsi:type="dcterms:W3CDTF">2015-04-18T09:00:47Z</dcterms:modified>
  <cp:revision>84</cp:revision>
  <dc:subject/>
  <dc:title>La cinématique</dc:title>
</cp:coreProperties>
</file>