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2.gif" ContentType="image/gif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B22-FB8C-44AB-BDCF-8BE01448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B58-AC76-4881-958B-294EEBB1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AD2-893B-4B4C-91BD-289527E9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7C8-F4AC-4DFC-8313-D2438C7D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E5EA-6062-4A7C-BC2E-8DF07588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F79D-4BE6-4CFA-AA74-CC22C7D8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7294-7AD6-4E51-BBA5-17D9B909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B4B0-C4D6-4FE5-B116-9CDB2C17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EEAE-B344-4A5C-86F5-B098A61E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A446-6FD4-4102-9478-23041FAA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92EE-8515-445F-BD5F-BCDA4332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A32-F534-4770-8513-566BDB3D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9A27-28FE-400F-A13A-94390DDA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E385-93BF-4FE1-A5F2-B1E258C5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FBAC-17E3-4D11-8400-33943AC4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E229-EF8E-441D-AA76-1002A0B0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143C-6731-4458-86E5-8DEE274F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0A9-3022-4CF9-8600-9BD8DD0E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2D8-42E1-4371-A3E1-8FD405B8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290-6163-4DD9-B349-BC708A18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991-8663-479A-B1A5-1FAAE554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B92-44F5-470F-A9FA-D4B17507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497-86F2-4D1A-A085-3AFBB8EA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2E9-2007-4E23-85F4-C415AC74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7C6A-4B38-4296-B7DA-245FF4AD8C8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4D40-E2FF-497D-93DD-9285B712BB1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Résistance des matériaux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914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-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600200"/>
            <a:ext cx="83059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I-1 Problèmes à résoudr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.Calcul de résistance :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l faut déterminer les dimensions d’une pièce pour qu’elle résiste aux diverses forces externes et qu’en tous points le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ollicitations intern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e dépassent pas certaines limi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.Calcul de rigidité :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déformations doivent être inférieure à une déformation       maximum que l’on s’est fix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.Calcul de vérification :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ertaines dimensions peuvent être imposées par le montage, il faudra donc vérifier si ces dimensions conviennent soit en fonctions des sollicitations soit en fonction des déform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d.Choix du matériaux :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l faut choisir le matériau ou le vérifier d’après les charges appliquées, les dimensions, les caractéristiques du matériau, son prix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43000" y="76212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-Bold"/>
              </a:rPr>
              <a:t>En fonction de « l’allure » du torseur de cohésion, une typologie des </a:t>
            </a:r>
            <a:r>
              <a:rPr b="1" lang="en-US" sz="1200" spc="-1" strike="noStrike">
                <a:solidFill>
                  <a:srgbClr val="000000"/>
                </a:solidFill>
                <a:latin typeface="Times-Bold"/>
              </a:rPr>
              <a:t>sollicitations</a:t>
            </a:r>
            <a:r>
              <a:rPr b="0" lang="en-US" sz="1200" spc="-1" strike="noStrike">
                <a:solidFill>
                  <a:srgbClr val="000000"/>
                </a:solidFill>
                <a:latin typeface="Times-Bold"/>
              </a:rPr>
              <a:t> est établi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-Bold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MT"/>
              </a:rPr>
              <a:t>On appelle </a:t>
            </a:r>
            <a:r>
              <a:rPr b="1" lang="fr-FR" sz="1200" spc="-1" strike="noStrike">
                <a:solidFill>
                  <a:srgbClr val="000000"/>
                </a:solidFill>
                <a:latin typeface="ArialMT"/>
              </a:rPr>
              <a:t>sollicitation simple</a:t>
            </a:r>
            <a:r>
              <a:rPr b="0" lang="fr-FR" sz="1200" spc="-1" strike="noStrike">
                <a:solidFill>
                  <a:srgbClr val="000000"/>
                </a:solidFill>
                <a:latin typeface="ArialMT"/>
              </a:rPr>
              <a:t> l'état de contrainte d’une poutre dont le torseur de cohésion ne comporte qu'un élément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219320" y="1905120"/>
          <a:ext cx="7162560" cy="3963960"/>
        </p:xfrm>
        <a:graphic>
          <a:graphicData uri="http://schemas.openxmlformats.org/drawingml/2006/table">
            <a:tbl>
              <a:tblPr/>
              <a:tblGrid>
                <a:gridCol w="1676160"/>
                <a:gridCol w="685800"/>
                <a:gridCol w="1052640"/>
                <a:gridCol w="1085760"/>
                <a:gridCol w="1087560"/>
                <a:gridCol w="15746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Nature d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ollicitation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ffort No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ffort Tranch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ment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o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ment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lex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orseur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hé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Traction(N&gt;0)</a:t>
                      </a:r>
                      <a:r>
                        <a:rPr b="1" lang="fr-FR" sz="12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Compression (N&lt;0)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f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fz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Cisaillement si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u T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f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fz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Torsion si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f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fz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Flexion p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f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u 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f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9765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934320" y="2514600"/>
                <a:ext cx="1190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N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9672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934320" y="3352680"/>
                <a:ext cx="12096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39434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934320" y="4267080"/>
                <a:ext cx="1257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91968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943680" y="5153040"/>
                <a:ext cx="1305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y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z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219320" y="6095880"/>
            <a:ext cx="769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 appelle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ollicitation composé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MT"/>
              </a:rPr>
              <a:t>l’état de sollicitation d’une poutr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oumise à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lusieurs sollicitations s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par exemple : Traction + flexion pure)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2486160"/>
            <a:ext cx="218880" cy="237960"/>
          </a:xfrm>
          <a:custGeom>
            <a:avLst/>
            <a:gdLst>
              <a:gd name="textAreaLeft" fmla="*/ 14040 w 218880"/>
              <a:gd name="textAreaRight" fmla="*/ 204840 w 218880"/>
              <a:gd name="textAreaTop" fmla="*/ 14040 h 237960"/>
              <a:gd name="textAreaBottom" fmla="*/ 223920 h 237960"/>
            </a:gdLst>
            <a:ahLst/>
            <a:rect l="textAreaLeft" t="textAreaTop" r="textAreaRight" b="textAreaBottom"/>
            <a:pathLst>
              <a:path w="21600" h="23480">
                <a:moveTo>
                  <a:pt x="0" y="0"/>
                </a:moveTo>
                <a:lnTo>
                  <a:pt x="21600" y="0"/>
                </a:lnTo>
                <a:lnTo>
                  <a:pt x="21600" y="23480"/>
                </a:lnTo>
                <a:lnTo>
                  <a:pt x="0" y="23480"/>
                </a:lnTo>
                <a:close/>
              </a:path>
              <a:path fill="lightenLess" w="21600" h="234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80">
                <a:moveTo>
                  <a:pt x="21600" y="0"/>
                </a:moveTo>
                <a:lnTo>
                  <a:pt x="21600" y="23480"/>
                </a:lnTo>
                <a:lnTo>
                  <a:pt x="20200" y="22080"/>
                </a:lnTo>
                <a:lnTo>
                  <a:pt x="20200" y="1400"/>
                </a:lnTo>
                <a:close/>
              </a:path>
              <a:path fill="darkenLess" w="21600" h="23480">
                <a:moveTo>
                  <a:pt x="21600" y="23480"/>
                </a:moveTo>
                <a:lnTo>
                  <a:pt x="0" y="23480"/>
                </a:lnTo>
                <a:lnTo>
                  <a:pt x="1400" y="22080"/>
                </a:lnTo>
                <a:lnTo>
                  <a:pt x="20200" y="22080"/>
                </a:lnTo>
                <a:close/>
              </a:path>
              <a:path fill="lighten" w="21600" h="23480">
                <a:moveTo>
                  <a:pt x="0" y="234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80"/>
                </a:lnTo>
                <a:close/>
              </a:path>
              <a:path fill="darken" w="21600" h="23480">
                <a:moveTo>
                  <a:pt x="3794" y="8241"/>
                </a:moveTo>
                <a:lnTo>
                  <a:pt x="4707" y="8241"/>
                </a:lnTo>
                <a:lnTo>
                  <a:pt x="5090" y="8607"/>
                </a:lnTo>
                <a:lnTo>
                  <a:pt x="14299" y="8607"/>
                </a:lnTo>
                <a:lnTo>
                  <a:pt x="14856" y="9164"/>
                </a:lnTo>
                <a:lnTo>
                  <a:pt x="14856" y="9712"/>
                </a:lnTo>
                <a:lnTo>
                  <a:pt x="16701" y="9712"/>
                </a:lnTo>
                <a:lnTo>
                  <a:pt x="17067" y="9164"/>
                </a:lnTo>
                <a:lnTo>
                  <a:pt x="17806" y="9164"/>
                </a:lnTo>
                <a:lnTo>
                  <a:pt x="17806" y="14316"/>
                </a:lnTo>
                <a:lnTo>
                  <a:pt x="17067" y="14316"/>
                </a:lnTo>
                <a:lnTo>
                  <a:pt x="16701" y="13768"/>
                </a:lnTo>
                <a:lnTo>
                  <a:pt x="14856" y="13768"/>
                </a:lnTo>
                <a:lnTo>
                  <a:pt x="14856" y="15047"/>
                </a:lnTo>
                <a:lnTo>
                  <a:pt x="5273" y="15047"/>
                </a:lnTo>
                <a:lnTo>
                  <a:pt x="5273" y="10817"/>
                </a:lnTo>
                <a:lnTo>
                  <a:pt x="5090" y="10817"/>
                </a:lnTo>
                <a:lnTo>
                  <a:pt x="4707" y="11183"/>
                </a:lnTo>
                <a:lnTo>
                  <a:pt x="3794" y="11183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9092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4343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33680" y="515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19320" y="152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V-Nature des sollic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9765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990720"/>
            <a:ext cx="4724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MT"/>
              </a:rPr>
              <a:t>Les efforts de cohésion, dont on connaît les éléments de réduction en G (grâce au torseur de cohésion), sont des actions mécaniques que le tronçon E2 de la poutre exerce sur le tronçon E1 à travers une section droite fictive S. La loi de répartition dans cette section S de ces efforts élémentaires est inconn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ardons de plus près ce qui se passe dans cette coupure. Noton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ction mécanique élémentaire au point M et ∆S l’élément de surface entourant c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lons     la normale extérieure en M au plan de la section S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143000" y="2095560"/>
                <a:ext cx="2286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952640" y="2467080"/>
                <a:ext cx="11412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81" name=""/>
          <p:cNvGraphicFramePr/>
          <p:nvPr/>
        </p:nvGraphicFramePr>
        <p:xfrm>
          <a:off x="5867280" y="838080"/>
          <a:ext cx="3276720" cy="18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838080"/>
                    <a:ext cx="327672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1447920" y="3733920"/>
            <a:ext cx="6400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ppell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eur contrain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M, relativement à la surface élémentaire ∆S, orientée par 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e extérieure      , le vecteur noté                  tel que 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ppell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te nor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la projection de                 sur la normale extérieure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ppell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te tangentiel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la projection de                   sur le plan de la facette ∆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077240" y="4705200"/>
                <a:ext cx="11412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229360" y="5210280"/>
                <a:ext cx="53316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5400720" y="4038480"/>
                <a:ext cx="1781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</m:mr>
                      <m:mr>
                        <m:e>
                          <m:r>
                            <m:t xml:space="preserve">DS</m:t>
                          </m:r>
                          <m:r>
                            <m:t xml:space="preserve">→</m:t>
                          </m:r>
                          <m:r>
                            <m:t xml:space="preserve">0</m:t>
                          </m:r>
                        </m:e>
                      </m:mr>
                    </m:m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724200" y="4686480"/>
                <a:ext cx="14292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143240" y="4105440"/>
                <a:ext cx="5335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924280" y="4133880"/>
                <a:ext cx="11412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62520" y="5229360"/>
                <a:ext cx="11412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896000" y="4657680"/>
                <a:ext cx="5331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5105520" y="582948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contrainte s’exprime en 1 Mpa = 1 N/mm</a:t>
            </a:r>
            <a:r>
              <a:rPr b="0" lang="fr-FR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124080" y="5867280"/>
                <a:ext cx="16290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+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8150400" y="1738440"/>
                <a:ext cx="2538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8588520" y="1327320"/>
                <a:ext cx="1396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2022480" y="583884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conséq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152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-Notion de vecteur contrainte en un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56160" y="1890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9600" y="1871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20400" y="8380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I-2 Essai de tract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60640" y="1881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2481120" cy="4800600"/>
          </a:xfrm>
          <a:prstGeom prst="rect">
            <a:avLst/>
          </a:prstGeom>
          <a:ln w="0">
            <a:noFill/>
          </a:ln>
        </p:spPr>
      </p:pic>
      <p:pic>
        <p:nvPicPr>
          <p:cNvPr id="135" name="tra-graf" descr=""/>
          <p:cNvPicPr/>
          <p:nvPr/>
        </p:nvPicPr>
        <p:blipFill>
          <a:blip r:embed="rId2"/>
          <a:stretch/>
        </p:blipFill>
        <p:spPr>
          <a:xfrm>
            <a:off x="4343400" y="685800"/>
            <a:ext cx="4191120" cy="3071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43400" y="685800"/>
            <a:ext cx="228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1952640"/>
            <a:ext cx="2844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29320" y="1857240"/>
            <a:ext cx="241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29600" y="1523880"/>
            <a:ext cx="2700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36576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omic Sans MS"/>
              </a:rPr>
              <a:t>Zone élastiqu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(segment O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4320" y="396252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Pour tous les points de cette droite, la déformation (l'allongement unitaire) est proportionnelle à la contrainte (à l'effort exercé). Le matériau est parfaitement élastique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57200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omic Sans MS"/>
              </a:rPr>
              <a:t>Zone d'écrouissag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(Partie A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3048120"/>
            <a:ext cx="289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800600"/>
            <a:ext cx="487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L'éprouvette a une déformation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plastique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ou permanente. L'allongement unitaire n'est plus proportionnel à l'effort appliqué. Lorsque celui ci est supprimé, l'éprouvette ne reprend pas sa longueur initiale. 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L'éprouvette s'allonge mais reste cylindrique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33880" y="5667480"/>
            <a:ext cx="480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omic Sans MS"/>
              </a:rPr>
              <a:t>Zone de striction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(Partie 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L'allongement continue de croître avec un effort qui diminue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Il apparaît un étranglement ou striction, qui s'accentue jusqu'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la rupture en D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48400" y="866880"/>
            <a:ext cx="2574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95280" y="556272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: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ésistance élastique. (N / mm²)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m: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ésistance maximale. (N / mm²)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r: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ésistance à la rupture. (N / mm²)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longueur initiale. (m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longueur à la rupture. (mm)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22360" y="6146640"/>
            <a:ext cx="106560" cy="174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15880" y="6318360"/>
            <a:ext cx="127080" cy="206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800600" y="6019920"/>
            <a:ext cx="982800" cy="395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58000" y="54864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omic Sans MS"/>
              </a:rPr>
              <a:t>Loi de Hooke :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086600" y="5791320"/>
            <a:ext cx="685800" cy="199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724280" y="457200"/>
            <a:ext cx="4189680" cy="4724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724280" y="56386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omic Sans MS"/>
              </a:rPr>
              <a:t>Allongement % :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6324480"/>
            <a:ext cx="228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E: 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Module d'élasticité longitudina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ou de Young. (Mpa ou N / mm²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73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4343400" y="1828800"/>
            <a:ext cx="500040" cy="426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1295280" y="457200"/>
            <a:ext cx="3086280" cy="4724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24480" y="50292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omic Sans MS"/>
              </a:rPr>
              <a:t>Zone élastique 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(segment O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371600"/>
            <a:ext cx="373392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5410080"/>
            <a:ext cx="129564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90720" y="228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I-Hypothèses de la R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219320"/>
            <a:ext cx="845820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2920" rIns="90000" tIns="7632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notions abordées dans ce cours ne sont valables que pour des solides ayant une forme d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tre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’est-à-dire un solide pour lequel 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ongueur L est au moins 4 à 5 fois supérieure au diamètre D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’y a pas de brusque variation de section (trous, épaulements)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olide admet un seul et même plan de symétrie pour les charges et la géométr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existe une ligne moyenne, continue, passant par les barycentres des sections du solide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657600" cy="1914480"/>
          </a:xfrm>
          <a:prstGeom prst="rect">
            <a:avLst/>
          </a:prstGeom>
          <a:ln w="0">
            <a:noFill/>
          </a:ln>
        </p:spPr>
      </p:pic>
      <p:pic>
        <p:nvPicPr>
          <p:cNvPr id="165" name="ex_p1" descr=""/>
          <p:cNvPicPr/>
          <p:nvPr/>
        </p:nvPicPr>
        <p:blipFill>
          <a:blip r:embed="rId2"/>
          <a:stretch/>
        </p:blipFill>
        <p:spPr>
          <a:xfrm>
            <a:off x="914400" y="5105520"/>
            <a:ext cx="4762440" cy="1218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14000" y="472428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s de poutres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95288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s de poutres ne satisfaisant pas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hypothèse de symétrie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ex_p2" descr=""/>
          <p:cNvPicPr/>
          <p:nvPr/>
        </p:nvPicPr>
        <p:blipFill>
          <a:blip r:embed="rId3"/>
          <a:stretch/>
        </p:blipFill>
        <p:spPr>
          <a:xfrm>
            <a:off x="5791320" y="5638680"/>
            <a:ext cx="3124080" cy="695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791320" y="4724280"/>
            <a:ext cx="3200400" cy="1828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320" y="76212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II-1 Notion de pou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32200" y="76212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II-2 Hypothèse fondam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676520"/>
            <a:ext cx="8001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hypothèses simplificatrices de la résistance des matériaux sont les suivantes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Les matériaux sont </a:t>
            </a:r>
            <a:r>
              <a:rPr b="1" i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gèn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</a:t>
            </a:r>
            <a:r>
              <a:rPr b="1" i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trop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homogèn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: On admet que les matériaux ont la même composition, en tout po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   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sotrop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: On admet que les matériaux ont, en un même point, les mêmes propriété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écaniques dans toutes les directions. L'isotropie est vérifiée pour les aciers n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« fibrés  » (Les aciers laminés et forgés ne sont pas isotropes). Cette hypothèse n'est p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vérifiée pour le bois, les matériaux composites, etc.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Il n’y a pas de </a:t>
            </a:r>
            <a:r>
              <a:rPr b="1" i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chissement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sections droites : les sections droites planes 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ires à la ligne moyenne (fibre neutre), restent planes et perpendiculaires à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igne moyenne après déformation 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Toutes les forces extérieures exercées sur la poutre sont contenues dans un pla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étrie 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On suppose que les déformations restent faibles par rapport aux dimensions d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t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152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II-Efforts intérieurs ou Torseur de cohé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30760" y="76212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III-1 Dé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1447920"/>
            <a:ext cx="7391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érons une poutre P, en équilibre sous l’effet d’actions mécaniques extérie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mettre en évidence les efforts transmis par la matière au niveau de la section S, nous effectuon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e coupure imaginai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ans un plan perpendiculaire à la ligne moyenne. Elle sépare la poutre en deux tronçons E1 et E2, tel que E=E1+E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828800" y="2819520"/>
          <a:ext cx="4952880" cy="32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819520"/>
                    <a:ext cx="495288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3790800" y="301932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952720" y="3324240"/>
            <a:ext cx="60984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0" y="978"/>
                </a:moveTo>
                <a:arcTo wR="10800" hR="10800" stAng="-6873976" swAng="10240420"/>
                <a:lnTo>
                  <a:pt x="10800" y="10800"/>
                </a:lnTo>
                <a:close/>
              </a:path>
              <a:path fill="none" w="21600" h="21600">
                <a:moveTo>
                  <a:pt x="6310" y="978"/>
                </a:moveTo>
                <a:arcTo wR="10800" hR="10800" stAng="-6873976" swAng="1024042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86280" y="38480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24880" y="4795200"/>
            <a:ext cx="753480" cy="74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11" y="4555"/>
                </a:moveTo>
                <a:arcTo wR="10800" hR="10800" stAng="-2119778" swAng="9505025"/>
                <a:lnTo>
                  <a:pt x="10800" y="10800"/>
                </a:lnTo>
                <a:close/>
              </a:path>
              <a:path fill="none" w="21600" h="21600">
                <a:moveTo>
                  <a:pt x="19611" y="4555"/>
                </a:moveTo>
                <a:arcTo wR="10800" hR="10800" stAng="-2119778" swAng="9505025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6553080" y="4885920"/>
            <a:ext cx="8568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638680" y="5105520"/>
            <a:ext cx="3812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143000" y="304920"/>
          <a:ext cx="779004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7790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447920" y="3048120"/>
            <a:ext cx="67816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olons le tronçon E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s actions mécaniques que le tronçon E2 exerce sur le tronçon E1 à travers la section droite S sont des actions mécaniques intérieures à la poutre 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us en ignorons à priori la nature, cependant la liaison entre E1 et E2 peut être modélisée par une liaison complète.  On peut donc modéliser l’action mécanique E2 sur E1 par un torseur appelé 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orseur de cohésion 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vec G sur la ligne moyenne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514600" y="5562720"/>
                <a:ext cx="40384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(</m:t>
                                      </m:r>
                                      <m:r>
                                        <m:t xml:space="preserve">E</m:t>
                                      </m:r>
                                      <m:r>
                                        <m:t xml:space="preserve">2</m:t>
                                      </m:r>
                                      <m:r>
                                        <m:t xml:space="preserve">→</m:t>
                                      </m:r>
                                      <m:r>
                                        <m:t xml:space="preserve">E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e>
                              </m:acc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2</m:t>
                              </m:r>
                              <m:r>
                                <m:t xml:space="preserve">→</m:t>
                              </m:r>
                              <m:r>
                                <m:t xml:space="preserve">E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(</m:t>
                                      </m:r>
                                      <m:r>
                                        <m:t xml:space="preserve">E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→</m:t>
                                      </m:r>
                                      <m:r>
                                        <m:t xml:space="preserve">E</m:t>
                                      </m:r>
                                      <m:r>
                                        <m:t xml:space="preserve">2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e>
                              </m:acc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1</m:t>
                              </m:r>
                              <m:r>
                                <m:t xml:space="preserve">→</m:t>
                              </m:r>
                              <m:r>
                                <m:t xml:space="preserve">E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809880" y="1522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971800" y="457200"/>
            <a:ext cx="60912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0" y="978"/>
                </a:moveTo>
                <a:arcTo wR="10800" hR="10800" stAng="-6873976" swAng="10240420"/>
                <a:lnTo>
                  <a:pt x="10800" y="10800"/>
                </a:lnTo>
                <a:close/>
              </a:path>
              <a:path fill="none" w="21600" h="21600">
                <a:moveTo>
                  <a:pt x="6310" y="978"/>
                </a:moveTo>
                <a:arcTo wR="10800" hR="10800" stAng="-6873976" swAng="1024042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05000" y="981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67680" y="833040"/>
            <a:ext cx="753480" cy="74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11" y="4555"/>
                </a:moveTo>
                <a:arcTo wR="10800" hR="10800" stAng="-2119778" swAng="9505025"/>
                <a:lnTo>
                  <a:pt x="10800" y="10800"/>
                </a:lnTo>
                <a:close/>
              </a:path>
              <a:path fill="none" w="21600" h="21600">
                <a:moveTo>
                  <a:pt x="19611" y="4555"/>
                </a:moveTo>
                <a:arcTo wR="10800" hR="10800" stAng="-2119778" swAng="9505025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095880" y="923400"/>
            <a:ext cx="8568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181480" y="1143000"/>
            <a:ext cx="3812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16002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990720" y="1905120"/>
            <a:ext cx="609120" cy="60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0" y="978"/>
                </a:moveTo>
                <a:arcTo wR="10800" hR="10800" stAng="-6873976" swAng="10240420"/>
                <a:lnTo>
                  <a:pt x="10800" y="10800"/>
                </a:lnTo>
                <a:close/>
              </a:path>
              <a:path fill="none" w="21600" h="21600">
                <a:moveTo>
                  <a:pt x="6310" y="978"/>
                </a:moveTo>
                <a:arcTo wR="10800" hR="10800" stAng="-6873976" swAng="1024042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23920" y="242892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82280" y="2128320"/>
            <a:ext cx="753480" cy="74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11" y="4555"/>
                </a:moveTo>
                <a:arcTo wR="10800" hR="10800" stAng="-2119778" swAng="9505025"/>
                <a:lnTo>
                  <a:pt x="10800" y="10800"/>
                </a:lnTo>
                <a:close/>
              </a:path>
              <a:path fill="none" w="21600" h="21600">
                <a:moveTo>
                  <a:pt x="19611" y="4555"/>
                </a:moveTo>
                <a:arcTo wR="10800" hR="10800" stAng="-2119778" swAng="9505025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610480" y="2219400"/>
            <a:ext cx="8568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96080" y="2438280"/>
            <a:ext cx="3812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52680" y="214308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0360" y="7142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95960" y="69516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91640" y="200988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76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19320" y="60948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e faire, deux méthodes sont envisage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143000" y="1825560"/>
                <a:ext cx="35812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1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E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346040" y="2743200"/>
                <a:ext cx="42786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E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(</m:t>
                                      </m:r>
                                      <m:bar>
                                        <m:barPr>
                                          <m:pos m:val="top"/>
                                        </m:bar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bar>
                                      <m:r>
                                        <m:t xml:space="preserve">→</m:t>
                                      </m:r>
                                      <m:r>
                                        <m:t xml:space="preserve">E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e>
                              </m:acc>
                              <m:r>
                                <m:t xml:space="preserve">(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E</m:t>
                                  </m:r>
                                </m:e>
                              </m:bar>
                              <m:r>
                                <m:t xml:space="preserve">→</m:t>
                              </m:r>
                              <m:r>
                                <m:t xml:space="preserve">E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219320" y="4495680"/>
                <a:ext cx="37335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2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E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295280" y="5486400"/>
                <a:ext cx="44848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E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(</m:t>
                                      </m:r>
                                      <m:bar>
                                        <m:barPr>
                                          <m:pos m:val="top"/>
                                        </m:bar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bar>
                                      <m:r>
                                        <m:t xml:space="preserve">→</m:t>
                                      </m:r>
                                      <m:r>
                                        <m:t xml:space="preserve">E</m:t>
                                      </m:r>
                                      <m:r>
                                        <m:t xml:space="preserve">2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e>
                              </m:acc>
                              <m:r>
                                <m:t xml:space="preserve">(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E</m:t>
                                  </m:r>
                                </m:e>
                              </m:bar>
                              <m:r>
                                <m:t xml:space="preserve">→</m:t>
                              </m:r>
                              <m:r>
                                <m:t xml:space="preserve">E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176120" y="990720"/>
            <a:ext cx="346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Gothic"/>
              </a:rPr>
              <a:t>Isolement du tronçon Gauche 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8840" y="1523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quons le PFS au tronçon E1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8480" y="22860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’o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14920" y="3657600"/>
            <a:ext cx="32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Gothic"/>
              </a:rPr>
              <a:t>Isolement du tronçon Droit 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64240" y="414324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quons le PFS au tronçon E2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73240" y="52578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’o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93400" y="152280"/>
            <a:ext cx="47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III-2 Détermination du torseur de cohé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324480" y="1752480"/>
          <a:ext cx="179100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752480"/>
                    <a:ext cx="179100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7086600" y="1828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918920" y="2133720"/>
            <a:ext cx="54072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74" y="4301"/>
                </a:moveTo>
                <a:arcTo wR="10800" hR="10800" stAng="-8580174" swAng="7867615"/>
                <a:lnTo>
                  <a:pt x="10800" y="10800"/>
                </a:lnTo>
                <a:close/>
              </a:path>
              <a:path fill="none" w="21600" h="21600">
                <a:moveTo>
                  <a:pt x="2174" y="4301"/>
                </a:moveTo>
                <a:arcTo wR="10800" hR="10800" stAng="-8580174" swAng="78676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20000" y="2357280"/>
            <a:ext cx="1440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53080" y="1447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166800" y="1828800"/>
            <a:ext cx="454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74" y="4301"/>
                </a:moveTo>
                <a:arcTo wR="10800" hR="10800" stAng="-8580174" swAng="7867615"/>
                <a:lnTo>
                  <a:pt x="10800" y="10800"/>
                </a:lnTo>
                <a:close/>
              </a:path>
              <a:path fill="none" w="21600" h="21600">
                <a:moveTo>
                  <a:pt x="2174" y="4301"/>
                </a:moveTo>
                <a:arcTo wR="10800" hR="10800" stAng="-8580174" swAng="78676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66040" y="1949400"/>
            <a:ext cx="4752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7848360" y="26665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562720" y="1447920"/>
                <a:ext cx="8380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acc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77724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7724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72240" y="2143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629400" y="1143000"/>
                <a:ext cx="7621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E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8105760" y="2333520"/>
                <a:ext cx="849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8001000" y="1752480"/>
                <a:ext cx="895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acc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2</m:t>
                    </m:r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3" name=""/>
          <p:cNvGraphicFramePr/>
          <p:nvPr/>
        </p:nvGraphicFramePr>
        <p:xfrm>
          <a:off x="6400800" y="4495680"/>
          <a:ext cx="1828800" cy="14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4495680"/>
                    <a:ext cx="182880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 flipH="1">
            <a:off x="7924320" y="4495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995600" y="4876920"/>
            <a:ext cx="4546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74" y="4301"/>
                </a:moveTo>
                <a:arcTo wR="10800" hR="10800" stAng="-8580174" swAng="7867615"/>
                <a:lnTo>
                  <a:pt x="10800" y="10800"/>
                </a:lnTo>
                <a:close/>
              </a:path>
              <a:path fill="none" w="21600" h="21600">
                <a:moveTo>
                  <a:pt x="2174" y="4301"/>
                </a:moveTo>
                <a:arcTo wR="10800" hR="10800" stAng="-8580174" swAng="78676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005680" y="508644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8305920" y="4572000"/>
                <a:ext cx="8380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acc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8077320" y="4038480"/>
                <a:ext cx="761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E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6676920" y="517212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676920" y="517212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7712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090120" y="4724280"/>
            <a:ext cx="5407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74" y="4301"/>
                </a:moveTo>
                <a:arcTo wR="10800" hR="10800" stAng="-8580174" swAng="7867615"/>
                <a:lnTo>
                  <a:pt x="10800" y="10800"/>
                </a:lnTo>
                <a:close/>
              </a:path>
              <a:path fill="none" w="21600" h="21600">
                <a:moveTo>
                  <a:pt x="2174" y="4301"/>
                </a:moveTo>
                <a:arcTo wR="10800" hR="10800" stAng="-8580174" swAng="78676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72160" y="4834080"/>
            <a:ext cx="572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5181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49840" y="4800600"/>
                <a:ext cx="827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724360" y="4343400"/>
                <a:ext cx="8766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acc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1</m:t>
                    </m:r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7162920" y="4648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30400" y="38088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III-3 Composantes du torseur de cohé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523880" y="1523880"/>
          <a:ext cx="320040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3200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1523880" y="3733920"/>
            <a:ext cx="30481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ffort norma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projection de R sur la normale extérieure (x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1" lang="fr-FR" sz="1600" spc="-1" strike="noStrike">
                <a:solidFill>
                  <a:srgbClr val="0000ff"/>
                </a:solidFill>
                <a:latin typeface="Times New Roman"/>
              </a:rPr>
              <a:t>Ty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1" lang="fr-FR" sz="1600" spc="-1" strike="noStrike">
                <a:solidFill>
                  <a:srgbClr val="0000ff"/>
                </a:solidFill>
                <a:latin typeface="Times New Roman"/>
              </a:rPr>
              <a:t>Tz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fforts tranchant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projections de R sur le plan de section dro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838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-Les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838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-Les mo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715000" y="1371600"/>
          <a:ext cx="3429000" cy="21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371600"/>
                    <a:ext cx="342900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4952880" y="3733920"/>
            <a:ext cx="3886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1" lang="fr-FR" sz="1600" spc="-1" strike="noStrike">
                <a:solidFill>
                  <a:srgbClr val="0000ff"/>
                </a:solidFill>
                <a:latin typeface="Times New Roman"/>
              </a:rPr>
              <a:t>Mt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oment de tors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projection du moment sur la normale extérie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Mfy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Mfz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oments de flex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projection du moment sur le plan de section dro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833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447920" y="5334120"/>
                <a:ext cx="20574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N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y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z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733920" y="5486400"/>
                <a:ext cx="5257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: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ffor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ormal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u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: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ffor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ranchan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u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: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ffor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ranchan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u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: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men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orsio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u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y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: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men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lexio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u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z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: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men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lexio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u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onin ARTAUD</cp:lastModifiedBy>
  <dcterms:modified xsi:type="dcterms:W3CDTF">2015-08-24T15:50:17Z</dcterms:modified>
  <cp:revision>17</cp:revision>
  <dc:subject/>
  <dc:title>Résistance des matériaux</dc:title>
</cp:coreProperties>
</file>